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gif" ContentType="image/gif"/>
  <Override PartName="/ppt/media/image13.png" ContentType="image/png"/>
  <Override PartName="/ppt/media/image9.png" ContentType="image/png"/>
  <Override PartName="/ppt/media/image8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6.wmf" ContentType="image/x-wmf"/>
  <Override PartName="/ppt/media/image15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gif" ContentType="image/gif"/>
  <Override PartName="/ppt/media/image6.jpeg" ContentType="image/jpeg"/>
  <Override PartName="/ppt/media/image5.jpeg" ContentType="image/jpeg"/>
  <Override PartName="/ppt/media/image14.png" ContentType="image/png"/>
  <Override PartName="/ppt/media/image11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7086-83EA-49B8-9AC9-499DDE53F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BBD5-7BD3-4E7C-92BB-B573F12E4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0AC1-2FC9-4F20-9437-9031383C6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D037-4CFE-49F0-B664-37ADE87D4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A1E9-9C59-44D7-B39F-5FD6CF072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6367-E433-4FD8-9BCE-AA6407D64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F58F-D67B-49D6-B8E9-CD695B508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1E5B-9ABE-4546-B666-1A63AF011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119E-C57E-4AB2-82BA-1661C5E9C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9EA1-FB68-480E-AA79-BB887B5B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A9CA-06F8-40FF-B980-0C285BD7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C31A-D894-4607-B331-985B3696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17E0B-084A-4959-916B-2127A21AEF6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21257400">
            <a:off x="3635280" y="529704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Times New Roman"/>
                <a:ea typeface="华文行楷"/>
              </a:rPr>
              <a:t>创作者</a:t>
            </a:r>
            <a:r>
              <a:rPr b="0" lang="zh-CN" sz="4000" spc="-1" strike="noStrike">
                <a:solidFill>
                  <a:srgbClr val="3366ff"/>
                </a:solidFill>
                <a:latin typeface="Times New Roman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rot="21409200">
            <a:off x="5724000" y="4436640"/>
            <a:ext cx="173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 Black"/>
                <a:ea typeface="华文行楷"/>
              </a:rPr>
              <a:t>毕胜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 rot="20542200">
            <a:off x="2050920" y="981000"/>
            <a:ext cx="61722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Welcome to our class !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" name=""/>
          <p:cNvSpPr/>
          <p:nvPr/>
        </p:nvSpPr>
        <p:spPr>
          <a:xfrm rot="1506600">
            <a:off x="931680" y="4776840"/>
            <a:ext cx="210960" cy="3286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rot="2050200">
            <a:off x="1371600" y="3398760"/>
            <a:ext cx="500040" cy="792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20875800">
            <a:off x="1733040" y="546120"/>
            <a:ext cx="7439040" cy="28749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867200">
            <a:off x="1143000" y="4191120"/>
            <a:ext cx="228600" cy="457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042920" y="5894280"/>
            <a:ext cx="73080" cy="73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0" y="4581360"/>
            <a:ext cx="125892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7925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1187280" y="1413000"/>
            <a:ext cx="6480360" cy="4537080"/>
            <a:chOff x="1187280" y="1413000"/>
            <a:chExt cx="6480360" cy="4537080"/>
          </a:xfrm>
        </p:grpSpPr>
        <p:sp>
          <p:nvSpPr>
            <p:cNvPr id="110" name=""/>
            <p:cNvSpPr/>
            <p:nvPr/>
          </p:nvSpPr>
          <p:spPr>
            <a:xfrm>
              <a:off x="1187280" y="1413000"/>
              <a:ext cx="6480360" cy="4537080"/>
            </a:xfrm>
            <a:prstGeom prst="irregularSeal1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2627280" y="2924280"/>
              <a:ext cx="3816360" cy="120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隶书"/>
                </a:rPr>
                <a:t>Salt Lake Desert</a:t>
              </a:r>
              <a:endPara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  <a:ea typeface="隶书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0" y="0"/>
            <a:ext cx="4356000" cy="2951280"/>
            <a:chOff x="0" y="0"/>
            <a:chExt cx="4356000" cy="295128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4356000" cy="2951280"/>
            </a:xfrm>
            <a:prstGeom prst="cloudCallout">
              <a:avLst>
                <a:gd name="adj1" fmla="val 6634"/>
                <a:gd name="adj2" fmla="val 69097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 txBox="1"/>
            <p:nvPr/>
          </p:nvSpPr>
          <p:spPr>
            <a:xfrm>
              <a:off x="684360" y="1506600"/>
              <a:ext cx="276228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华文新魏"/>
                </a:rPr>
                <a:t>Lost their way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  <a:ea typeface="华文新魏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564000" y="4581360"/>
            <a:ext cx="5400720" cy="2159280"/>
            <a:chOff x="3564000" y="4581360"/>
            <a:chExt cx="5400720" cy="2159280"/>
          </a:xfrm>
        </p:grpSpPr>
        <p:sp>
          <p:nvSpPr>
            <p:cNvPr id="116" name=""/>
            <p:cNvSpPr/>
            <p:nvPr/>
          </p:nvSpPr>
          <p:spPr>
            <a:xfrm>
              <a:off x="3672000" y="4581360"/>
              <a:ext cx="5292720" cy="2159280"/>
            </a:xfrm>
            <a:prstGeom prst="wedgeRoundRectCallout">
              <a:avLst>
                <a:gd name="adj1" fmla="val -35032"/>
                <a:gd name="adj2" fmla="val 93115"/>
                <a:gd name="adj3" fmla="val 16667"/>
              </a:avLst>
            </a:prstGeom>
            <a:blipFill rotWithShape="0">
              <a:blip r:embed="rId3"/>
              <a:srcRect/>
              <a:stretch/>
            </a:blipFill>
            <a:ln cap="rnd" w="9360">
              <a:solidFill>
                <a:srgbClr val="ffcc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 txBox="1"/>
            <p:nvPr/>
          </p:nvSpPr>
          <p:spPr>
            <a:xfrm>
              <a:off x="3564000" y="5168880"/>
              <a:ext cx="5400720" cy="124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华文新魏"/>
                </a:rPr>
                <a:t> </a:t>
              </a: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华文新魏"/>
                </a:rPr>
                <a:t>without water ,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  <a:ea typeface="华文新魏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华文新魏"/>
                </a:rPr>
                <a:t> </a:t>
              </a: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华文新魏"/>
                </a:rPr>
                <a:t>grass for animal 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  <a:ea typeface="华文新魏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华文新魏"/>
                </a:rPr>
                <a:t> </a:t>
              </a: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华文新魏"/>
                </a:rPr>
                <a:t>dry and barren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  <a:ea typeface="华文新魏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2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1042920" y="0"/>
            <a:ext cx="6480360" cy="4537080"/>
            <a:chOff x="1042920" y="0"/>
            <a:chExt cx="6480360" cy="4537080"/>
          </a:xfrm>
        </p:grpSpPr>
        <p:sp>
          <p:nvSpPr>
            <p:cNvPr id="119" name=""/>
            <p:cNvSpPr/>
            <p:nvPr/>
          </p:nvSpPr>
          <p:spPr>
            <a:xfrm>
              <a:off x="1042920" y="0"/>
              <a:ext cx="6480360" cy="4537080"/>
            </a:xfrm>
            <a:prstGeom prst="irregularSeal1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>
              <a:off x="2772000" y="1655640"/>
              <a:ext cx="285732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隶书"/>
                </a:rPr>
                <a:t>Death Valley</a:t>
              </a:r>
              <a:endPara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  <a:ea typeface="隶书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826920" y="3429000"/>
            <a:ext cx="7200720" cy="3095280"/>
            <a:chOff x="826920" y="3429000"/>
            <a:chExt cx="7200720" cy="3095280"/>
          </a:xfrm>
        </p:grpSpPr>
        <p:sp>
          <p:nvSpPr>
            <p:cNvPr id="122" name=""/>
            <p:cNvSpPr/>
            <p:nvPr/>
          </p:nvSpPr>
          <p:spPr>
            <a:xfrm>
              <a:off x="826920" y="3429000"/>
              <a:ext cx="7200720" cy="3095280"/>
            </a:xfrm>
            <a:prstGeom prst="wedgeRoundRectCallout">
              <a:avLst>
                <a:gd name="adj1" fmla="val -28893"/>
                <a:gd name="adj2" fmla="val 41583"/>
                <a:gd name="adj3" fmla="val 16667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1535400" y="3917880"/>
              <a:ext cx="5806800" cy="2069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Dead animals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Abandoned things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Such as …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6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26920" y="2349360"/>
            <a:ext cx="748836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What can you learn from the text?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11280" y="1484280"/>
            <a:ext cx="647640" cy="593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8028000" y="58770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2411280" y="1197000"/>
            <a:ext cx="360072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skimming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-36360" y="44280"/>
            <a:ext cx="9396360" cy="6885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003640" y="3068640"/>
            <a:ext cx="432000" cy="433440"/>
          </a:xfrm>
          <a:prstGeom prst="smileyFace">
            <a:avLst>
              <a:gd name="adj" fmla="val 9282"/>
            </a:avLst>
          </a:prstGeom>
          <a:solidFill>
            <a:srgbClr val="ff0000">
              <a:alpha val="22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20961600">
            <a:off x="1547280" y="188640"/>
            <a:ext cx="1738440" cy="4248000"/>
          </a:xfrm>
          <a:custGeom>
            <a:avLst/>
            <a:gdLst/>
            <a:ahLst/>
            <a:rect l="l" t="t" r="r" b="b"/>
            <a:pathLst>
              <a:path w="1095" h="2660">
                <a:moveTo>
                  <a:pt x="45" y="30"/>
                </a:moveTo>
                <a:cubicBezTo>
                  <a:pt x="0" y="60"/>
                  <a:pt x="83" y="211"/>
                  <a:pt x="91" y="302"/>
                </a:cubicBezTo>
                <a:cubicBezTo>
                  <a:pt x="99" y="393"/>
                  <a:pt x="68" y="514"/>
                  <a:pt x="91" y="574"/>
                </a:cubicBezTo>
                <a:cubicBezTo>
                  <a:pt x="114" y="634"/>
                  <a:pt x="182" y="650"/>
                  <a:pt x="227" y="665"/>
                </a:cubicBezTo>
                <a:cubicBezTo>
                  <a:pt x="272" y="680"/>
                  <a:pt x="333" y="635"/>
                  <a:pt x="363" y="665"/>
                </a:cubicBezTo>
                <a:cubicBezTo>
                  <a:pt x="393" y="695"/>
                  <a:pt x="401" y="763"/>
                  <a:pt x="408" y="846"/>
                </a:cubicBezTo>
                <a:cubicBezTo>
                  <a:pt x="415" y="929"/>
                  <a:pt x="401" y="1088"/>
                  <a:pt x="408" y="1164"/>
                </a:cubicBezTo>
                <a:cubicBezTo>
                  <a:pt x="415" y="1240"/>
                  <a:pt x="400" y="1262"/>
                  <a:pt x="453" y="1300"/>
                </a:cubicBezTo>
                <a:cubicBezTo>
                  <a:pt x="506" y="1338"/>
                  <a:pt x="673" y="1330"/>
                  <a:pt x="726" y="1390"/>
                </a:cubicBezTo>
                <a:cubicBezTo>
                  <a:pt x="779" y="1450"/>
                  <a:pt x="756" y="1602"/>
                  <a:pt x="771" y="1662"/>
                </a:cubicBezTo>
                <a:cubicBezTo>
                  <a:pt x="786" y="1722"/>
                  <a:pt x="816" y="1708"/>
                  <a:pt x="816" y="1753"/>
                </a:cubicBezTo>
                <a:cubicBezTo>
                  <a:pt x="816" y="1798"/>
                  <a:pt x="786" y="1867"/>
                  <a:pt x="771" y="1935"/>
                </a:cubicBezTo>
                <a:cubicBezTo>
                  <a:pt x="756" y="2003"/>
                  <a:pt x="711" y="2101"/>
                  <a:pt x="726" y="2161"/>
                </a:cubicBezTo>
                <a:cubicBezTo>
                  <a:pt x="741" y="2221"/>
                  <a:pt x="809" y="2215"/>
                  <a:pt x="862" y="2298"/>
                </a:cubicBezTo>
                <a:cubicBezTo>
                  <a:pt x="915" y="2381"/>
                  <a:pt x="1005" y="2660"/>
                  <a:pt x="1043" y="2660"/>
                </a:cubicBezTo>
                <a:cubicBezTo>
                  <a:pt x="1081" y="2660"/>
                  <a:pt x="1088" y="2449"/>
                  <a:pt x="1088" y="2298"/>
                </a:cubicBezTo>
                <a:cubicBezTo>
                  <a:pt x="1088" y="2147"/>
                  <a:pt x="1043" y="1897"/>
                  <a:pt x="1043" y="1753"/>
                </a:cubicBezTo>
                <a:cubicBezTo>
                  <a:pt x="1043" y="1609"/>
                  <a:pt x="1095" y="1519"/>
                  <a:pt x="1088" y="1436"/>
                </a:cubicBezTo>
                <a:cubicBezTo>
                  <a:pt x="1081" y="1353"/>
                  <a:pt x="1028" y="1322"/>
                  <a:pt x="998" y="1254"/>
                </a:cubicBezTo>
                <a:cubicBezTo>
                  <a:pt x="968" y="1186"/>
                  <a:pt x="952" y="1102"/>
                  <a:pt x="907" y="1027"/>
                </a:cubicBezTo>
                <a:cubicBezTo>
                  <a:pt x="862" y="952"/>
                  <a:pt x="771" y="899"/>
                  <a:pt x="726" y="801"/>
                </a:cubicBezTo>
                <a:cubicBezTo>
                  <a:pt x="681" y="703"/>
                  <a:pt x="688" y="544"/>
                  <a:pt x="635" y="438"/>
                </a:cubicBezTo>
                <a:cubicBezTo>
                  <a:pt x="582" y="332"/>
                  <a:pt x="453" y="219"/>
                  <a:pt x="408" y="166"/>
                </a:cubicBezTo>
                <a:cubicBezTo>
                  <a:pt x="363" y="113"/>
                  <a:pt x="416" y="143"/>
                  <a:pt x="363" y="120"/>
                </a:cubicBezTo>
                <a:cubicBezTo>
                  <a:pt x="310" y="97"/>
                  <a:pt x="90" y="0"/>
                  <a:pt x="45" y="30"/>
                </a:cubicBezTo>
                <a:close/>
              </a:path>
            </a:pathLst>
          </a:custGeom>
          <a:solidFill>
            <a:srgbClr val="ffcc0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183200">
            <a:off x="4565160" y="3141360"/>
            <a:ext cx="432000" cy="73080"/>
          </a:xfrm>
          <a:prstGeom prst="leftArrow">
            <a:avLst>
              <a:gd name="adj1" fmla="val 50000"/>
              <a:gd name="adj2" fmla="val 1477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183200">
            <a:off x="4066920" y="2924280"/>
            <a:ext cx="431640" cy="73080"/>
          </a:xfrm>
          <a:prstGeom prst="leftArrow">
            <a:avLst>
              <a:gd name="adj1" fmla="val 50000"/>
              <a:gd name="adj2" fmla="val 14766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735600">
            <a:off x="3634920" y="2779560"/>
            <a:ext cx="432000" cy="73080"/>
          </a:xfrm>
          <a:prstGeom prst="leftArrow">
            <a:avLst>
              <a:gd name="adj1" fmla="val 50000"/>
              <a:gd name="adj2" fmla="val 1477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20108400">
            <a:off x="2271960" y="187560"/>
            <a:ext cx="789840" cy="38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Rocky  mount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9578000">
            <a:off x="1304640" y="2565000"/>
            <a:ext cx="819000" cy="936720"/>
          </a:xfrm>
          <a:custGeom>
            <a:avLst/>
            <a:gdLst/>
            <a:ahLst/>
            <a:rect l="l" t="t" r="r" b="b"/>
            <a:pathLst>
              <a:path w="380" h="428">
                <a:moveTo>
                  <a:pt x="11" y="31"/>
                </a:moveTo>
                <a:cubicBezTo>
                  <a:pt x="31" y="129"/>
                  <a:pt x="38" y="164"/>
                  <a:pt x="95" y="240"/>
                </a:cubicBezTo>
                <a:cubicBezTo>
                  <a:pt x="102" y="250"/>
                  <a:pt x="140" y="312"/>
                  <a:pt x="147" y="314"/>
                </a:cubicBezTo>
                <a:cubicBezTo>
                  <a:pt x="198" y="328"/>
                  <a:pt x="252" y="321"/>
                  <a:pt x="304" y="324"/>
                </a:cubicBezTo>
                <a:cubicBezTo>
                  <a:pt x="315" y="331"/>
                  <a:pt x="328" y="335"/>
                  <a:pt x="336" y="345"/>
                </a:cubicBezTo>
                <a:cubicBezTo>
                  <a:pt x="350" y="361"/>
                  <a:pt x="371" y="428"/>
                  <a:pt x="346" y="355"/>
                </a:cubicBezTo>
                <a:cubicBezTo>
                  <a:pt x="350" y="320"/>
                  <a:pt x="349" y="285"/>
                  <a:pt x="357" y="251"/>
                </a:cubicBezTo>
                <a:cubicBezTo>
                  <a:pt x="360" y="239"/>
                  <a:pt x="380" y="231"/>
                  <a:pt x="377" y="219"/>
                </a:cubicBezTo>
                <a:cubicBezTo>
                  <a:pt x="374" y="208"/>
                  <a:pt x="356" y="212"/>
                  <a:pt x="346" y="209"/>
                </a:cubicBezTo>
                <a:cubicBezTo>
                  <a:pt x="312" y="157"/>
                  <a:pt x="259" y="86"/>
                  <a:pt x="199" y="62"/>
                </a:cubicBezTo>
                <a:cubicBezTo>
                  <a:pt x="160" y="46"/>
                  <a:pt x="105" y="44"/>
                  <a:pt x="63" y="31"/>
                </a:cubicBezTo>
                <a:cubicBezTo>
                  <a:pt x="53" y="24"/>
                  <a:pt x="40" y="0"/>
                  <a:pt x="32" y="10"/>
                </a:cubicBezTo>
                <a:cubicBezTo>
                  <a:pt x="14" y="32"/>
                  <a:pt x="19" y="66"/>
                  <a:pt x="11" y="94"/>
                </a:cubicBezTo>
                <a:cubicBezTo>
                  <a:pt x="8" y="105"/>
                  <a:pt x="0" y="125"/>
                  <a:pt x="0" y="125"/>
                </a:cubicBez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735600">
            <a:off x="3203280" y="2636640"/>
            <a:ext cx="431640" cy="72720"/>
          </a:xfrm>
          <a:prstGeom prst="leftArrow">
            <a:avLst>
              <a:gd name="adj1" fmla="val 50000"/>
              <a:gd name="adj2" fmla="val 14839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735600">
            <a:off x="2771280" y="2563920"/>
            <a:ext cx="432000" cy="73080"/>
          </a:xfrm>
          <a:prstGeom prst="leftArrow">
            <a:avLst>
              <a:gd name="adj1" fmla="val 50000"/>
              <a:gd name="adj2" fmla="val 1477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20581200">
            <a:off x="2268360" y="2565360"/>
            <a:ext cx="432000" cy="73080"/>
          </a:xfrm>
          <a:prstGeom prst="leftArrow">
            <a:avLst>
              <a:gd name="adj1" fmla="val 50000"/>
              <a:gd name="adj2" fmla="val 1477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20676600">
            <a:off x="1763640" y="2852640"/>
            <a:ext cx="432000" cy="73080"/>
          </a:xfrm>
          <a:prstGeom prst="leftArrow">
            <a:avLst>
              <a:gd name="adj1" fmla="val 50000"/>
              <a:gd name="adj2" fmla="val 1477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68360" y="2708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19578000">
            <a:off x="2556000" y="2492280"/>
            <a:ext cx="287280" cy="576360"/>
          </a:xfrm>
          <a:custGeom>
            <a:avLst/>
            <a:gdLst/>
            <a:ahLst/>
            <a:rect l="l" t="t" r="r" b="b"/>
            <a:pathLst>
              <a:path w="380" h="428">
                <a:moveTo>
                  <a:pt x="11" y="31"/>
                </a:moveTo>
                <a:cubicBezTo>
                  <a:pt x="31" y="129"/>
                  <a:pt x="38" y="164"/>
                  <a:pt x="95" y="240"/>
                </a:cubicBezTo>
                <a:cubicBezTo>
                  <a:pt x="102" y="250"/>
                  <a:pt x="140" y="312"/>
                  <a:pt x="147" y="314"/>
                </a:cubicBezTo>
                <a:cubicBezTo>
                  <a:pt x="198" y="328"/>
                  <a:pt x="252" y="321"/>
                  <a:pt x="304" y="324"/>
                </a:cubicBezTo>
                <a:cubicBezTo>
                  <a:pt x="315" y="331"/>
                  <a:pt x="328" y="335"/>
                  <a:pt x="336" y="345"/>
                </a:cubicBezTo>
                <a:cubicBezTo>
                  <a:pt x="350" y="361"/>
                  <a:pt x="371" y="428"/>
                  <a:pt x="346" y="355"/>
                </a:cubicBezTo>
                <a:cubicBezTo>
                  <a:pt x="350" y="320"/>
                  <a:pt x="349" y="285"/>
                  <a:pt x="357" y="251"/>
                </a:cubicBezTo>
                <a:cubicBezTo>
                  <a:pt x="360" y="239"/>
                  <a:pt x="380" y="231"/>
                  <a:pt x="377" y="219"/>
                </a:cubicBezTo>
                <a:cubicBezTo>
                  <a:pt x="374" y="208"/>
                  <a:pt x="356" y="212"/>
                  <a:pt x="346" y="209"/>
                </a:cubicBezTo>
                <a:cubicBezTo>
                  <a:pt x="312" y="157"/>
                  <a:pt x="259" y="86"/>
                  <a:pt x="199" y="62"/>
                </a:cubicBezTo>
                <a:cubicBezTo>
                  <a:pt x="160" y="46"/>
                  <a:pt x="105" y="44"/>
                  <a:pt x="63" y="31"/>
                </a:cubicBezTo>
                <a:cubicBezTo>
                  <a:pt x="53" y="24"/>
                  <a:pt x="40" y="0"/>
                  <a:pt x="32" y="10"/>
                </a:cubicBezTo>
                <a:cubicBezTo>
                  <a:pt x="14" y="32"/>
                  <a:pt x="19" y="66"/>
                  <a:pt x="11" y="94"/>
                </a:cubicBezTo>
                <a:cubicBezTo>
                  <a:pt x="8" y="105"/>
                  <a:pt x="0" y="125"/>
                  <a:pt x="0" y="125"/>
                </a:cubicBez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50920" y="270828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he Salt Lake Vall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19941000">
            <a:off x="1332000" y="2995560"/>
            <a:ext cx="431640" cy="73080"/>
          </a:xfrm>
          <a:prstGeom prst="leftArrow">
            <a:avLst>
              <a:gd name="adj1" fmla="val 50000"/>
              <a:gd name="adj2" fmla="val 14766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19478400">
            <a:off x="971640" y="3284280"/>
            <a:ext cx="431640" cy="73080"/>
          </a:xfrm>
          <a:prstGeom prst="leftArrow">
            <a:avLst>
              <a:gd name="adj1" fmla="val 50000"/>
              <a:gd name="adj2" fmla="val 14766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4360" y="3284640"/>
            <a:ext cx="442800" cy="649080"/>
          </a:xfrm>
          <a:custGeom>
            <a:avLst/>
            <a:gdLst/>
            <a:ahLst/>
            <a:rect l="l" t="t" r="r" b="b"/>
            <a:pathLst>
              <a:path w="332" h="378">
                <a:moveTo>
                  <a:pt x="98" y="15"/>
                </a:moveTo>
                <a:cubicBezTo>
                  <a:pt x="128" y="22"/>
                  <a:pt x="166" y="45"/>
                  <a:pt x="189" y="60"/>
                </a:cubicBezTo>
                <a:cubicBezTo>
                  <a:pt x="212" y="75"/>
                  <a:pt x="211" y="75"/>
                  <a:pt x="234" y="105"/>
                </a:cubicBezTo>
                <a:cubicBezTo>
                  <a:pt x="257" y="135"/>
                  <a:pt x="318" y="196"/>
                  <a:pt x="325" y="241"/>
                </a:cubicBezTo>
                <a:cubicBezTo>
                  <a:pt x="332" y="286"/>
                  <a:pt x="294" y="378"/>
                  <a:pt x="279" y="378"/>
                </a:cubicBezTo>
                <a:cubicBezTo>
                  <a:pt x="264" y="378"/>
                  <a:pt x="264" y="271"/>
                  <a:pt x="234" y="241"/>
                </a:cubicBezTo>
                <a:cubicBezTo>
                  <a:pt x="204" y="211"/>
                  <a:pt x="128" y="219"/>
                  <a:pt x="98" y="196"/>
                </a:cubicBezTo>
                <a:cubicBezTo>
                  <a:pt x="68" y="173"/>
                  <a:pt x="68" y="135"/>
                  <a:pt x="53" y="105"/>
                </a:cubicBezTo>
                <a:cubicBezTo>
                  <a:pt x="38" y="75"/>
                  <a:pt x="0" y="30"/>
                  <a:pt x="7" y="15"/>
                </a:cubicBezTo>
                <a:cubicBezTo>
                  <a:pt x="14" y="0"/>
                  <a:pt x="68" y="8"/>
                  <a:pt x="98" y="15"/>
                </a:cubicBezTo>
                <a:close/>
              </a:path>
            </a:pathLst>
          </a:custGeom>
          <a:solidFill>
            <a:srgbClr val="00000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42920" y="3357720"/>
            <a:ext cx="12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eath Vall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 rot="19478400">
            <a:off x="743040" y="3532320"/>
            <a:ext cx="309600" cy="139320"/>
          </a:xfrm>
          <a:prstGeom prst="leftArrow">
            <a:avLst>
              <a:gd name="adj1" fmla="val 50000"/>
              <a:gd name="adj2" fmla="val 5555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3573360"/>
            <a:ext cx="431640" cy="433440"/>
          </a:xfrm>
          <a:prstGeom prst="smileyFace">
            <a:avLst>
              <a:gd name="adj" fmla="val 9282"/>
            </a:avLst>
          </a:prstGeom>
          <a:solidFill>
            <a:srgbClr val="ff0000">
              <a:alpha val="22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2340000" y="549360"/>
            <a:ext cx="468000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中宋"/>
              </a:rPr>
              <a:t>Language Studies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150" name=""/>
          <p:cNvSpPr/>
          <p:nvPr/>
        </p:nvSpPr>
        <p:spPr>
          <a:xfrm>
            <a:off x="900000" y="2421000"/>
            <a:ext cx="741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1.Discuss any problems which    you meet with in the tex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00000" y="4292640"/>
            <a:ext cx="734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2.Let’s discuss togeth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900000" y="26028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1.It was not easy to decide what to take and what to </a:t>
            </a:r>
            <a:r>
              <a:rPr b="0" lang="en-US" sz="3200" spc="-1" strike="noStrike" u="sng">
                <a:solidFill>
                  <a:srgbClr val="0066ff"/>
                </a:solidFill>
                <a:uFillTx/>
                <a:latin typeface="Times New Roman"/>
              </a:rPr>
              <a:t>leave behi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00000" y="1197000"/>
            <a:ext cx="434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ve behind</a:t>
            </a: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184464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觉得我把信用卡落在餐馆里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26920" y="2276640"/>
            <a:ext cx="756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think I ______ my credit card  __________at the restaura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373392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很快我就被远远抛在了后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00000" y="4221000"/>
            <a:ext cx="734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_______________ far behi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54450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187280" y="4954680"/>
            <a:ext cx="144720" cy="1498680"/>
          </a:xfrm>
          <a:custGeom>
            <a:avLst/>
            <a:gdLst>
              <a:gd name="textAreaLeft" fmla="*/ 92520 w 144720"/>
              <a:gd name="textAreaRight" fmla="*/ 145080 w 144720"/>
              <a:gd name="textAreaTop" fmla="*/ 38880 h 1498680"/>
              <a:gd name="textAreaBottom" fmla="*/ 1459800 h 1498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332000" y="48690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Leave of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332000" y="54450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Le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32000" y="6021360"/>
            <a:ext cx="28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Le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al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16360" y="551664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35640" y="5084640"/>
            <a:ext cx="504720" cy="1584360"/>
          </a:xfrm>
          <a:custGeom>
            <a:avLst/>
            <a:gdLst>
              <a:gd name="textAreaLeft" fmla="*/ 322560 w 504720"/>
              <a:gd name="textAreaRight" fmla="*/ 505080 w 50472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96000" y="501984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le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796000" y="59562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As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lea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33800" y="2244600"/>
            <a:ext cx="102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lef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51600" y="2892600"/>
            <a:ext cx="197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behi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77440" y="4221000"/>
            <a:ext cx="349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was soon lef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1" dur="3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838080" y="609480"/>
            <a:ext cx="77724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2.The animals dragged their legs,too weak to pull their </a:t>
            </a:r>
            <a:r>
              <a:rPr b="1" lang="en-US" sz="3600" spc="-1" strike="noStrike" u="sng">
                <a:solidFill>
                  <a:srgbClr val="0066ff"/>
                </a:solidFill>
                <a:uFillTx/>
                <a:latin typeface="Times New Roman"/>
              </a:rPr>
              <a:t>burd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3200" y="1828800"/>
            <a:ext cx="160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burd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90920" y="190512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负担；责任；重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25146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1)Elepha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c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car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heav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___________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868360" y="2362320"/>
            <a:ext cx="213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burde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3200400"/>
            <a:ext cx="6781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2)The old man doesn’t want to _______ ____   __________ to his children and always to do what he can by himsel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3581280"/>
            <a:ext cx="495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be      a      burd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56720" y="5226120"/>
            <a:ext cx="160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burd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3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3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3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3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540720" y="476280"/>
            <a:ext cx="160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burd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484360" y="6206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Vt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让某人自已肩负（重担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56000" y="134136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Burden sb /oneself with s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2819520"/>
            <a:ext cx="885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If I were you , I wouldn’t ________ ______ _____ other people’s 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9640" y="218916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是我，我绝不像你那样为别人的问题而操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8360" y="3989520"/>
            <a:ext cx="72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不想让我的问题困扰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9640" y="4721400"/>
            <a:ext cx="82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I don’t want to ________ _____ _______ my probl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03640" y="4538520"/>
            <a:ext cx="412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burden you wi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84080" y="2666880"/>
            <a:ext cx="468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burden</a:t>
            </a: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myself</a:t>
            </a: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wi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8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755640" y="333360"/>
            <a:ext cx="792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For many weeks we </a:t>
            </a:r>
            <a:r>
              <a:rPr b="1" lang="en-US" sz="3200" spc="-1" strike="noStrike" u="sng">
                <a:solidFill>
                  <a:srgbClr val="0066ff"/>
                </a:solidFill>
                <a:uFillTx/>
                <a:latin typeface="Times New Roman"/>
              </a:rPr>
              <a:t>had been accustomed to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 seeing horses and oxen suffering from heat, thirst and starv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00000" y="191628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be accustomed to sth./do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55640" y="2060640"/>
            <a:ext cx="216000" cy="1008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00000" y="256536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accustom oneself to sth./do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00000" y="3284640"/>
            <a:ext cx="70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不习惯这么早起进行晨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55640" y="3789360"/>
            <a:ext cx="838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I am not accustomed to __________ ______so early to do morning exerci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90560" y="5546880"/>
            <a:ext cx="8353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2)It’ll take me some time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___________ ________ ____ the chan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03640" y="3573360"/>
            <a:ext cx="33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getting</a:t>
            </a: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26920" y="501336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需要花很时间来适应这些变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3680" y="6095880"/>
            <a:ext cx="474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accustom</a:t>
            </a: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myself</a:t>
            </a: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3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3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755640" y="401796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2.On hearing the bad news, he got up quickly, _______ the lunch unfinish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73320" y="501012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A.le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67280" y="508176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B.lef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58920" y="55864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C.to le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67280" y="558648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D.lea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95280" y="3886200"/>
            <a:ext cx="358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485800" y="429264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187280" y="3429000"/>
            <a:ext cx="727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26920" y="1557360"/>
            <a:ext cx="756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1.We take our skin  for granted until it is burned ______repa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346040" y="270504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A. beyo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139640" y="2705040"/>
            <a:ext cx="200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</a:rPr>
              <a:t>B. withou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24080" y="33544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C. for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68440" y="3354480"/>
            <a:ext cx="155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3366ff"/>
                </a:solidFill>
                <a:latin typeface="Times New Roman"/>
              </a:rPr>
              <a:t>. 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</a:rPr>
              <a:t>u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40000" y="1812960"/>
            <a:ext cx="18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627280" y="582480"/>
            <a:ext cx="31910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中宋"/>
              </a:rPr>
              <a:t>PRACTISE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中宋"/>
              <a:ea typeface="华文中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3916440" cy="3313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900000" y="4508640"/>
            <a:ext cx="215928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Today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3280" y="1197000"/>
            <a:ext cx="4032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3333cc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ingLiU"/>
              </a:rPr>
              <a:t>modernized</a:t>
            </a:r>
            <a:endParaRPr b="1" lang="en-US" sz="4800" spc="1" strike="noStrike">
              <a:ln w="19080">
                <a:solidFill>
                  <a:srgbClr val="3333cc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ingLiU"/>
              <a:ea typeface="MingLiU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500720" y="2637000"/>
            <a:ext cx="3743280" cy="3889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148360" y="2565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scover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05264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</a:rPr>
              <a:t>1.The little cart is squeaking (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</a:rPr>
              <a:t>吱吱响）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</a:rPr>
              <a:t>under the heavy 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206064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go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14600" y="21286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B.car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267080" y="21337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C.bur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324480" y="21286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D.lo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895480" y="1341360"/>
            <a:ext cx="221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9480" y="2781360"/>
            <a:ext cx="7696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2.When considering how to settle the problem,the most important factor—weather, he had 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62120" y="44370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lef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724280" y="45054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lef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beh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38080" y="508464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lef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o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724280" y="508464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lef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o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590920" y="357336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132000" y="620640"/>
            <a:ext cx="3429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24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Homewor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25" name=""/>
          <p:cNvSpPr/>
          <p:nvPr/>
        </p:nvSpPr>
        <p:spPr>
          <a:xfrm>
            <a:off x="646200" y="2492280"/>
            <a:ext cx="84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Lucida Sans Unicode"/>
              </a:rPr>
              <a:t>1.Finish  Language stud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4360" y="3573360"/>
            <a:ext cx="8915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2.Finsh the grammar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 rot="21114600">
            <a:off x="2743200" y="1905120"/>
            <a:ext cx="3355920" cy="180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4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Goodbye 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224000" y="620640"/>
            <a:ext cx="6624720" cy="553248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56" name=""/>
          <p:cNvSpPr txBox="1"/>
          <p:nvPr/>
        </p:nvSpPr>
        <p:spPr>
          <a:xfrm>
            <a:off x="1371600" y="2438280"/>
            <a:ext cx="4581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in the 1840's</a:t>
            </a:r>
            <a:endParaRPr b="1" lang="en-US" sz="5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095880" y="1295280"/>
            <a:ext cx="1752840" cy="3357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rot="435600">
            <a:off x="1763640" y="2060280"/>
            <a:ext cx="4797360" cy="225360"/>
          </a:xfrm>
          <a:prstGeom prst="leftArrow">
            <a:avLst>
              <a:gd name="adj1" fmla="val 50000"/>
              <a:gd name="adj2" fmla="val 53218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08000" y="3284640"/>
            <a:ext cx="4572000" cy="228600"/>
          </a:xfrm>
          <a:prstGeom prst="leftArrow">
            <a:avLst>
              <a:gd name="adj1" fmla="val 50000"/>
              <a:gd name="adj2" fmla="val 50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77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" dur="770" fill="hold"/>
                                        <p:tgtEl>
                                          <p:spTgt spid="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" dur="77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" dur="77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3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187280" y="189000"/>
            <a:ext cx="2438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T </a:t>
            </a:r>
            <a:r>
              <a:rPr b="0" lang="en-US" sz="80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91720" y="620640"/>
            <a:ext cx="363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otum"/>
                <a:ea typeface="Dotum"/>
              </a:rPr>
              <a:t>GOING W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6480000" cy="447516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11280" y="4869000"/>
            <a:ext cx="532764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Indian Creek in Kansas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257560" y="3789360"/>
            <a:ext cx="4762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The Salt Lake Valley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292720" y="1484280"/>
            <a:ext cx="2857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Death Valley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641760" y="2565360"/>
            <a:ext cx="3809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Salt Lake Desert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11280" y="1484280"/>
            <a:ext cx="647640" cy="593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8028000" y="58770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2411280" y="476280"/>
            <a:ext cx="360072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READING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-36360" y="44280"/>
            <a:ext cx="9396360" cy="6885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952880" y="3124080"/>
            <a:ext cx="432000" cy="433440"/>
          </a:xfrm>
          <a:prstGeom prst="smileyFace">
            <a:avLst>
              <a:gd name="adj" fmla="val 9282"/>
            </a:avLst>
          </a:prstGeom>
          <a:solidFill>
            <a:srgbClr val="ff0000">
              <a:alpha val="22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20961600">
            <a:off x="1547280" y="188640"/>
            <a:ext cx="1738440" cy="4248000"/>
          </a:xfrm>
          <a:custGeom>
            <a:avLst/>
            <a:gdLst/>
            <a:ahLst/>
            <a:rect l="l" t="t" r="r" b="b"/>
            <a:pathLst>
              <a:path w="1095" h="2660">
                <a:moveTo>
                  <a:pt x="45" y="30"/>
                </a:moveTo>
                <a:cubicBezTo>
                  <a:pt x="0" y="60"/>
                  <a:pt x="83" y="211"/>
                  <a:pt x="91" y="302"/>
                </a:cubicBezTo>
                <a:cubicBezTo>
                  <a:pt x="99" y="393"/>
                  <a:pt x="68" y="514"/>
                  <a:pt x="91" y="574"/>
                </a:cubicBezTo>
                <a:cubicBezTo>
                  <a:pt x="114" y="634"/>
                  <a:pt x="182" y="650"/>
                  <a:pt x="227" y="665"/>
                </a:cubicBezTo>
                <a:cubicBezTo>
                  <a:pt x="272" y="680"/>
                  <a:pt x="333" y="635"/>
                  <a:pt x="363" y="665"/>
                </a:cubicBezTo>
                <a:cubicBezTo>
                  <a:pt x="393" y="695"/>
                  <a:pt x="401" y="763"/>
                  <a:pt x="408" y="846"/>
                </a:cubicBezTo>
                <a:cubicBezTo>
                  <a:pt x="415" y="929"/>
                  <a:pt x="401" y="1088"/>
                  <a:pt x="408" y="1164"/>
                </a:cubicBezTo>
                <a:cubicBezTo>
                  <a:pt x="415" y="1240"/>
                  <a:pt x="400" y="1262"/>
                  <a:pt x="453" y="1300"/>
                </a:cubicBezTo>
                <a:cubicBezTo>
                  <a:pt x="506" y="1338"/>
                  <a:pt x="673" y="1330"/>
                  <a:pt x="726" y="1390"/>
                </a:cubicBezTo>
                <a:cubicBezTo>
                  <a:pt x="779" y="1450"/>
                  <a:pt x="756" y="1602"/>
                  <a:pt x="771" y="1662"/>
                </a:cubicBezTo>
                <a:cubicBezTo>
                  <a:pt x="786" y="1722"/>
                  <a:pt x="816" y="1708"/>
                  <a:pt x="816" y="1753"/>
                </a:cubicBezTo>
                <a:cubicBezTo>
                  <a:pt x="816" y="1798"/>
                  <a:pt x="786" y="1867"/>
                  <a:pt x="771" y="1935"/>
                </a:cubicBezTo>
                <a:cubicBezTo>
                  <a:pt x="756" y="2003"/>
                  <a:pt x="711" y="2101"/>
                  <a:pt x="726" y="2161"/>
                </a:cubicBezTo>
                <a:cubicBezTo>
                  <a:pt x="741" y="2221"/>
                  <a:pt x="809" y="2215"/>
                  <a:pt x="862" y="2298"/>
                </a:cubicBezTo>
                <a:cubicBezTo>
                  <a:pt x="915" y="2381"/>
                  <a:pt x="1005" y="2660"/>
                  <a:pt x="1043" y="2660"/>
                </a:cubicBezTo>
                <a:cubicBezTo>
                  <a:pt x="1081" y="2660"/>
                  <a:pt x="1088" y="2449"/>
                  <a:pt x="1088" y="2298"/>
                </a:cubicBezTo>
                <a:cubicBezTo>
                  <a:pt x="1088" y="2147"/>
                  <a:pt x="1043" y="1897"/>
                  <a:pt x="1043" y="1753"/>
                </a:cubicBezTo>
                <a:cubicBezTo>
                  <a:pt x="1043" y="1609"/>
                  <a:pt x="1095" y="1519"/>
                  <a:pt x="1088" y="1436"/>
                </a:cubicBezTo>
                <a:cubicBezTo>
                  <a:pt x="1081" y="1353"/>
                  <a:pt x="1028" y="1322"/>
                  <a:pt x="998" y="1254"/>
                </a:cubicBezTo>
                <a:cubicBezTo>
                  <a:pt x="968" y="1186"/>
                  <a:pt x="952" y="1102"/>
                  <a:pt x="907" y="1027"/>
                </a:cubicBezTo>
                <a:cubicBezTo>
                  <a:pt x="862" y="952"/>
                  <a:pt x="771" y="899"/>
                  <a:pt x="726" y="801"/>
                </a:cubicBezTo>
                <a:cubicBezTo>
                  <a:pt x="681" y="703"/>
                  <a:pt x="688" y="544"/>
                  <a:pt x="635" y="438"/>
                </a:cubicBezTo>
                <a:cubicBezTo>
                  <a:pt x="582" y="332"/>
                  <a:pt x="453" y="219"/>
                  <a:pt x="408" y="166"/>
                </a:cubicBezTo>
                <a:cubicBezTo>
                  <a:pt x="363" y="113"/>
                  <a:pt x="416" y="143"/>
                  <a:pt x="363" y="120"/>
                </a:cubicBezTo>
                <a:cubicBezTo>
                  <a:pt x="310" y="97"/>
                  <a:pt x="90" y="0"/>
                  <a:pt x="45" y="30"/>
                </a:cubicBezTo>
                <a:close/>
              </a:path>
            </a:pathLst>
          </a:custGeom>
          <a:solidFill>
            <a:srgbClr val="ffcc0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183200">
            <a:off x="4565160" y="3141360"/>
            <a:ext cx="432000" cy="73080"/>
          </a:xfrm>
          <a:prstGeom prst="leftArrow">
            <a:avLst>
              <a:gd name="adj1" fmla="val 50000"/>
              <a:gd name="adj2" fmla="val 1477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183200">
            <a:off x="4066920" y="2924280"/>
            <a:ext cx="431640" cy="73080"/>
          </a:xfrm>
          <a:prstGeom prst="leftArrow">
            <a:avLst>
              <a:gd name="adj1" fmla="val 50000"/>
              <a:gd name="adj2" fmla="val 14766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735600">
            <a:off x="3634920" y="2779560"/>
            <a:ext cx="432000" cy="73080"/>
          </a:xfrm>
          <a:prstGeom prst="leftArrow">
            <a:avLst>
              <a:gd name="adj1" fmla="val 50000"/>
              <a:gd name="adj2" fmla="val 1477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20108400">
            <a:off x="2365920" y="303480"/>
            <a:ext cx="789840" cy="38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Rocky  mount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19578000">
            <a:off x="1225080" y="2587320"/>
            <a:ext cx="905040" cy="936720"/>
          </a:xfrm>
          <a:custGeom>
            <a:avLst/>
            <a:gdLst/>
            <a:ahLst/>
            <a:rect l="l" t="t" r="r" b="b"/>
            <a:pathLst>
              <a:path w="380" h="428">
                <a:moveTo>
                  <a:pt x="11" y="31"/>
                </a:moveTo>
                <a:cubicBezTo>
                  <a:pt x="31" y="129"/>
                  <a:pt x="38" y="164"/>
                  <a:pt x="95" y="240"/>
                </a:cubicBezTo>
                <a:cubicBezTo>
                  <a:pt x="102" y="250"/>
                  <a:pt x="140" y="312"/>
                  <a:pt x="147" y="314"/>
                </a:cubicBezTo>
                <a:cubicBezTo>
                  <a:pt x="198" y="328"/>
                  <a:pt x="252" y="321"/>
                  <a:pt x="304" y="324"/>
                </a:cubicBezTo>
                <a:cubicBezTo>
                  <a:pt x="315" y="331"/>
                  <a:pt x="328" y="335"/>
                  <a:pt x="336" y="345"/>
                </a:cubicBezTo>
                <a:cubicBezTo>
                  <a:pt x="350" y="361"/>
                  <a:pt x="371" y="428"/>
                  <a:pt x="346" y="355"/>
                </a:cubicBezTo>
                <a:cubicBezTo>
                  <a:pt x="350" y="320"/>
                  <a:pt x="349" y="285"/>
                  <a:pt x="357" y="251"/>
                </a:cubicBezTo>
                <a:cubicBezTo>
                  <a:pt x="360" y="239"/>
                  <a:pt x="380" y="231"/>
                  <a:pt x="377" y="219"/>
                </a:cubicBezTo>
                <a:cubicBezTo>
                  <a:pt x="374" y="208"/>
                  <a:pt x="356" y="212"/>
                  <a:pt x="346" y="209"/>
                </a:cubicBezTo>
                <a:cubicBezTo>
                  <a:pt x="312" y="157"/>
                  <a:pt x="259" y="86"/>
                  <a:pt x="199" y="62"/>
                </a:cubicBezTo>
                <a:cubicBezTo>
                  <a:pt x="160" y="46"/>
                  <a:pt x="105" y="44"/>
                  <a:pt x="63" y="31"/>
                </a:cubicBezTo>
                <a:cubicBezTo>
                  <a:pt x="53" y="24"/>
                  <a:pt x="40" y="0"/>
                  <a:pt x="32" y="10"/>
                </a:cubicBezTo>
                <a:cubicBezTo>
                  <a:pt x="14" y="32"/>
                  <a:pt x="19" y="66"/>
                  <a:pt x="11" y="94"/>
                </a:cubicBezTo>
                <a:cubicBezTo>
                  <a:pt x="8" y="105"/>
                  <a:pt x="0" y="125"/>
                  <a:pt x="0" y="125"/>
                </a:cubicBez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735600">
            <a:off x="3203280" y="2636640"/>
            <a:ext cx="431640" cy="72720"/>
          </a:xfrm>
          <a:prstGeom prst="leftArrow">
            <a:avLst>
              <a:gd name="adj1" fmla="val 50000"/>
              <a:gd name="adj2" fmla="val 14839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735600">
            <a:off x="2771280" y="2563920"/>
            <a:ext cx="432000" cy="73080"/>
          </a:xfrm>
          <a:prstGeom prst="leftArrow">
            <a:avLst>
              <a:gd name="adj1" fmla="val 50000"/>
              <a:gd name="adj2" fmla="val 1477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20581200">
            <a:off x="2268360" y="2565360"/>
            <a:ext cx="432000" cy="73080"/>
          </a:xfrm>
          <a:prstGeom prst="leftArrow">
            <a:avLst>
              <a:gd name="adj1" fmla="val 50000"/>
              <a:gd name="adj2" fmla="val 1477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20676600">
            <a:off x="1763640" y="2852640"/>
            <a:ext cx="432000" cy="73080"/>
          </a:xfrm>
          <a:prstGeom prst="leftArrow">
            <a:avLst>
              <a:gd name="adj1" fmla="val 50000"/>
              <a:gd name="adj2" fmla="val 1477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68360" y="2708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9578000">
            <a:off x="2457360" y="2572920"/>
            <a:ext cx="381240" cy="528840"/>
          </a:xfrm>
          <a:custGeom>
            <a:avLst/>
            <a:gdLst/>
            <a:ahLst/>
            <a:rect l="l" t="t" r="r" b="b"/>
            <a:pathLst>
              <a:path w="380" h="428">
                <a:moveTo>
                  <a:pt x="11" y="31"/>
                </a:moveTo>
                <a:cubicBezTo>
                  <a:pt x="31" y="129"/>
                  <a:pt x="38" y="164"/>
                  <a:pt x="95" y="240"/>
                </a:cubicBezTo>
                <a:cubicBezTo>
                  <a:pt x="102" y="250"/>
                  <a:pt x="140" y="312"/>
                  <a:pt x="147" y="314"/>
                </a:cubicBezTo>
                <a:cubicBezTo>
                  <a:pt x="198" y="328"/>
                  <a:pt x="252" y="321"/>
                  <a:pt x="304" y="324"/>
                </a:cubicBezTo>
                <a:cubicBezTo>
                  <a:pt x="315" y="331"/>
                  <a:pt x="328" y="335"/>
                  <a:pt x="336" y="345"/>
                </a:cubicBezTo>
                <a:cubicBezTo>
                  <a:pt x="350" y="361"/>
                  <a:pt x="371" y="428"/>
                  <a:pt x="346" y="355"/>
                </a:cubicBezTo>
                <a:cubicBezTo>
                  <a:pt x="350" y="320"/>
                  <a:pt x="349" y="285"/>
                  <a:pt x="357" y="251"/>
                </a:cubicBezTo>
                <a:cubicBezTo>
                  <a:pt x="360" y="239"/>
                  <a:pt x="380" y="231"/>
                  <a:pt x="377" y="219"/>
                </a:cubicBezTo>
                <a:cubicBezTo>
                  <a:pt x="374" y="208"/>
                  <a:pt x="356" y="212"/>
                  <a:pt x="346" y="209"/>
                </a:cubicBezTo>
                <a:cubicBezTo>
                  <a:pt x="312" y="157"/>
                  <a:pt x="259" y="86"/>
                  <a:pt x="199" y="62"/>
                </a:cubicBezTo>
                <a:cubicBezTo>
                  <a:pt x="160" y="46"/>
                  <a:pt x="105" y="44"/>
                  <a:pt x="63" y="31"/>
                </a:cubicBezTo>
                <a:cubicBezTo>
                  <a:pt x="53" y="24"/>
                  <a:pt x="40" y="0"/>
                  <a:pt x="32" y="10"/>
                </a:cubicBezTo>
                <a:cubicBezTo>
                  <a:pt x="14" y="32"/>
                  <a:pt x="19" y="66"/>
                  <a:pt x="11" y="94"/>
                </a:cubicBezTo>
                <a:cubicBezTo>
                  <a:pt x="8" y="105"/>
                  <a:pt x="0" y="125"/>
                  <a:pt x="0" y="125"/>
                </a:cubicBez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050920" y="270828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he Salt Lake Vall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19941000">
            <a:off x="1332000" y="2995560"/>
            <a:ext cx="431640" cy="73080"/>
          </a:xfrm>
          <a:prstGeom prst="leftArrow">
            <a:avLst>
              <a:gd name="adj1" fmla="val 50000"/>
              <a:gd name="adj2" fmla="val 14766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9478400">
            <a:off x="971640" y="3284280"/>
            <a:ext cx="431640" cy="73080"/>
          </a:xfrm>
          <a:prstGeom prst="leftArrow">
            <a:avLst>
              <a:gd name="adj1" fmla="val 50000"/>
              <a:gd name="adj2" fmla="val 14766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3284640"/>
            <a:ext cx="442800" cy="649080"/>
          </a:xfrm>
          <a:custGeom>
            <a:avLst/>
            <a:gdLst/>
            <a:ahLst/>
            <a:rect l="l" t="t" r="r" b="b"/>
            <a:pathLst>
              <a:path w="332" h="378">
                <a:moveTo>
                  <a:pt x="98" y="15"/>
                </a:moveTo>
                <a:cubicBezTo>
                  <a:pt x="128" y="22"/>
                  <a:pt x="166" y="45"/>
                  <a:pt x="189" y="60"/>
                </a:cubicBezTo>
                <a:cubicBezTo>
                  <a:pt x="212" y="75"/>
                  <a:pt x="211" y="75"/>
                  <a:pt x="234" y="105"/>
                </a:cubicBezTo>
                <a:cubicBezTo>
                  <a:pt x="257" y="135"/>
                  <a:pt x="318" y="196"/>
                  <a:pt x="325" y="241"/>
                </a:cubicBezTo>
                <a:cubicBezTo>
                  <a:pt x="332" y="286"/>
                  <a:pt x="294" y="378"/>
                  <a:pt x="279" y="378"/>
                </a:cubicBezTo>
                <a:cubicBezTo>
                  <a:pt x="264" y="378"/>
                  <a:pt x="264" y="271"/>
                  <a:pt x="234" y="241"/>
                </a:cubicBezTo>
                <a:cubicBezTo>
                  <a:pt x="204" y="211"/>
                  <a:pt x="128" y="219"/>
                  <a:pt x="98" y="196"/>
                </a:cubicBezTo>
                <a:cubicBezTo>
                  <a:pt x="68" y="173"/>
                  <a:pt x="68" y="135"/>
                  <a:pt x="53" y="105"/>
                </a:cubicBezTo>
                <a:cubicBezTo>
                  <a:pt x="38" y="75"/>
                  <a:pt x="0" y="30"/>
                  <a:pt x="7" y="15"/>
                </a:cubicBezTo>
                <a:cubicBezTo>
                  <a:pt x="14" y="0"/>
                  <a:pt x="68" y="8"/>
                  <a:pt x="98" y="15"/>
                </a:cubicBezTo>
                <a:close/>
              </a:path>
            </a:pathLst>
          </a:custGeom>
          <a:solidFill>
            <a:srgbClr val="00000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42920" y="3357720"/>
            <a:ext cx="12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eath Vall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 rot="19478400">
            <a:off x="743040" y="3532320"/>
            <a:ext cx="309600" cy="139320"/>
          </a:xfrm>
          <a:prstGeom prst="leftArrow">
            <a:avLst>
              <a:gd name="adj1" fmla="val 50000"/>
              <a:gd name="adj2" fmla="val 5555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3573360"/>
            <a:ext cx="431640" cy="433440"/>
          </a:xfrm>
          <a:prstGeom prst="smileyFace">
            <a:avLst>
              <a:gd name="adj" fmla="val 9282"/>
            </a:avLst>
          </a:prstGeom>
          <a:solidFill>
            <a:srgbClr val="ff0000">
              <a:alpha val="22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Camel" descr=""/>
          <p:cNvPicPr/>
          <p:nvPr/>
        </p:nvPicPr>
        <p:blipFill>
          <a:blip r:embed="rId5"/>
          <a:stretch/>
        </p:blipFill>
        <p:spPr>
          <a:xfrm>
            <a:off x="1143000" y="2666880"/>
            <a:ext cx="428760" cy="428760"/>
          </a:xfrm>
          <a:prstGeom prst="rect">
            <a:avLst/>
          </a:prstGeom>
          <a:ln w="0">
            <a:noFill/>
          </a:ln>
        </p:spPr>
      </p:pic>
      <p:pic>
        <p:nvPicPr>
          <p:cNvPr id="92" name="Camel" descr=""/>
          <p:cNvPicPr/>
          <p:nvPr/>
        </p:nvPicPr>
        <p:blipFill>
          <a:blip r:embed="rId6"/>
          <a:stretch/>
        </p:blipFill>
        <p:spPr>
          <a:xfrm>
            <a:off x="1600200" y="29718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93" name="Camel" descr=""/>
          <p:cNvPicPr/>
          <p:nvPr/>
        </p:nvPicPr>
        <p:blipFill>
          <a:blip r:embed="rId7"/>
          <a:stretch/>
        </p:blipFill>
        <p:spPr>
          <a:xfrm>
            <a:off x="2286000" y="2314440"/>
            <a:ext cx="42876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7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2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11280" y="4869000"/>
            <a:ext cx="532764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Indian Creek in Kansas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257560" y="3789360"/>
            <a:ext cx="4762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The Salt Lake Valley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292720" y="1484280"/>
            <a:ext cx="2857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Death Valley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641760" y="2565360"/>
            <a:ext cx="3809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Salt Lake Desert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11280" y="1484280"/>
            <a:ext cx="647640" cy="593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8028000" y="58770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2411280" y="476280"/>
            <a:ext cx="360072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scanning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908000" y="549360"/>
            <a:ext cx="532800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Indian Creek in Kansas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02" name=""/>
          <p:cNvSpPr/>
          <p:nvPr/>
        </p:nvSpPr>
        <p:spPr>
          <a:xfrm>
            <a:off x="-108000" y="1800360"/>
            <a:ext cx="9144000" cy="5157720"/>
          </a:xfrm>
          <a:prstGeom prst="cloudCallout">
            <a:avLst>
              <a:gd name="adj1" fmla="val 32657"/>
              <a:gd name="adj2" fmla="val -37689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31800" y="1827360"/>
            <a:ext cx="7972560" cy="505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Frontier ,meeting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place for people moving to 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the west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195640" y="1413000"/>
            <a:ext cx="4762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The Salt Lake Valley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35280" y="1989000"/>
            <a:ext cx="5508360" cy="3645000"/>
            <a:chOff x="1835280" y="1989000"/>
            <a:chExt cx="5508360" cy="3645000"/>
          </a:xfrm>
        </p:grpSpPr>
        <p:sp>
          <p:nvSpPr>
            <p:cNvPr id="106" name=""/>
            <p:cNvSpPr/>
            <p:nvPr/>
          </p:nvSpPr>
          <p:spPr>
            <a:xfrm>
              <a:off x="1835280" y="1989000"/>
              <a:ext cx="5508360" cy="3645000"/>
            </a:xfrm>
            <a:prstGeom prst="irregularSeal2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 txBox="1"/>
            <p:nvPr/>
          </p:nvSpPr>
          <p:spPr>
            <a:xfrm>
              <a:off x="3203280" y="3068640"/>
              <a:ext cx="2376360" cy="1081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0000">
                      <a:alpha val="90000"/>
                    </a:srgbClr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-方正超大字符集"/>
                </a:rPr>
                <a:t>beautiful</a:t>
              </a:r>
              <a:endParaRPr b="1" lang="en-US" sz="2400" spc="1" strike="noStrike">
                <a:ln w="0">
                  <a:noFill/>
                </a:ln>
                <a:solidFill>
                  <a:srgbClr val="ff0000">
                    <a:alpha val="90000"/>
                  </a:srgbClr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-方正超大字符集"/>
                <a:ea typeface="宋体-方正超大字符集"/>
              </a:endParaRPr>
            </a:p>
          </p:txBody>
        </p:sp>
      </p:grp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8172360" y="6021360"/>
            <a:ext cx="647640" cy="49068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155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1155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2" dur="1155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4" dur="1155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2T11:02:37Z</dcterms:created>
  <dc:creator>Bisheng</dc:creator>
  <dc:description/>
  <dc:language>en-US</dc:language>
  <cp:lastModifiedBy>Guest</cp:lastModifiedBy>
  <dcterms:modified xsi:type="dcterms:W3CDTF">2005-09-24T12:59:54Z</dcterms:modified>
  <cp:revision>95</cp:revision>
  <dc:subject/>
  <dc:title>PowerPoint 演示文稿</dc:title>
</cp:coreProperties>
</file>