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E25-F970-47F4-A0DA-185455E6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F31-9151-412F-83CB-70504F2C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642-A51A-4012-BFA5-F7281739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65A-2D83-41DE-9CA5-33E28F9C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768-25E2-4C3D-8248-761F1940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2E2D-1542-45B6-B0BC-5F8359BD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5787-BB06-4EAB-994C-9CDD98CC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7815-3E1E-419F-B66C-4E2BB085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7F7-C9C0-4DF9-B619-E9C5FBA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266-2622-49A7-813F-FF89970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AD37-7708-4B8D-B2DA-2116F13A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D25-BE50-42CB-8CFC-BD8E6EF6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029D-695B-4222-B299-65FD7BE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1F6E-5A2A-40FA-B8AB-8A78878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AB1-9CA0-4DA7-AAA9-22E8728B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84F3-79D3-4AA5-AA37-E0250CB9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5AE-09CF-48F6-9340-1BFF19D6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5D4-343C-4490-9AED-3C82F4C1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412-576B-4125-BBB1-1BC6EB66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2FE-0CCA-4C75-AC05-C48E7FD2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B1E-FD8F-47E5-A323-6560A96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B72-DBA9-49E2-9E9F-3133CBF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5E7-295C-4636-BED5-DE0E4F6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8FF-C977-4895-8685-5089B5D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62B6-DBBC-4F4B-A358-7DF24952AFE2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B1B-DB41-4B8A-B9D2-88680A5823BC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480" y="76212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Lesson 41  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920" y="37339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Zhaoqing Shiyuan Middle Schoo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3440" y="5257800"/>
            <a:ext cx="52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Speaker:  Li Changxiu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37160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791320"/>
            <a:ext cx="87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very successful./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5400" y="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.  Expression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960" y="609480"/>
            <a:ext cx="70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the coming weekend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e weekend that is com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680" y="1752480"/>
            <a:ext cx="79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Haven’t you heard of him?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’m surprised that you haven’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d of him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840" y="3581280"/>
            <a:ext cx="666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 hear of... =know of…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 from sb.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receive a letter from sb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25920"/>
            <a:ext cx="5979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He’s very successful.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3960" y="25236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. Repe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120" y="1219320"/>
            <a:ext cx="8781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I. Dialog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1.Why don’t you come 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2. Why not buy a ticket to hear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.You’d better see more English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film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. What about going for a walk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               Aim: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ster the following 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69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atre, successful, success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ke a record, broadcast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, 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ckie, John Denver,Mozar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29200" y="30492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们计划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4960" y="4214880"/>
            <a:ext cx="74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y planned to hold a sports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eet the coming autumn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36440" y="252360"/>
            <a:ext cx="579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X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写作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介绍香港歌星周华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是香港著名歌星，中学时代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对音乐感兴趣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曾参加过当地无线电台举办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歌唱比赛并获一等奖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  19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岁去台湾上大学，由于不会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话而被嘲笑并视为“乡下仔”。次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年，他去饭店当歌手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057400"/>
            <a:ext cx="837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四年后的一天，当周在饭店演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出时，一唱片公司经理被其歌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打动并邀请周加入他们的公司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经过仔细考虑后，周决定放弃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学业去当歌星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080" y="7858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I         Key point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6760" y="170028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Everyday English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6520" y="2386080"/>
            <a:ext cx="666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Haven’t you heard of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7960" y="3147840"/>
            <a:ext cx="529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Why don’t you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Why not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You’d better …  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5800" y="4976640"/>
            <a:ext cx="766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That’s a good idea./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anks. I must try to do that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42120" y="914400"/>
            <a:ext cx="37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estern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57400"/>
            <a:ext cx="46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assical music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740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752480"/>
            <a:ext cx="228600" cy="3812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828800"/>
            <a:ext cx="22860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3048120"/>
            <a:ext cx="228600" cy="7617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971800"/>
            <a:ext cx="228600" cy="6858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414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Symphon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usic for opera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nd balle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4440" y="4038480"/>
            <a:ext cx="37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z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Rock and rol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858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7160" y="5129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singing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800" y="12430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895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00" y="4443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09:00:50Z</dcterms:created>
  <dc:creator>Tan</dc:creator>
  <dc:description/>
  <dc:language>en-US</dc:language>
  <cp:lastModifiedBy>Tan</cp:lastModifiedBy>
  <dcterms:modified xsi:type="dcterms:W3CDTF">2001-11-04T13:56:18Z</dcterms:modified>
  <cp:revision>11</cp:revision>
  <dc:subject/>
  <dc:title>没有幻灯片标题</dc:title>
</cp:coreProperties>
</file>