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3.png" ContentType="image/png"/>
  <Override PartName="/ppt/media/image11.png" ContentType="image/png"/>
  <Override PartName="/ppt/media/image24.gif" ContentType="image/gif"/>
  <Override PartName="/ppt/media/image16.png" ContentType="image/png"/>
  <Override PartName="/ppt/media/image22.png" ContentType="image/png"/>
  <Override PartName="/ppt/media/image2.gif" ContentType="image/gif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60B-247E-4E24-859B-562E6F12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265-4D2B-4AEE-A85F-486AB361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E85-CDAF-4843-9514-1F0CF1AA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B7E-D8CC-4482-B4DA-7375CB47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7FF-EE88-4562-B3AC-2FAA8C59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134-1BA7-4A5E-91B1-539F19D0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9BA-C239-47A3-9AA1-4769F75D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C3D-0F02-49F1-B977-46BC6B74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AC9-E415-4B66-B279-C5C23ED9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8CB-B32B-4BC4-93F7-44698A2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CD5-4A73-4B84-9FF6-09B1020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491-EB3A-4F26-9CCD-507632AA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3194-FEB7-4891-973E-EC1A49263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llery2" descr=""/>
          <p:cNvPicPr/>
          <p:nvPr/>
        </p:nvPicPr>
        <p:blipFill>
          <a:blip r:embed="rId1"/>
          <a:stretch/>
        </p:blipFill>
        <p:spPr>
          <a:xfrm>
            <a:off x="2446200" y="1401840"/>
            <a:ext cx="4251600" cy="416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3000" y="5335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Your friendship is :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3399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5410080"/>
            <a:ext cx="6858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Book Antiqua"/>
              </a:rPr>
              <a:t>a precious treasure...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Book Antiqua"/>
              <a:ea typeface="Book Antiqu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woodstock_football" descr=""/>
          <p:cNvPicPr/>
          <p:nvPr/>
        </p:nvPicPr>
        <p:blipFill>
          <a:blip r:embed="rId1"/>
          <a:stretch/>
        </p:blipFill>
        <p:spPr>
          <a:xfrm>
            <a:off x="2604960" y="205740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8080" y="609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Don’t keep this message... Send it to your frie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7480" y="4952880"/>
            <a:ext cx="67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So they will know that wherever you are, you are thinking of the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ost%20snoopy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6094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on’t forget to send it back to the person who sent it to you, so this friend will know that they are also in your thoughts……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682000">
            <a:off x="774360" y="47883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Book Antiqua"/>
              </a:rPr>
              <a:t>A.C.A.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noopy%20Jumping2" descr="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45" name="snoopy3hgv" descr="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295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want to thank you for being a part of my lif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752480"/>
            <a:ext cx="342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know I can count on you in difficult times</a:t>
            </a:r>
            <a:r>
              <a:rPr b="1" lang="es-GT" sz="4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edison%20snoopy" descr="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457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I know that I can share with you happy mome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_Snoopy2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49528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I also know that our friendship is based on mutual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16002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Your friendship is a very special gift,</a:t>
            </a:r>
            <a:br>
              <a:rPr sz="3600"/>
            </a:b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 won’t be able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to thank you enough for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t</a:t>
            </a:r>
            <a:r>
              <a:rPr b="1" lang="es-GT" sz="3600" spc="-1" strike="noStrike">
                <a:solidFill>
                  <a:srgbClr val="cc0000"/>
                </a:solidFill>
                <a:latin typeface="Trebuchet MS"/>
                <a:ea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noopy%20gift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anks for filling my life with so much happines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woodstock" descr=""/>
          <p:cNvPicPr/>
          <p:nvPr/>
        </p:nvPicPr>
        <p:blipFill>
          <a:blip r:embed="rId1"/>
          <a:stretch/>
        </p:blipFill>
        <p:spPr>
          <a:xfrm>
            <a:off x="4076640" y="76212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6" name="chuck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7" name="franklin" descr=""/>
          <p:cNvPicPr/>
          <p:nvPr/>
        </p:nvPicPr>
        <p:blipFill>
          <a:blip r:embed="rId3"/>
          <a:stretch/>
        </p:blipFill>
        <p:spPr>
          <a:xfrm>
            <a:off x="1257480" y="36194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8" name="linus" descr=""/>
          <p:cNvPicPr/>
          <p:nvPr/>
        </p:nvPicPr>
        <p:blipFill>
          <a:blip r:embed="rId4"/>
          <a:stretch/>
        </p:blipFill>
        <p:spPr>
          <a:xfrm>
            <a:off x="6248520" y="54482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9" name="lucy" descr=""/>
          <p:cNvPicPr/>
          <p:nvPr/>
        </p:nvPicPr>
        <p:blipFill>
          <a:blip r:embed="rId5"/>
          <a:stretch/>
        </p:blipFill>
        <p:spPr>
          <a:xfrm>
            <a:off x="4305240" y="598176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0" name="marcie" descr=""/>
          <p:cNvPicPr/>
          <p:nvPr/>
        </p:nvPicPr>
        <p:blipFill>
          <a:blip r:embed="rId6"/>
          <a:stretch/>
        </p:blipFill>
        <p:spPr>
          <a:xfrm>
            <a:off x="1447920" y="22478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1" name="patty" descr=""/>
          <p:cNvPicPr/>
          <p:nvPr/>
        </p:nvPicPr>
        <p:blipFill>
          <a:blip r:embed="rId7"/>
          <a:stretch/>
        </p:blipFill>
        <p:spPr>
          <a:xfrm>
            <a:off x="7162920" y="3772080"/>
            <a:ext cx="57132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2" name="pigpen" descr=""/>
          <p:cNvPicPr/>
          <p:nvPr/>
        </p:nvPicPr>
        <p:blipFill>
          <a:blip r:embed="rId8"/>
          <a:stretch/>
        </p:blipFill>
        <p:spPr>
          <a:xfrm>
            <a:off x="2247840" y="537228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3" name="sally" descr=""/>
          <p:cNvPicPr/>
          <p:nvPr/>
        </p:nvPicPr>
        <p:blipFill>
          <a:blip r:embed="rId9"/>
          <a:stretch/>
        </p:blipFill>
        <p:spPr>
          <a:xfrm>
            <a:off x="60199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4" name="schroeder" descr=""/>
          <p:cNvPicPr/>
          <p:nvPr/>
        </p:nvPicPr>
        <p:blipFill>
          <a:blip r:embed="rId10"/>
          <a:stretch/>
        </p:blipFill>
        <p:spPr>
          <a:xfrm>
            <a:off x="6934320" y="2438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75" name="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eet_snoopy_big" descr="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45412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Remember that I am always here to listen to you, to comfort you, to share your sorrow,</a:t>
            </a:r>
            <a:br>
              <a:rPr sz="3200"/>
            </a:b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to celebrate y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eet_charlie_brown_big" descr="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304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hope that today and every day brings you love &amp; happiness</a:t>
            </a:r>
            <a:r>
              <a:rPr b="1" lang="es-GT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flying-woody" descr=""/>
          <p:cNvPicPr/>
          <p:nvPr/>
        </p:nvPicPr>
        <p:blipFill>
          <a:blip r:embed="rId1"/>
          <a:stretch/>
        </p:blipFill>
        <p:spPr>
          <a:xfrm>
            <a:off x="3924360" y="1447920"/>
            <a:ext cx="3085920" cy="1090440"/>
          </a:xfrm>
          <a:prstGeom prst="rect">
            <a:avLst/>
          </a:prstGeom>
          <a:ln w="0">
            <a:noFill/>
          </a:ln>
        </p:spPr>
      </p:pic>
      <p:pic>
        <p:nvPicPr>
          <p:cNvPr id="88" name="snoopy_logo_med" descr=""/>
          <p:cNvPicPr/>
          <p:nvPr/>
        </p:nvPicPr>
        <p:blipFill>
          <a:blip r:embed="rId2"/>
          <a:stretch/>
        </p:blipFill>
        <p:spPr>
          <a:xfrm>
            <a:off x="5105520" y="206856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3168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-Donna Levine</a:t>
            </a:r>
            <a:r>
              <a:rPr b="1" lang="es-ES" sz="1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noopy%20seasonal_hockey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1905120" cy="139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1371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is e-mail has been sent to you by someone who considers you a good fri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>Emmanuel Alvarez</dc:creator>
  <dc:description/>
  <dc:language>en-US</dc:language>
  <cp:lastModifiedBy>DSC USER</cp:lastModifiedBy>
  <dcterms:modified xsi:type="dcterms:W3CDTF">2002-01-29T06:07:14Z</dcterms:modified>
  <cp:revision>20</cp:revision>
  <dc:subject/>
  <dc:title>Presentación de PowerPoint</dc:title>
</cp:coreProperties>
</file>