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ED6-F4DD-4F9E-8863-F4203DCE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EB2-6F2A-4833-BF00-E0DEF39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59E-262B-4D62-921B-B5397628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AD0-8DD8-416A-98CC-F7D7AC1D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9C5-C6C1-4709-8D4C-46FC4128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D48-5850-41C5-9626-854A0EA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992-1E40-4FA9-BC0D-5C24AEDA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F07-225A-46B4-918B-F461D2B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C0C-4344-4DD7-9FF8-C4AE09EC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8F5-377C-4835-9307-D36998DF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A17-1F43-4F51-80C8-21F83D5D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ECC-2C28-4A63-91D9-D604698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F0F-7042-467E-A22C-94824FE625E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PHILOSOPH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6600"/>
                </a:solidFill>
                <a:latin typeface="Comic Sans MS"/>
                <a:ea typeface="標楷體"/>
              </a:rPr>
              <a:t>人生哲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bebesdormindo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4671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34290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understanding, when it’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人需要同情諒解時，善體其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人生有把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要有信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ebes1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610884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 rot="1563600">
            <a:off x="1981080" y="22824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Comfort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安慰朋友、為他打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Have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 confidence in yourself!!</a:t>
            </a:r>
            <a:r>
              <a:rPr b="1" lang="pt-BR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自己要有信心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ebe1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5970600" cy="379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00800" y="6400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Enjo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Life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享受人生</a:t>
            </a: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aby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22748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1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54636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patient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有耐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openminded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胸懷若谷，無偏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mile often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經常微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avor special mo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咀嚼令人回味的時刻</a:t>
            </a:r>
            <a:r>
              <a:rPr b="1" lang="zh-TW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10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26904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4920" y="39621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Make new friend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結交新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Rediscover old one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發掘老朋友的新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ell them that you love them…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讓他們知道你愛他們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when you love them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以及想到他們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eel it deeply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是何等的真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11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629240" cy="41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19374000">
            <a:off x="272520" y="669240"/>
            <a:ext cx="565632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gnore worr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揮別憂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orget problem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忘卻難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ardon enem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寬恕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Keep promis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信守承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18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4152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320" y="12189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f you get more than one chance,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如果還有機會，再試一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rize your goo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別忘了嘉獎自己的好點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ry not to make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儘量不犯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if you do, learn from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若是犯了，則從中汲取教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19" descr=""/>
          <p:cNvPicPr/>
          <p:nvPr/>
        </p:nvPicPr>
        <p:blipFill>
          <a:blip r:embed="rId2"/>
          <a:stretch/>
        </p:blipFill>
        <p:spPr>
          <a:xfrm>
            <a:off x="5270400" y="609480"/>
            <a:ext cx="358776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crazy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偶爾瘋狂一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ppreciate miracles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when they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珍惜每個驚喜  心存感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Notice where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s i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抬頭張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看看太陽掛在天空的哪個角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Listen to the rain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聆聽雨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atch for rainbows and falling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凝神觀望 彩虹隕石的蹤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ook for the beauty arou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尋找周遭的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23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248520" cy="4198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with your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發出會心的微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nfide i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和朋友談談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ive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不吝付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gentl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others,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柔和待人，始終如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bes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498920" cy="451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op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心存期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Desir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所企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row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長大成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ork hard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全力以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yourself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做你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ebe6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07988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20:44:23Z</dcterms:created>
  <dc:creator>MPAS/assessoria especial</dc:creator>
  <dc:description/>
  <dc:language>en-US</dc:language>
  <cp:lastModifiedBy>Lyq</cp:lastModifiedBy>
  <dcterms:modified xsi:type="dcterms:W3CDTF">2002-01-25T07:01:48Z</dcterms:modified>
  <cp:revision>36</cp:revision>
  <dc:subject/>
  <dc:title>Slide sem título </dc:title>
</cp:coreProperties>
</file>