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E158-1728-429C-85DE-A6A2EF720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G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A65-DD06-45E2-A456-A903BDA8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9ED-72AE-42D8-A283-3DF4DB2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AC7-7C79-4A8E-AC9F-03CBD4B5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434-BC2A-454F-A2C6-CB134F97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210-E167-470A-8530-6B1B2663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7C9-F9C1-4ADB-8220-9E36EF55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CEA-E4FF-46AC-B64C-3420D4DE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620-FB55-402F-81D5-6F275A4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8E8-43F4-45E7-84E8-673FEB35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49A-ED3E-4980-AC66-728F37D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3A7-69F0-4720-80C6-849BD2A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09E-2AB1-47AB-8408-FAC5926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B359-C25B-4F0B-BDB9-063B17AD4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685800"/>
            <a:ext cx="6934320" cy="6172200"/>
          </a:xfrm>
          <a:prstGeom prst="rightArrow">
            <a:avLst>
              <a:gd name="adj1" fmla="val 50000"/>
              <a:gd name="adj2" fmla="val 2808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are really tir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 daily stres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you have to go throug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NTETRABAJ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Never stop lov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7920" y="198072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AMASIEMPRE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OTEMASALOSGRANDE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7692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afraid of others, because they are bigger than you.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l size could be measured in the wisd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d finally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ook in the mirror and think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“I’m beautifu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YLINDO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02920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72200">
            <a:off x="3417480" y="5263920"/>
            <a:ext cx="52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w, enjoy your day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lax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CONEJOTRABAJ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lay solitai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240" y="228564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GATOCOMPUT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Enjoy the fiel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5640" y="1981080"/>
            <a:ext cx="48006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ZORROLINGO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some su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120" y="198072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TOMARSOL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fres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360" y="198072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65" name="REFRESQUESE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34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be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2840" y="198072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UNACERVEZA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rid of the horrible diets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(after all you are not so fat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FINDEDIETA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OMUERDASPROJIMO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Don’t unload your anger on oth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5:35:15Z</dcterms:created>
  <dc:creator>PROMOVISAO</dc:creator>
  <dc:description/>
  <dc:language>en-US</dc:language>
  <cp:lastModifiedBy>user</cp:lastModifiedBy>
  <dcterms:modified xsi:type="dcterms:W3CDTF">2001-09-27T06:13:39Z</dcterms:modified>
  <cp:revision>7</cp:revision>
  <dc:subject/>
  <dc:title>Se está cansado do stress a que todos os dias é submetido...</dc:title>
</cp:coreProperties>
</file>