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9A40-3517-4872-AFCD-0597A9FB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BB7-5C7A-47C9-A69A-8A2EDDCA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708-3CA2-4A2B-833A-D1BB4C07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B5D2-231E-4EA3-9013-A8A0DD84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BAED-6352-4614-A543-548CBC13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19C9-5A4E-4602-B9C4-B7857EA5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7049-D6B8-4C5F-BE35-A8F2911F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3CCF-08BB-4FE6-9F58-84856836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2D3E-5986-41EC-B390-3AF3FFDB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B815-92E6-4C64-B801-C1BDDE95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AA24-C9DA-4D78-A64D-80740932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7DE-DD65-4EA1-A324-3E7D7C6A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CBEB-6828-4065-ADAB-40A8B4CD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5DC7-982C-4C35-A005-931B6814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6236-D9B2-477A-9968-67C3F6A0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414C-3D22-4984-824B-D8100C6C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9682-4DBB-4F9E-84C7-34715584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0A95-DD21-4D78-99F9-38056EAF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8ED-1E71-4370-B49F-03DE94CD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7931-827B-4D4E-9675-65B78717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38A-E0CF-46F8-975F-C959BE3C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778-0C80-4916-B06E-FA0DF7C8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31EB-F5ED-46BF-AF7D-05F9BBB0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223-0FF8-42E5-94A1-3FEE7738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3399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9D06-E136-4428-BC46-48EAFB97CA5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3399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4D1D-5B69-41A0-904B-D1E3F91A5FB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年级  高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1BU21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Karl  Marx   (B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27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星期二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9:1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讲课教师   凌蕙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123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1341360"/>
            <a:ext cx="7696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 before long (Par.2—L3) ;  so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hospital will be set up in my home town before lo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378936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这本书很快就要写完了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4724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ook will be finished before lo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1052640"/>
            <a:ext cx="784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. keep on doing (Par.4—L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eep on trying, and you’ll make greater progres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33577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宋体"/>
              </a:rPr>
              <a:t>他在会上一言不发，只是一个劲地抽烟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400536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 didn't say anything at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eeting but kept on smoking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148428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7. in one’s fifties (Par.5—L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Both my parents are in their seventies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3382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她四十多岁时当上了校长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4437000"/>
            <a:ext cx="7239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e became the headmistress in 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rti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1447920"/>
            <a:ext cx="7696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. be sure of /about (Par.3—L1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’m sure of /about the dat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3141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我说不准他的电话号码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429264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’m not sure of his telephone numb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447920"/>
            <a:ext cx="754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9. translate…into…(Par.6—L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nslate the following sent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o English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36878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她的书已经被译成了好几种语言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4365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r book has been translated into several languag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句型：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403280" y="1052640"/>
            <a:ext cx="7238880" cy="1477080"/>
            <a:chOff x="1403280" y="1052640"/>
            <a:chExt cx="7238880" cy="1477080"/>
          </a:xfrm>
        </p:grpSpPr>
        <p:sp>
          <p:nvSpPr>
            <p:cNvPr id="187" name=""/>
            <p:cNvSpPr/>
            <p:nvPr/>
          </p:nvSpPr>
          <p:spPr>
            <a:xfrm>
              <a:off x="1479600" y="1052640"/>
              <a:ext cx="716256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find sth.+ </a:t>
              </a:r>
              <a:r>
                <a:rPr b="1" i="1" lang="zh-CN" sz="3600" spc="-1" strike="noStrike">
                  <a:solidFill>
                    <a:srgbClr val="ffffff"/>
                  </a:solidFill>
                  <a:latin typeface="Times New Roman"/>
                </a:rPr>
                <a:t>adj.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   (dialogue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find it + </a:t>
              </a:r>
              <a:r>
                <a:rPr b="1" i="1" lang="zh-CN" sz="3600" spc="-1" strike="noStrike">
                  <a:solidFill>
                    <a:srgbClr val="ffffff"/>
                  </a:solidFill>
                  <a:latin typeface="Times New Roman"/>
                </a:rPr>
                <a:t>adj.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+ to d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03280" y="135720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900000" y="2708280"/>
            <a:ext cx="8001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ind listening really difficult for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ind English idioms hard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memb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句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find sth.+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(dialogu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find it +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+ to 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 find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i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interesting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lk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foreigners in Englis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 think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it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necessary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ell hi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tru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76360" y="184464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句型：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26920" y="1052640"/>
            <a:ext cx="7620120" cy="1384200"/>
            <a:chOff x="826920" y="1052640"/>
            <a:chExt cx="7620120" cy="1384200"/>
          </a:xfrm>
        </p:grpSpPr>
        <p:sp>
          <p:nvSpPr>
            <p:cNvPr id="195" name=""/>
            <p:cNvSpPr/>
            <p:nvPr/>
          </p:nvSpPr>
          <p:spPr>
            <a:xfrm>
              <a:off x="903240" y="1052640"/>
              <a:ext cx="75438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so…+</a:t>
              </a: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adj./adv.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+ that…   (Par.2—L3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such…+ </a:t>
              </a: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n.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+ that…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6920" y="135720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900000" y="2852640"/>
            <a:ext cx="76201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book is so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goo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at I wa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read it ag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such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 good book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at I want to read it again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16000" y="765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她起得太晚了结果没赶上校车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148428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e got up so late that she miss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school bu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3141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他是个非常马虎的人，经常丢钥匙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58920" y="393372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 is such a careless person tha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 often loses his key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00000" y="907920"/>
            <a:ext cx="79250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变化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his is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 good a book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at I want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ad it ag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意：如果没有冠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则不能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种变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0" y="1474920"/>
            <a:ext cx="62485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Unit 21   Karl  Mar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二讲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7164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例：与“多少”连用时，只能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o + many / much / little / few +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here were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 many peopl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on the bus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hat I could hardly m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1557360"/>
            <a:ext cx="78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Was the job difficul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No, I found it quite ___to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easily     B. hard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easy       D. hard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84720" y="23493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1197000"/>
            <a:ext cx="754380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Which of the following wo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another way of say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use ... freely”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get                 B. master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understand    D. cat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1520" y="53341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1916280"/>
            <a:ext cx="74674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He began to work as a doctor in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the twenty    B. the twenty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his twenty     D. his twenti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26668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6920" y="1197000"/>
            <a:ext cx="7620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He has made _____ that we are al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rpris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such great progress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 such a great progr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so great progress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 so great a progres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1197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1733400"/>
            <a:ext cx="7467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 Could you give me some advi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 how to improv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y writ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of     B. on     C. in     D. f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2438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1557360"/>
            <a:ext cx="80769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. ----Did you see Jack at the 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No, he___ by the time I___t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had left; got         B. left; had got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was leaving; go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 had left; had go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916360" y="2349360"/>
            <a:ext cx="3961800" cy="642600"/>
            <a:chOff x="2916360" y="2349360"/>
            <a:chExt cx="3961800" cy="642600"/>
          </a:xfrm>
        </p:grpSpPr>
        <p:sp>
          <p:nvSpPr>
            <p:cNvPr id="222" name=""/>
            <p:cNvSpPr/>
            <p:nvPr/>
          </p:nvSpPr>
          <p:spPr>
            <a:xfrm>
              <a:off x="2916360" y="234936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45000" y="234936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9640" y="333360"/>
            <a:ext cx="8839440" cy="55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写作入门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What do you find hardest i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English?          (listening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Why do you think it is hard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 speak fast, can’t understand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Have you ever got high grad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n    listening test?      (never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04920" y="692280"/>
            <a:ext cx="8839080" cy="55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写作入门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How would you like to improve it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listen to some English tapes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atch English program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n TV, practice you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wn pronunciat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写作入门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do you think of the      result of   your effort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14130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have a talk with (P25--L1);  talk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ve a rest = res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ke a walk = walk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y a visit = vis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4653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/ May I have a talk with you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676520" y="1371600"/>
            <a:ext cx="6553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作业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28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80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81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8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1268280"/>
            <a:ext cx="7619760" cy="36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come across (P25--L1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et with; happen to meet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et by accid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I was reading the story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came across the word many tim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短语： 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前两天我在车上遇到我以前的一个同学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he other day I came across a former classmate of mine on the bus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0720" y="2286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1844640"/>
            <a:ext cx="7620120" cy="30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force somebody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to do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th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Par.1—L2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make sb.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 didn’t want to go, but they forc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me to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10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短语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果他不愿意做就不要强迫他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on’t force him to do it if he doesn'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nt 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ke sb. d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, but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b. be made to do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was made to work overtime by his boss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815328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make progress (Par.2—L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progres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可数，不用冠词，但可加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容词修饰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good/great/much progress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3429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短语：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give advice on (Par.6—L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dvic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可数，不用冠词，但可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om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修饰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My parents often gave me some ad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on how to get along with other peop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8:04:24Z</dcterms:created>
  <dc:creator>User</dc:creator>
  <dc:description/>
  <dc:language>en-US</dc:language>
  <cp:lastModifiedBy>Zhang Lingdi</cp:lastModifiedBy>
  <dcterms:modified xsi:type="dcterms:W3CDTF">2003-06-10T14:21:17Z</dcterms:modified>
  <cp:revision>70</cp:revision>
  <dc:subject/>
  <dc:title>PowerPoint 演示文稿</dc:title>
</cp:coreProperties>
</file>