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BC39-E10C-4F76-B4EE-532D8358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971B-60C6-4119-907B-30314930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BE51-44C2-4F19-9516-D7E83B23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D848-E037-44B7-8AA2-55C49AFD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DB48-C09B-4FEA-995A-4D8DAFDB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87CB-38F4-48B6-928D-044D1CD9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2807-F897-4FF2-8A59-112B50DA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27EE-A7AE-4AEC-A03B-0155321C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93F8-5585-4F77-8946-FD8B534E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E361-1DD9-4729-9AE6-4A286859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CAA7-94F4-4A51-9148-7B3E8706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2DC8-9FB0-4859-B24E-139AAD89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5FE4-FF99-49D0-BBF5-AACC160D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54AE-2E81-40B0-AB8F-F47AA4D3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2968-98F2-43FF-89A5-A11D5ABE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92C3-9430-4BB7-9BAD-5B87B5F6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BE11-E134-45CC-A341-64BAC347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AEDF-3DC4-4B5D-AC0A-FF875077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8CC3-E522-499B-87F9-5EAF8B7B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132C-4907-42AE-8E5C-421A14E3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BCAF-89CE-4555-BF61-82DF59B5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988C-5814-45AB-9E95-84353B20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88EC-7A51-442E-802A-32558770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E9C2-50F7-49CA-8F4F-0BD6A8C8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C9E6-6D8D-4BFA-8286-95856525304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0C0D-37E5-40E5-B0DB-C9D612D65FE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ids.alms.cz/aids/english/facts_2.htm#sex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aids.alms.cz/aids/english/facts_2.htm#blood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aids.alms.cz/aids/english/facts_2.htm#needle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aids.alms.cz/aids/english/facts_2.htm#mother" TargetMode="External"/><Relationship Id="rId9" Type="http://schemas.openxmlformats.org/officeDocument/2006/relationships/hyperlink" Target="http://aids.alms.cz/aids/english/facts_2.htm#mother" TargetMode="Externa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我的故事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深圳首位艾滋患者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: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一次好奇失去一切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HIV can be transmitted through unprotected sexual intercourse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345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How HIV is transmitt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date, there are only four primary methods of transmiss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sexual intercourse (anal and vaginal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contaminated blood and blood products, tissues and organ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contaminated needles, syringes and other piercing instruments;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mother-to-child transmission (MTCT).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971640" y="266760"/>
            <a:ext cx="633708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How HIV is not transmitt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mily, friends and co-workers should not fear becoming infected with HIV through casual contact with an HIV-infected person at home, at work, or social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ctivities will not transmit the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haking hands, hugging or kissing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782800" y="1916280"/>
            <a:ext cx="38959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oughing or sneezing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835280" y="2019240"/>
            <a:ext cx="6265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getting a mosquito or insect bite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258920" y="1481040"/>
            <a:ext cx="53290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haring food, eating or drinking utensils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454120" y="1557360"/>
            <a:ext cx="4354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drinking fountain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19280" y="1628640"/>
            <a:ext cx="435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toilets or shower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519280" y="1628640"/>
            <a:ext cx="455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他出生在湖南一个偏僻的农村山沟，家里祖祖辈辈才培养出他这么一个研究生，方圆几十里都曾以他为荣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然而，人生中仅有的一次“好奇”冒险，仅有的一次国外红灯区的性生活经历，他就染上了艾滋病。从此，他失去了工作，失去了家庭，失去了儿子，失去了住所，失去了亲朋好友，失去了他所拥有的一切。 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年前发现感染去年发病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a public phone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454120" y="1557360"/>
            <a:ext cx="46850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public swimming pool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387520" y="1484280"/>
            <a:ext cx="47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opening a door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387520" y="1484280"/>
            <a:ext cx="47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他是深圳市第一个被发现感染艾滋病毒的患者，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2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出国学习时在红灯区染病，去年开始发病。记者面前的李意辉（化名）懊悔万分，艾滋病毁掉了他的前程，毁掉了他的一切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77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山沟里出的名牌大学研究生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记者在东湖医院病房见到他时，李意辉看上去挺年轻，憨厚朴实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李意辉告诉记者，自己出生在湖南一个非常偏僻的农村，他靠着勤奋考上大学，又接着考上一所名牌大学读研究生，当时他是村里的骄傲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0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，研究生毕业以后，李意辉来到了深圳。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赴英培训在红灯区染上艾滋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2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初，李意辉被派赴英国学习一年。到了英国，对艾滋病并没有深刻认识、又是第一次出国的他，对什么都充满新奇。就因为好奇，李意辉走进了一家并不高档的高危红灯区经营场所，搭讪了一个非常诱人的金发碧眼的姑娘，可他却没有意识到她的危险，没有采取任何保护措施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李意辉说，就是这一次，他倒霉地感染上了艾滋。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查出艾滋病毒后失去工作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搬了一次又一次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忍痛离开妻儿一个人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曾在小岛生活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记者手记：他是一个好人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280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72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24000" y="247680"/>
            <a:ext cx="835164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</cp:lastModifiedBy>
  <dcterms:modified xsi:type="dcterms:W3CDTF">2004-10-02T03:34:54Z</dcterms:modified>
  <cp:revision>2</cp:revision>
  <dc:subject/>
  <dc:title>PowerPoint Presentation</dc:title>
</cp:coreProperties>
</file>