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0.gif" ContentType="image/gif"/>
  <Override PartName="/ppt/media/image54.wmf" ContentType="image/x-wmf"/>
  <Override PartName="/ppt/media/image57.jpeg" ContentType="image/jpeg"/>
  <Override PartName="/ppt/media/image43.png" ContentType="image/png"/>
  <Override PartName="/ppt/media/TYPE.WAV" ContentType="audio/x-wav"/>
  <Override PartName="/ppt/media/image41.png" ContentType="image/png"/>
  <Override PartName="/ppt/media/image51.gif" ContentType="image/gif"/>
  <Override PartName="/ppt/media/image40.jpeg" ContentType="image/jpeg"/>
  <Override PartName="/ppt/media/image38.gif" ContentType="image/gif"/>
  <Override PartName="/ppt/media/applause.wav" ContentType="audio/x-wav"/>
  <Override PartName="/ppt/media/image37.jpeg" ContentType="image/jpeg"/>
  <Override PartName="/ppt/media/image20.png" ContentType="image/png"/>
  <Override PartName="/ppt/media/image44.gif" ContentType="image/gif"/>
  <Override PartName="/ppt/media/image3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58.gif" ContentType="image/gif"/>
  <Override PartName="/ppt/media/image22.jpeg" ContentType="image/jpeg"/>
  <Override PartName="/ppt/media/image75.png" ContentType="image/png"/>
  <Override PartName="/ppt/media/image28.jpeg" ContentType="image/jpeg"/>
  <Override PartName="/ppt/media/image24.jpeg" ContentType="image/jpeg"/>
  <Override PartName="/ppt/media/image27.gif" ContentType="image/gif"/>
  <Override PartName="/ppt/media/image31.jpeg" ContentType="image/jpeg"/>
  <Override PartName="/ppt/media/image14.gif" ContentType="image/gif"/>
  <Override PartName="/ppt/media/image49.gif" ContentType="image/gif"/>
  <Override PartName="/ppt/media/image12.gif" ContentType="image/gif"/>
  <Override PartName="/ppt/media/image18.jpeg" ContentType="image/jpeg"/>
  <Override PartName="/ppt/media/image19.png" ContentType="image/png"/>
  <Override PartName="/ppt/media/image71.png" ContentType="image/png"/>
  <Override PartName="/ppt/media/image17.jpeg" ContentType="image/jpeg"/>
  <Override PartName="/ppt/media/chimes.wav" ContentType="audio/x-wav"/>
  <Override PartName="/ppt/media/image76.gif" ContentType="image/gif"/>
  <Override PartName="/ppt/media/image25.jpeg" ContentType="image/jpeg"/>
  <Override PartName="/ppt/media/image42.png" ContentType="image/png"/>
  <Override PartName="/ppt/media/image74.gif" ContentType="image/gif"/>
  <Override PartName="/ppt/media/image46.gif" ContentType="image/gif"/>
  <Override PartName="/ppt/media/image65.jpeg" ContentType="image/jpeg"/>
  <Override PartName="/ppt/media/image8.jpeg" ContentType="image/jpeg"/>
  <Override PartName="/ppt/media/image45.gif" ContentType="image/gif"/>
  <Override PartName="/ppt/media/image66.png" ContentType="image/png"/>
  <Override PartName="/ppt/media/image21.jpeg" ContentType="image/jpeg"/>
  <Override PartName="/ppt/media/image62.gif" ContentType="image/gif"/>
  <Override PartName="/ppt/media/image16.wmf" ContentType="image/x-wmf"/>
  <Override PartName="/ppt/media/image55.png" ContentType="image/png"/>
  <Override PartName="/ppt/media/image73.jpeg" ContentType="image/jpeg"/>
  <Override PartName="/ppt/media/image68.png" ContentType="image/png"/>
  <Override PartName="/ppt/media/image70.png" ContentType="image/png"/>
  <Override PartName="/ppt/media/image69.gif" ContentType="image/gif"/>
  <Override PartName="/ppt/media/image67.png" ContentType="image/png"/>
  <Override PartName="/ppt/media/image64.gif" ContentType="image/gif"/>
  <Override PartName="/ppt/media/image36.jpeg" ContentType="image/jpeg"/>
  <Override PartName="/ppt/media/image63.jpeg" ContentType="image/jpeg"/>
  <Override PartName="/ppt/media/image60.jpeg" ContentType="image/jpeg"/>
  <Override PartName="/ppt/media/image61.gif" ContentType="image/gif"/>
  <Override PartName="/ppt/media/image1.jpeg" ContentType="image/jpeg"/>
  <Override PartName="/ppt/media/image35.jpeg" ContentType="image/jpeg"/>
  <Override PartName="/ppt/media/image9.jpeg" ContentType="image/jpeg"/>
  <Override PartName="/ppt/media/image3.wmf" ContentType="image/x-wmf"/>
  <Override PartName="/ppt/media/image29.jpeg" ContentType="image/jpeg"/>
  <Override PartName="/ppt/media/image39.gif" ContentType="image/gif"/>
  <Override PartName="/ppt/media/image4.jpeg" ContentType="image/jpeg"/>
  <Override PartName="/ppt/media/image5.gif" ContentType="image/gif"/>
  <Override PartName="/ppt/media/image23.jpeg" ContentType="image/jpeg"/>
  <Override PartName="/ppt/media/image7.jpeg" ContentType="image/jpeg"/>
  <Override PartName="/ppt/media/image13.gif" ContentType="image/gif"/>
  <Override PartName="/ppt/media/image52.jpeg" ContentType="image/jpeg"/>
  <Override PartName="/ppt/media/image10.gif" ContentType="image/gif"/>
  <Override PartName="/ppt/media/image26.jpeg" ContentType="image/jpeg"/>
  <Override PartName="/ppt/media/image47.gif" ContentType="image/gif"/>
  <Override PartName="/ppt/media/image53.jpeg" ContentType="image/jpeg"/>
  <Override PartName="/ppt/media/image59.jpeg" ContentType="image/jpeg"/>
  <Override PartName="/ppt/media/image6.png" ContentType="image/png"/>
  <Override PartName="/ppt/media/image15.gif" ContentType="image/gif"/>
  <Override PartName="/ppt/media/image2.png" ContentType="image/png"/>
  <Override PartName="/ppt/media/image72.jpeg" ContentType="image/jpeg"/>
  <Override PartName="/ppt/media/image11.gif" ContentType="image/gif"/>
  <Override PartName="/ppt/media/image4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3D39-4C64-4597-ABE9-8CB92B50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2A7-5B9C-40DA-BDA1-10C74D4A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9CA-45F6-4972-967B-D06FA789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B15-5D1D-42BD-90E5-17BED8F2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347-59F6-4517-84BD-2AAFBDC5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23A-BDFC-45E1-8740-583DE273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9ED-AF4A-4455-BF7B-188AFCB3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6B7-43A9-4C11-99C6-040C57DE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958-2051-4621-B750-19D4E032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050-EA65-4660-9FAE-97615A5B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CB4-FBDF-4C16-889D-BCC439E1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3A2-BAD6-4282-81B1-8CD0661A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0382-DD64-4E54-88E4-70B80F54B6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27.gif"/><Relationship Id="rId4" Type="http://schemas.openxmlformats.org/officeDocument/2006/relationships/image" Target="../media/image20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gif"/><Relationship Id="rId3" Type="http://schemas.openxmlformats.org/officeDocument/2006/relationships/image" Target="../media/image53.jpe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gif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74.gif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6.gif"/><Relationship Id="rId6" Type="http://schemas.openxmlformats.org/officeDocument/2006/relationships/image" Target="../media/image7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08000" cy="17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7640" y="765000"/>
            <a:ext cx="75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Unit  2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Body Langu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54120" y="2286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76720" y="-45720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3962160" cy="4952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43044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733560" cy="4876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on’t k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5268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u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791320"/>
            <a:ext cx="2286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268360" y="1566720"/>
            <a:ext cx="4967640" cy="495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5280" y="543564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75800" y="-856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Facial 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3880" y="3276720"/>
            <a:ext cx="12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276720"/>
            <a:ext cx="11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3276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440" y="32767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080" y="3124080"/>
            <a:ext cx="167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轻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0" y="3276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920" y="3124080"/>
            <a:ext cx="125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g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厌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362320" y="4038480"/>
            <a:ext cx="2438280" cy="281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553080" y="411480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66688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0" y="3962520"/>
            <a:ext cx="533520" cy="5331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4343400" y="419112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2057400" cy="14475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38280" y="2209680"/>
            <a:ext cx="1219320" cy="106704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905120"/>
            <a:ext cx="1600200" cy="16002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733920"/>
            <a:ext cx="838080" cy="18288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58200" y="2209680"/>
            <a:ext cx="3808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3733560"/>
            <a:ext cx="35812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0200" y="1468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9040" y="3022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447920"/>
            <a:ext cx="2514600" cy="1981080"/>
          </a:xfrm>
          <a:prstGeom prst="flowChartProcess">
            <a:avLst/>
          </a:prstGeom>
          <a:solidFill>
            <a:srgbClr val="ffffff"/>
          </a:solidFill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920" y="152388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9320" y="24382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609480"/>
            <a:ext cx="75960" cy="3962520"/>
          </a:xfrm>
          <a:custGeom>
            <a:avLst/>
            <a:gdLst>
              <a:gd name="textAreaLeft" fmla="*/ 48600 w 75960"/>
              <a:gd name="textAreaRight" fmla="*/ 76320 w 7596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920" y="182880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514600"/>
            <a:ext cx="182880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1840" y="4986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21337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07988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627280" y="620640"/>
            <a:ext cx="42292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50760">
                  <a:solidFill>
                    <a:srgbClr val="333399"/>
                  </a:solidFill>
                  <a:miter/>
                </a:ln>
                <a:solidFill>
                  <a:srgbClr val="000080">
                    <a:alpha val="54000"/>
                  </a:srgbClr>
                </a:solidFill>
                <a:latin typeface="幼圆"/>
              </a:rPr>
              <a:t>Body talks</a:t>
            </a:r>
            <a:endParaRPr b="1" i="1" lang="en-US" sz="5400" spc="1" strike="noStrike">
              <a:ln w="50760">
                <a:solidFill>
                  <a:srgbClr val="333399"/>
                </a:solidFill>
                <a:miter/>
              </a:ln>
              <a:solidFill>
                <a:srgbClr val="000080">
                  <a:alpha val="54000"/>
                </a:srgbClr>
              </a:solidFill>
              <a:latin typeface="幼圆"/>
              <a:ea typeface="幼圆"/>
            </a:endParaRPr>
          </a:p>
        </p:txBody>
      </p:sp>
      <p:sp>
        <p:nvSpPr>
          <p:cNvPr id="173" name=""/>
          <p:cNvSpPr/>
          <p:nvPr/>
        </p:nvSpPr>
        <p:spPr>
          <a:xfrm>
            <a:off x="307440" y="2895480"/>
            <a:ext cx="85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Do people from different part of 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use the same body languag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819520" y="45720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ki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676520"/>
            <a:ext cx="932508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What’s the main idea of each paragraph</a:t>
            </a: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Pay attention to the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fir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and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la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sent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76520" y="1066680"/>
          <a:ext cx="487656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487656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676520" y="4191120"/>
            <a:ext cx="6095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apping one’s han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9528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--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000" y="620640"/>
            <a:ext cx="129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34160" y="509760"/>
            <a:ext cx="77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ommunicate with people not on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words but also by 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62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88600" y="1716120"/>
            <a:ext cx="75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 varies from cultur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l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7360" y="295920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ame body language has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ings in some differen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58360" y="4443480"/>
            <a:ext cx="57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gestures are univers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82320" y="5407200"/>
            <a:ext cx="78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ile is the best example of univers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sto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51080" y="476280"/>
            <a:ext cx="7758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Body langu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1844640"/>
            <a:ext cx="77407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8600" y="4568760"/>
            <a:ext cx="7745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Universal gestur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20500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479736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2280" y="189000"/>
            <a:ext cx="89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What different meanings do the following ges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have in different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1360" y="148428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eye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thumb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4800" y="2781360"/>
            <a:ext cx="819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making a circle with one’s thumb and inde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0280" y="378936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moving the index finger in a circle in fro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8600" y="48690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nodding or shaking one’s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3144960" y="16970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2992320" y="23828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429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441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504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236000" y="765000"/>
            <a:ext cx="136836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54130" t="0" r="0" b="0"/>
          <a:stretch/>
        </p:blipFill>
        <p:spPr>
          <a:xfrm>
            <a:off x="324000" y="1413000"/>
            <a:ext cx="280800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324000" y="404640"/>
          <a:ext cx="8569080" cy="5688000"/>
        </p:xfrm>
        <a:graphic>
          <a:graphicData uri="http://schemas.openxmlformats.org/drawingml/2006/table">
            <a:tbl>
              <a:tblPr/>
              <a:tblGrid>
                <a:gridCol w="2855880"/>
                <a:gridCol w="1968480"/>
                <a:gridCol w="374472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5292720" y="1341360"/>
            <a:ext cx="3600360" cy="24447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ecff"/>
              </a:gs>
            </a:gsLst>
            <a:lin ang="5400000"/>
          </a:gradFill>
          <a:ln cap="rnd" w="0">
            <a:solidFill>
              <a:srgbClr val="ccec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a way to s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’s 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05360"/>
            <a:ext cx="3311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rud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disrespect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0880" y="47242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101592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50920" y="549360"/>
          <a:ext cx="8642160" cy="601164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56360" y="1844640"/>
            <a:ext cx="2592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reat 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ood jo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365720"/>
            <a:ext cx="266400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the numb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286000" cy="2232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8360" y="450864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umbs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9880" y="3276720"/>
            <a:ext cx="1752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ig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22200" y="549360"/>
          <a:ext cx="8353440" cy="559728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276720" y="2276640"/>
            <a:ext cx="259056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3284640"/>
            <a:ext cx="2305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19640" y="4221000"/>
            <a:ext cx="2232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5229360"/>
            <a:ext cx="2304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974520" cy="2362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3240" y="3789360"/>
            <a:ext cx="299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ing a cir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one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mb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x fi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68360" y="404640"/>
          <a:ext cx="8280360" cy="5400720"/>
        </p:xfrm>
        <a:graphic>
          <a:graphicData uri="http://schemas.openxmlformats.org/drawingml/2006/table">
            <a:tbl>
              <a:tblPr/>
              <a:tblGrid>
                <a:gridCol w="2951280"/>
                <a:gridCol w="2570040"/>
                <a:gridCol w="2759040"/>
              </a:tblGrid>
              <a:tr h="15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ng the index finger in a circle in front of the 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zi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27640" y="2205000"/>
            <a:ext cx="237672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Times New Roman"/>
              </a:rPr>
              <a:t>cr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4076640"/>
            <a:ext cx="25196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You have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phone c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6599160"/>
        </p:xfrm>
        <a:graphic>
          <a:graphicData uri="http://schemas.openxmlformats.org/drawingml/2006/table">
            <a:tbl>
              <a:tblPr/>
              <a:tblGrid>
                <a:gridCol w="2286000"/>
                <a:gridCol w="380988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6025320" y="838080"/>
            <a:ext cx="329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Bulgaria, pa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of Greece,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8400" y="3048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3160" y="36576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54920" y="328464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iss on the ch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54920" y="414972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firm handsh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54560" y="479736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loving h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36760" y="565776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bow/ a nod of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8560" y="19969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560" y="3962520"/>
            <a:ext cx="14014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Gr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84720" y="2637000"/>
            <a:ext cx="3048120" cy="373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1193760" cy="2100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V="1">
            <a:off x="2124000" y="2852640"/>
            <a:ext cx="91440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341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Bulgaria, parts of Greece, and I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080" y="457200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21440" y="4437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n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156360" y="0"/>
            <a:ext cx="2303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do they   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2060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24000" y="206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2276640"/>
            <a:ext cx="19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od Luc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93372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azy/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don’t k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4008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nk/Cra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0920" y="6400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fu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64000" y="6400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921800" y="1052640"/>
            <a:ext cx="1222200" cy="1917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796000" y="1052640"/>
            <a:ext cx="180036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0"/>
            <a:ext cx="9144000" cy="155700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0000ff"/>
                </a:solidFill>
                <a:latin typeface="Times New Roman"/>
              </a:rPr>
              <a:t>Body tal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00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194436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748720" y="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941720"/>
            <a:ext cx="9144000" cy="947160"/>
          </a:xfrm>
          <a:prstGeom prst="rect">
            <a:avLst/>
          </a:prstGeom>
          <a:gradFill rotWithShape="0">
            <a:gsLst>
              <a:gs pos="0">
                <a:srgbClr val="fef7ec"/>
              </a:gs>
              <a:gs pos="100000">
                <a:srgbClr val="fff7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Body language can carry meaning , which is an important part of nonverbal communication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172360" y="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314172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gradFill rotWithShape="0">
            <a:gsLst>
              <a:gs pos="0">
                <a:srgbClr val="fff3e1"/>
              </a:gs>
              <a:gs pos="50000">
                <a:srgbClr val="fef6ea"/>
              </a:gs>
              <a:gs pos="100000">
                <a:srgbClr val="fff3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 handshake is the most common gesture that goes with a greeting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00" y="1752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12000" y="3500280"/>
            <a:ext cx="1608120" cy="3600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124080" y="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019920" y="510552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3141720"/>
            <a:ext cx="19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6040" y="2819520"/>
            <a:ext cx="16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aby k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83480" y="281952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2240" y="61722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944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429000" y="5943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172200" y="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4000" y="2584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ss on the ch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versal body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50920" y="907920"/>
          <a:ext cx="8664480" cy="5675400"/>
        </p:xfrm>
        <a:graphic>
          <a:graphicData uri="http://schemas.openxmlformats.org/drawingml/2006/table">
            <a:tbl>
              <a:tblPr/>
              <a:tblGrid>
                <a:gridCol w="3457440"/>
                <a:gridCol w="5207040"/>
              </a:tblGrid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eaning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tired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hung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3726720" y="1557360"/>
            <a:ext cx="43700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ressing one’s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Together and rest on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head on the b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one’s h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80000" y="3706920"/>
            <a:ext cx="45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Moving the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circles over the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3760" y="4724280"/>
            <a:ext cx="349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at one’s stom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before a m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1640" y="57340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7560" y="386064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I’m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040" y="595944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lmost any 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791320" y="5638680"/>
            <a:ext cx="121428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7080" cy="1095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864800" y="2498760"/>
            <a:ext cx="60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What can you lea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       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from this pass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64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451560"/>
            <a:ext cx="9144000" cy="40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68360" y="2708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hen in Rome, do as the Romans do</a:t>
            </a:r>
            <a:r>
              <a:rPr b="0" i="1" lang="zh-CN" sz="3600" spc="-1" strike="noStrike">
                <a:solidFill>
                  <a:srgbClr val="ffff00"/>
                </a:solidFill>
                <a:latin typeface="Arial"/>
              </a:rPr>
              <a:t>！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55480" y="40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（入乡随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1800360" cy="9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4897440" cy="1738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43960" y="2463840"/>
            <a:ext cx="675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rast between the bod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nguage in China and that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27480" y="642960"/>
            <a:ext cx="28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Times New Roman"/>
              </a:rPr>
              <a:t>Ta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843280" y="4952880"/>
            <a:ext cx="3166920" cy="1905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28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6012000" y="4952880"/>
            <a:ext cx="3132000" cy="19051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324000" y="620640"/>
          <a:ext cx="8208720" cy="6228000"/>
        </p:xfrm>
        <a:graphic>
          <a:graphicData uri="http://schemas.openxmlformats.org/drawingml/2006/table">
            <a:tbl>
              <a:tblPr/>
              <a:tblGrid>
                <a:gridCol w="2232000"/>
                <a:gridCol w="3095640"/>
                <a:gridCol w="2881080"/>
              </a:tblGrid>
              <a:tr h="13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, don’t do th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ving the index finger from side to sid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don’t kno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rugging one’s should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l d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umbs 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dible. I can’t believe i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lling one’s eyes.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12040" y="442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3720" y="2054160"/>
            <a:ext cx="28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ving the h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from side to 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41200" y="359568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Shaking the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42000" y="5484960"/>
            <a:ext cx="24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Open one’s eye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uth w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79840" y="573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1080" y="472428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Thumbs up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956720" y="0"/>
            <a:ext cx="1187280" cy="1125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250920" y="692280"/>
          <a:ext cx="8642160" cy="5727600"/>
        </p:xfrm>
        <a:graphic>
          <a:graphicData uri="http://schemas.openxmlformats.org/drawingml/2006/table">
            <a:tbl>
              <a:tblPr/>
              <a:tblGrid>
                <a:gridCol w="2160360"/>
                <a:gridCol w="2952720"/>
                <a:gridCol w="352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e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Rubbing the thum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and forefinger 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z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in a circle in front of the ear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l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Cross the fing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forwards and backwar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-3960" y="1126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3584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5584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41520" y="1790640"/>
            <a:ext cx="38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Rubbing the thu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nd forefinger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9320" y="329256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the index fing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 circle from side to 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3640" y="42084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No such a ge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50800" y="4952880"/>
            <a:ext cx="41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one’s hand up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down with the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facing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6200" y="1143000"/>
            <a:ext cx="84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Goodbye, everyon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400800" cy="4038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400760" y="5300640"/>
            <a:ext cx="68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rab countries, you e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sing the fing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right hand; the left hand is not use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42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374508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32720" y="328464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148360" y="3284640"/>
            <a:ext cx="2303280" cy="720720"/>
          </a:xfrm>
          <a:prstGeom prst="wedgeRoundRectCallout">
            <a:avLst>
              <a:gd name="adj1" fmla="val 52824"/>
              <a:gd name="adj2" fmla="val 4801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1413000"/>
            <a:ext cx="2737080" cy="863640"/>
          </a:xfrm>
          <a:prstGeom prst="wedgeEllipseCallout">
            <a:avLst>
              <a:gd name="adj1" fmla="val -46518"/>
              <a:gd name="adj2" fmla="val 99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fore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0"/>
            <a:ext cx="2448000" cy="981000"/>
          </a:xfrm>
          <a:prstGeom prst="cloudCallout">
            <a:avLst>
              <a:gd name="adj1" fmla="val -44291"/>
              <a:gd name="adj2" fmla="val 700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549360"/>
            <a:ext cx="1656000" cy="93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205000"/>
            <a:ext cx="1871640" cy="10796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19560" cy="3581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582920" y="5172120"/>
            <a:ext cx="68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s of Asia you must not si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th your f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ointing 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other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2720" y="299880"/>
            <a:ext cx="883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or 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ran, nodding has the meaning of 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Russia , a visiting friend is gree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kiss on the chee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 France, people greet with each o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firm handsh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some countries, people greet ea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with a loving hug, a bow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y a nod of the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84720" y="278136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659640" y="580536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7772400" y="5783400"/>
            <a:ext cx="1371600" cy="1074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7596360" y="0"/>
            <a:ext cx="1476360" cy="10573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580000" y="3933720"/>
            <a:ext cx="800280" cy="762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343640" y="1523880"/>
            <a:ext cx="73368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024360" cy="530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4176720" cy="424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5229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530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125360"/>
            <a:ext cx="79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you want to learn more please look at the following gestu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5659560"/>
            <a:ext cx="1439640" cy="1198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236000" y="5489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1908000" cy="171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132000" y="3141720"/>
            <a:ext cx="2702160" cy="2948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556000" y="5524560"/>
            <a:ext cx="112392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732720" y="3500280"/>
            <a:ext cx="1346040" cy="165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060640"/>
            <a:ext cx="9144000" cy="137376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re are some gestures that are widely used in the English-speaking countries and other countries or places.   Do you know the meanings of the following gestur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53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Wait/Slowly/Impol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9640" y="5157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lay the finger-guessing 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957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349960" cy="2911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45720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andsh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257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welcome / </a:t>
            </a: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goodby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14800" cy="5105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13716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91120" cy="510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272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95920" y="990720"/>
            <a:ext cx="2548080" cy="1523880"/>
          </a:xfrm>
          <a:prstGeom prst="cloudCallout">
            <a:avLst>
              <a:gd name="adj1" fmla="val -117166"/>
              <a:gd name="adj2" fmla="val 63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tfpc user</cp:lastModifiedBy>
  <dcterms:modified xsi:type="dcterms:W3CDTF">2004-06-01T01:33:49Z</dcterms:modified>
  <cp:revision>103</cp:revision>
  <dc:subject/>
  <dc:title>PowerPoint Presentation</dc:title>
</cp:coreProperties>
</file>