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7E0-5A39-4751-AD65-FCDDF7FB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A58-93EC-4A5F-9E44-DAAE95F0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551-472E-44F3-BE96-8F16787A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D3B-210E-4D69-8B86-F240ED38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0D8-1524-4957-994D-64AE8973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1B6-02F2-4519-A18B-EE7C38A5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B79-24FF-47D1-A559-D4303B0E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AB2-0643-40FF-A1CC-95514DD9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86C-BD31-473F-AB68-2AF9EDE9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A43-EC58-462D-AFFC-025E0CD8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0DD-8432-4CAA-8B19-864B1AB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22D-4F33-4ED1-9013-658B0DD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1E24-0395-43D4-94B1-FB61E4F84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120" y="228600"/>
            <a:ext cx="35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should die before 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ask if you could bring a friend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360" y="1523880"/>
            <a:ext cx="506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f you live to be a hund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I want to live to be a hundred minus one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so I never have to li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without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429000"/>
            <a:ext cx="41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rue friendship is like sound heal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he value of it is seldom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until it is l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8680" y="4470480"/>
            <a:ext cx="553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if you only get it but once, do 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ouraged for you will know that you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49240" y="5486400"/>
            <a:ext cx="61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LEAST ONE GOOD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440" y="62485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antha@desilv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9200" y="13716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real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s one who walk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th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f the world walks ou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07160" y="3200400"/>
            <a:ext cx="333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y father alway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o say that when you d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f you've got five real fri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n you've had a great lif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6200" y="341280"/>
            <a:ext cx="305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ll my friends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jump off a brid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wouldn't jump with th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'd be at the bottom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ch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4040" y="5334120"/>
            <a:ext cx="45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ld a true friend with both your h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04920"/>
            <a:ext cx="231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'll lean on you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ou lean on m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e'll be ok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560" y="57913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iendship is one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 two bo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9800" y="457200"/>
            <a:ext cx="338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in front of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't walk behind 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may not l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 beside 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 my fri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3600" y="341280"/>
            <a:ext cx="273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Everyone h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Friends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what you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Best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isten to what you don'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s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114800"/>
            <a:ext cx="366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friend is someone who kn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song in your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nd can sing it back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n you have forg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words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all tak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aths in lif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t no matter where we 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e take a little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ther everywhere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44400" y="617220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iends are God's way of taking care of 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7640" y="304920"/>
            <a:ext cx="385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rang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ust friends waiting to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riends are the 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its in the Sa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owl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33920" y="1523880"/>
            <a:ext cx="486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s this on to all of your FRIENDS, even if it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nding it to the person that sent i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d if you receive this e-mail many tim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different people, it only means that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9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5:38:23Z</dcterms:created>
  <dc:creator>user</dc:creator>
  <dc:description/>
  <dc:language>en-US</dc:language>
  <cp:lastModifiedBy>user</cp:lastModifiedBy>
  <dcterms:modified xsi:type="dcterms:W3CDTF">2002-05-16T17:27:11Z</dcterms:modified>
  <cp:revision>25</cp:revision>
  <dc:subject/>
  <dc:title>Slide 1</dc:title>
</cp:coreProperties>
</file>