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3960-5776-4298-8A31-286FCDD91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7A67-E05B-483A-AD36-3644F56F4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3BA2-6392-4991-B8DF-55DE42AE8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CC5D-736C-4759-A7E2-7D6D05865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A2BB-DBB6-43FA-A459-6508216A0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06CB-876F-46F0-8602-7FE1A27EC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FCB4-4D75-431E-8528-8FB300ADE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FF13-0B2D-4985-B4FC-A8E8B6658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0075-A2A6-4575-BBFD-5B4EAE283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9D53-22EA-46AC-BC6A-D08137C3C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0BDC-9AC9-4000-96E2-4A04F1FE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A203-C43E-4DBC-88E5-EC042568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F5431-01C6-4BEB-B674-47D7B0D19B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4241880" cy="5029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70000" y="11844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married Miss R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3080" y="3429000"/>
            <a:ext cx="366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just didn’t know her 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me was ALWAYS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740320" y="457200"/>
            <a:ext cx="37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rriage is a 3-ring circ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690480" y="1600200"/>
            <a:ext cx="4019400" cy="1415880"/>
            <a:chOff x="690480" y="1600200"/>
            <a:chExt cx="4019400" cy="1415880"/>
          </a:xfrm>
        </p:grpSpPr>
        <p:grpSp>
          <p:nvGrpSpPr>
            <p:cNvPr id="46" name=""/>
            <p:cNvGrpSpPr/>
            <p:nvPr/>
          </p:nvGrpSpPr>
          <p:grpSpPr>
            <a:xfrm>
              <a:off x="690480" y="1600200"/>
              <a:ext cx="1447920" cy="1415880"/>
              <a:chOff x="690480" y="1600200"/>
              <a:chExt cx="1447920" cy="1415880"/>
            </a:xfrm>
          </p:grpSpPr>
          <p:sp>
            <p:nvSpPr>
              <p:cNvPr id="47" name=""/>
              <p:cNvSpPr/>
              <p:nvPr/>
            </p:nvSpPr>
            <p:spPr>
              <a:xfrm>
                <a:off x="690480" y="1600200"/>
                <a:ext cx="1447920" cy="1415880"/>
              </a:xfrm>
              <a:custGeom>
                <a:avLst/>
                <a:gdLst/>
                <a:ahLst/>
                <a:rect l="l" t="t" r="r" b="b"/>
                <a:pathLst>
                  <a:path w="3073" h="3254">
                    <a:moveTo>
                      <a:pt x="358" y="168"/>
                    </a:moveTo>
                    <a:lnTo>
                      <a:pt x="154" y="593"/>
                    </a:lnTo>
                    <a:lnTo>
                      <a:pt x="133" y="933"/>
                    </a:lnTo>
                    <a:lnTo>
                      <a:pt x="9" y="1206"/>
                    </a:lnTo>
                    <a:lnTo>
                      <a:pt x="38" y="1613"/>
                    </a:lnTo>
                    <a:lnTo>
                      <a:pt x="0" y="1983"/>
                    </a:lnTo>
                    <a:lnTo>
                      <a:pt x="162" y="2199"/>
                    </a:lnTo>
                    <a:lnTo>
                      <a:pt x="206" y="2410"/>
                    </a:lnTo>
                    <a:lnTo>
                      <a:pt x="627" y="2798"/>
                    </a:lnTo>
                    <a:lnTo>
                      <a:pt x="1049" y="3106"/>
                    </a:lnTo>
                    <a:lnTo>
                      <a:pt x="1053" y="3106"/>
                    </a:lnTo>
                    <a:lnTo>
                      <a:pt x="1066" y="3112"/>
                    </a:lnTo>
                    <a:lnTo>
                      <a:pt x="1088" y="3119"/>
                    </a:lnTo>
                    <a:lnTo>
                      <a:pt x="1116" y="3129"/>
                    </a:lnTo>
                    <a:lnTo>
                      <a:pt x="1149" y="3141"/>
                    </a:lnTo>
                    <a:lnTo>
                      <a:pt x="1185" y="3155"/>
                    </a:lnTo>
                    <a:lnTo>
                      <a:pt x="1225" y="3170"/>
                    </a:lnTo>
                    <a:lnTo>
                      <a:pt x="1267" y="3184"/>
                    </a:lnTo>
                    <a:lnTo>
                      <a:pt x="1307" y="3197"/>
                    </a:lnTo>
                    <a:lnTo>
                      <a:pt x="1348" y="3212"/>
                    </a:lnTo>
                    <a:lnTo>
                      <a:pt x="1386" y="3226"/>
                    </a:lnTo>
                    <a:lnTo>
                      <a:pt x="1420" y="3238"/>
                    </a:lnTo>
                    <a:lnTo>
                      <a:pt x="1451" y="3248"/>
                    </a:lnTo>
                    <a:lnTo>
                      <a:pt x="1476" y="3254"/>
                    </a:lnTo>
                    <a:lnTo>
                      <a:pt x="1492" y="3254"/>
                    </a:lnTo>
                    <a:lnTo>
                      <a:pt x="1500" y="3254"/>
                    </a:lnTo>
                    <a:lnTo>
                      <a:pt x="1510" y="3254"/>
                    </a:lnTo>
                    <a:lnTo>
                      <a:pt x="1532" y="3254"/>
                    </a:lnTo>
                    <a:lnTo>
                      <a:pt x="1564" y="3254"/>
                    </a:lnTo>
                    <a:lnTo>
                      <a:pt x="1605" y="3254"/>
                    </a:lnTo>
                    <a:lnTo>
                      <a:pt x="1653" y="3254"/>
                    </a:lnTo>
                    <a:lnTo>
                      <a:pt x="1705" y="3251"/>
                    </a:lnTo>
                    <a:lnTo>
                      <a:pt x="1760" y="3248"/>
                    </a:lnTo>
                    <a:lnTo>
                      <a:pt x="1818" y="3244"/>
                    </a:lnTo>
                    <a:lnTo>
                      <a:pt x="1875" y="3241"/>
                    </a:lnTo>
                    <a:lnTo>
                      <a:pt x="1930" y="3238"/>
                    </a:lnTo>
                    <a:lnTo>
                      <a:pt x="1980" y="3234"/>
                    </a:lnTo>
                    <a:lnTo>
                      <a:pt x="2027" y="3231"/>
                    </a:lnTo>
                    <a:lnTo>
                      <a:pt x="2066" y="3228"/>
                    </a:lnTo>
                    <a:lnTo>
                      <a:pt x="2097" y="3226"/>
                    </a:lnTo>
                    <a:lnTo>
                      <a:pt x="2115" y="3226"/>
                    </a:lnTo>
                    <a:lnTo>
                      <a:pt x="2123" y="3226"/>
                    </a:lnTo>
                    <a:lnTo>
                      <a:pt x="2707" y="2928"/>
                    </a:lnTo>
                    <a:lnTo>
                      <a:pt x="2964" y="2453"/>
                    </a:lnTo>
                    <a:lnTo>
                      <a:pt x="3073" y="1838"/>
                    </a:lnTo>
                    <a:lnTo>
                      <a:pt x="2977" y="1426"/>
                    </a:lnTo>
                    <a:lnTo>
                      <a:pt x="2857" y="1007"/>
                    </a:lnTo>
                    <a:lnTo>
                      <a:pt x="2654" y="856"/>
                    </a:lnTo>
                    <a:lnTo>
                      <a:pt x="2541" y="567"/>
                    </a:lnTo>
                    <a:lnTo>
                      <a:pt x="2339" y="432"/>
                    </a:lnTo>
                    <a:lnTo>
                      <a:pt x="1991" y="322"/>
                    </a:lnTo>
                    <a:lnTo>
                      <a:pt x="1735" y="241"/>
                    </a:lnTo>
                    <a:lnTo>
                      <a:pt x="1476" y="203"/>
                    </a:lnTo>
                    <a:lnTo>
                      <a:pt x="1233" y="58"/>
                    </a:lnTo>
                    <a:lnTo>
                      <a:pt x="855" y="0"/>
                    </a:lnTo>
                    <a:lnTo>
                      <a:pt x="358" y="168"/>
                    </a:lnTo>
                    <a:lnTo>
                      <a:pt x="358" y="168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927720" y="2010240"/>
                <a:ext cx="1171800" cy="983520"/>
              </a:xfrm>
              <a:custGeom>
                <a:avLst/>
                <a:gdLst/>
                <a:ahLst/>
                <a:rect l="l" t="t" r="r" b="b"/>
                <a:pathLst>
                  <a:path w="2489" h="2260">
                    <a:moveTo>
                      <a:pt x="307" y="1257"/>
                    </a:moveTo>
                    <a:lnTo>
                      <a:pt x="177" y="1491"/>
                    </a:lnTo>
                    <a:lnTo>
                      <a:pt x="0" y="1588"/>
                    </a:lnTo>
                    <a:lnTo>
                      <a:pt x="298" y="1928"/>
                    </a:lnTo>
                    <a:lnTo>
                      <a:pt x="826" y="2221"/>
                    </a:lnTo>
                    <a:lnTo>
                      <a:pt x="1473" y="2260"/>
                    </a:lnTo>
                    <a:lnTo>
                      <a:pt x="2072" y="2016"/>
                    </a:lnTo>
                    <a:lnTo>
                      <a:pt x="2349" y="1640"/>
                    </a:lnTo>
                    <a:lnTo>
                      <a:pt x="2489" y="927"/>
                    </a:lnTo>
                    <a:lnTo>
                      <a:pt x="2389" y="282"/>
                    </a:lnTo>
                    <a:lnTo>
                      <a:pt x="2175" y="0"/>
                    </a:lnTo>
                    <a:lnTo>
                      <a:pt x="1985" y="195"/>
                    </a:lnTo>
                    <a:lnTo>
                      <a:pt x="1765" y="336"/>
                    </a:lnTo>
                    <a:lnTo>
                      <a:pt x="1985" y="604"/>
                    </a:lnTo>
                    <a:lnTo>
                      <a:pt x="2052" y="1066"/>
                    </a:lnTo>
                    <a:lnTo>
                      <a:pt x="1932" y="1458"/>
                    </a:lnTo>
                    <a:lnTo>
                      <a:pt x="1538" y="1793"/>
                    </a:lnTo>
                    <a:lnTo>
                      <a:pt x="1070" y="1880"/>
                    </a:lnTo>
                    <a:lnTo>
                      <a:pt x="682" y="1719"/>
                    </a:lnTo>
                    <a:lnTo>
                      <a:pt x="307" y="1257"/>
                    </a:lnTo>
                    <a:lnTo>
                      <a:pt x="307" y="1257"/>
                    </a:lnTo>
                    <a:close/>
                  </a:path>
                </a:pathLst>
              </a:custGeom>
              <a:solidFill>
                <a:srgbClr val="fff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08480" y="1636920"/>
                <a:ext cx="1228320" cy="1045800"/>
              </a:xfrm>
              <a:custGeom>
                <a:avLst/>
                <a:gdLst/>
                <a:ahLst/>
                <a:rect l="l" t="t" r="r" b="b"/>
                <a:pathLst>
                  <a:path w="2607" h="2401">
                    <a:moveTo>
                      <a:pt x="409" y="107"/>
                    </a:moveTo>
                    <a:lnTo>
                      <a:pt x="243" y="371"/>
                    </a:lnTo>
                    <a:lnTo>
                      <a:pt x="193" y="809"/>
                    </a:lnTo>
                    <a:lnTo>
                      <a:pt x="68" y="1037"/>
                    </a:lnTo>
                    <a:lnTo>
                      <a:pt x="72" y="1311"/>
                    </a:lnTo>
                    <a:lnTo>
                      <a:pt x="95" y="1479"/>
                    </a:lnTo>
                    <a:lnTo>
                      <a:pt x="0" y="1738"/>
                    </a:lnTo>
                    <a:lnTo>
                      <a:pt x="91" y="1991"/>
                    </a:lnTo>
                    <a:lnTo>
                      <a:pt x="243" y="2084"/>
                    </a:lnTo>
                    <a:lnTo>
                      <a:pt x="243" y="2267"/>
                    </a:lnTo>
                    <a:lnTo>
                      <a:pt x="393" y="2401"/>
                    </a:lnTo>
                    <a:lnTo>
                      <a:pt x="613" y="2299"/>
                    </a:lnTo>
                    <a:lnTo>
                      <a:pt x="748" y="2022"/>
                    </a:lnTo>
                    <a:lnTo>
                      <a:pt x="944" y="1729"/>
                    </a:lnTo>
                    <a:lnTo>
                      <a:pt x="1094" y="1552"/>
                    </a:lnTo>
                    <a:lnTo>
                      <a:pt x="1253" y="1572"/>
                    </a:lnTo>
                    <a:lnTo>
                      <a:pt x="1497" y="1455"/>
                    </a:lnTo>
                    <a:lnTo>
                      <a:pt x="1588" y="1236"/>
                    </a:lnTo>
                    <a:lnTo>
                      <a:pt x="1783" y="1202"/>
                    </a:lnTo>
                    <a:lnTo>
                      <a:pt x="1905" y="1101"/>
                    </a:lnTo>
                    <a:lnTo>
                      <a:pt x="2211" y="1159"/>
                    </a:lnTo>
                    <a:lnTo>
                      <a:pt x="2386" y="1018"/>
                    </a:lnTo>
                    <a:lnTo>
                      <a:pt x="2421" y="950"/>
                    </a:lnTo>
                    <a:lnTo>
                      <a:pt x="2607" y="847"/>
                    </a:lnTo>
                    <a:lnTo>
                      <a:pt x="2484" y="610"/>
                    </a:lnTo>
                    <a:lnTo>
                      <a:pt x="2124" y="307"/>
                    </a:lnTo>
                    <a:lnTo>
                      <a:pt x="1938" y="298"/>
                    </a:lnTo>
                    <a:lnTo>
                      <a:pt x="1764" y="216"/>
                    </a:lnTo>
                    <a:lnTo>
                      <a:pt x="1578" y="251"/>
                    </a:lnTo>
                    <a:lnTo>
                      <a:pt x="1390" y="197"/>
                    </a:lnTo>
                    <a:lnTo>
                      <a:pt x="1327" y="175"/>
                    </a:lnTo>
                    <a:lnTo>
                      <a:pt x="1121" y="14"/>
                    </a:lnTo>
                    <a:lnTo>
                      <a:pt x="728" y="0"/>
                    </a:lnTo>
                    <a:lnTo>
                      <a:pt x="409" y="107"/>
                    </a:lnTo>
                    <a:lnTo>
                      <a:pt x="409" y="107"/>
                    </a:lnTo>
                    <a:close/>
                  </a:path>
                </a:pathLst>
              </a:cu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532880" y="1811880"/>
                <a:ext cx="253080" cy="174960"/>
              </a:xfrm>
              <a:custGeom>
                <a:avLst/>
                <a:gdLst/>
                <a:ahLst/>
                <a:rect l="l" t="t" r="r" b="b"/>
                <a:pathLst>
                  <a:path w="537" h="402">
                    <a:moveTo>
                      <a:pt x="0" y="306"/>
                    </a:moveTo>
                    <a:lnTo>
                      <a:pt x="339" y="387"/>
                    </a:lnTo>
                    <a:lnTo>
                      <a:pt x="537" y="402"/>
                    </a:lnTo>
                    <a:lnTo>
                      <a:pt x="514" y="176"/>
                    </a:lnTo>
                    <a:lnTo>
                      <a:pt x="310" y="157"/>
                    </a:lnTo>
                    <a:lnTo>
                      <a:pt x="197" y="0"/>
                    </a:lnTo>
                    <a:lnTo>
                      <a:pt x="48" y="167"/>
                    </a:lnTo>
                    <a:lnTo>
                      <a:pt x="0" y="306"/>
                    </a:lnTo>
                    <a:lnTo>
                      <a:pt x="0" y="306"/>
                    </a:lnTo>
                    <a:close/>
                  </a:path>
                </a:pathLst>
              </a:custGeom>
              <a:solidFill>
                <a:srgbClr val="b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19000" y="2226960"/>
                <a:ext cx="145440" cy="261000"/>
              </a:xfrm>
              <a:custGeom>
                <a:avLst/>
                <a:gdLst/>
                <a:ahLst/>
                <a:rect l="l" t="t" r="r" b="b"/>
                <a:pathLst>
                  <a:path w="310" h="600">
                    <a:moveTo>
                      <a:pt x="0" y="110"/>
                    </a:moveTo>
                    <a:lnTo>
                      <a:pt x="154" y="0"/>
                    </a:lnTo>
                    <a:lnTo>
                      <a:pt x="290" y="71"/>
                    </a:lnTo>
                    <a:lnTo>
                      <a:pt x="287" y="345"/>
                    </a:lnTo>
                    <a:lnTo>
                      <a:pt x="310" y="600"/>
                    </a:lnTo>
                    <a:lnTo>
                      <a:pt x="48" y="581"/>
                    </a:lnTo>
                    <a:lnTo>
                      <a:pt x="45" y="560"/>
                    </a:lnTo>
                    <a:lnTo>
                      <a:pt x="43" y="538"/>
                    </a:lnTo>
                    <a:lnTo>
                      <a:pt x="40" y="516"/>
                    </a:lnTo>
                    <a:lnTo>
                      <a:pt x="39" y="496"/>
                    </a:lnTo>
                    <a:lnTo>
                      <a:pt x="37" y="474"/>
                    </a:lnTo>
                    <a:lnTo>
                      <a:pt x="35" y="454"/>
                    </a:lnTo>
                    <a:lnTo>
                      <a:pt x="33" y="432"/>
                    </a:lnTo>
                    <a:lnTo>
                      <a:pt x="32" y="412"/>
                    </a:lnTo>
                    <a:lnTo>
                      <a:pt x="30" y="390"/>
                    </a:lnTo>
                    <a:lnTo>
                      <a:pt x="27" y="368"/>
                    </a:lnTo>
                    <a:lnTo>
                      <a:pt x="26" y="346"/>
                    </a:lnTo>
                    <a:lnTo>
                      <a:pt x="24" y="326"/>
                    </a:lnTo>
                    <a:lnTo>
                      <a:pt x="23" y="304"/>
                    </a:lnTo>
                    <a:lnTo>
                      <a:pt x="22" y="284"/>
                    </a:lnTo>
                    <a:lnTo>
                      <a:pt x="20" y="264"/>
                    </a:lnTo>
                    <a:lnTo>
                      <a:pt x="19" y="242"/>
                    </a:lnTo>
                    <a:lnTo>
                      <a:pt x="0" y="110"/>
                    </a:lnTo>
                    <a:lnTo>
                      <a:pt x="0" y="110"/>
                    </a:lnTo>
                    <a:close/>
                  </a:path>
                </a:pathLst>
              </a:custGeom>
              <a:solidFill>
                <a:srgbClr val="b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27640" y="1660320"/>
                <a:ext cx="648720" cy="608400"/>
              </a:xfrm>
              <a:custGeom>
                <a:avLst/>
                <a:gdLst/>
                <a:ahLst/>
                <a:rect l="l" t="t" r="r" b="b"/>
                <a:pathLst>
                  <a:path w="1375" h="1397">
                    <a:moveTo>
                      <a:pt x="246" y="64"/>
                    </a:moveTo>
                    <a:lnTo>
                      <a:pt x="87" y="283"/>
                    </a:lnTo>
                    <a:lnTo>
                      <a:pt x="0" y="537"/>
                    </a:lnTo>
                    <a:lnTo>
                      <a:pt x="0" y="878"/>
                    </a:lnTo>
                    <a:lnTo>
                      <a:pt x="149" y="1027"/>
                    </a:lnTo>
                    <a:lnTo>
                      <a:pt x="262" y="1212"/>
                    </a:lnTo>
                    <a:lnTo>
                      <a:pt x="407" y="1310"/>
                    </a:lnTo>
                    <a:lnTo>
                      <a:pt x="651" y="1319"/>
                    </a:lnTo>
                    <a:lnTo>
                      <a:pt x="1004" y="1397"/>
                    </a:lnTo>
                    <a:lnTo>
                      <a:pt x="1218" y="1319"/>
                    </a:lnTo>
                    <a:lnTo>
                      <a:pt x="1310" y="1081"/>
                    </a:lnTo>
                    <a:lnTo>
                      <a:pt x="1346" y="882"/>
                    </a:lnTo>
                    <a:lnTo>
                      <a:pt x="1375" y="610"/>
                    </a:lnTo>
                    <a:lnTo>
                      <a:pt x="1259" y="359"/>
                    </a:lnTo>
                    <a:lnTo>
                      <a:pt x="1073" y="153"/>
                    </a:lnTo>
                    <a:lnTo>
                      <a:pt x="882" y="44"/>
                    </a:lnTo>
                    <a:lnTo>
                      <a:pt x="557" y="0"/>
                    </a:lnTo>
                    <a:lnTo>
                      <a:pt x="246" y="64"/>
                    </a:lnTo>
                    <a:lnTo>
                      <a:pt x="246" y="64"/>
                    </a:lnTo>
                    <a:close/>
                  </a:path>
                </a:pathLst>
              </a:custGeom>
              <a:solidFill>
                <a:srgbClr val="e6a6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42760" y="1694160"/>
                <a:ext cx="606600" cy="549360"/>
              </a:xfrm>
              <a:custGeom>
                <a:avLst/>
                <a:gdLst/>
                <a:ahLst/>
                <a:rect l="l" t="t" r="r" b="b"/>
                <a:pathLst>
                  <a:path w="1287" h="1264">
                    <a:moveTo>
                      <a:pt x="876" y="13"/>
                    </a:moveTo>
                    <a:lnTo>
                      <a:pt x="894" y="22"/>
                    </a:lnTo>
                    <a:lnTo>
                      <a:pt x="911" y="31"/>
                    </a:lnTo>
                    <a:lnTo>
                      <a:pt x="927" y="41"/>
                    </a:lnTo>
                    <a:lnTo>
                      <a:pt x="942" y="54"/>
                    </a:lnTo>
                    <a:lnTo>
                      <a:pt x="956" y="67"/>
                    </a:lnTo>
                    <a:lnTo>
                      <a:pt x="969" y="79"/>
                    </a:lnTo>
                    <a:lnTo>
                      <a:pt x="984" y="92"/>
                    </a:lnTo>
                    <a:lnTo>
                      <a:pt x="997" y="108"/>
                    </a:lnTo>
                    <a:lnTo>
                      <a:pt x="1008" y="122"/>
                    </a:lnTo>
                    <a:lnTo>
                      <a:pt x="1020" y="137"/>
                    </a:lnTo>
                    <a:lnTo>
                      <a:pt x="1033" y="151"/>
                    </a:lnTo>
                    <a:lnTo>
                      <a:pt x="1048" y="167"/>
                    </a:lnTo>
                    <a:lnTo>
                      <a:pt x="1059" y="182"/>
                    </a:lnTo>
                    <a:lnTo>
                      <a:pt x="1075" y="197"/>
                    </a:lnTo>
                    <a:lnTo>
                      <a:pt x="1091" y="212"/>
                    </a:lnTo>
                    <a:lnTo>
                      <a:pt x="1108" y="228"/>
                    </a:lnTo>
                    <a:lnTo>
                      <a:pt x="1119" y="245"/>
                    </a:lnTo>
                    <a:lnTo>
                      <a:pt x="1132" y="263"/>
                    </a:lnTo>
                    <a:lnTo>
                      <a:pt x="1143" y="280"/>
                    </a:lnTo>
                    <a:lnTo>
                      <a:pt x="1155" y="299"/>
                    </a:lnTo>
                    <a:lnTo>
                      <a:pt x="1165" y="316"/>
                    </a:lnTo>
                    <a:lnTo>
                      <a:pt x="1175" y="335"/>
                    </a:lnTo>
                    <a:lnTo>
                      <a:pt x="1187" y="354"/>
                    </a:lnTo>
                    <a:lnTo>
                      <a:pt x="1197" y="373"/>
                    </a:lnTo>
                    <a:lnTo>
                      <a:pt x="1207" y="390"/>
                    </a:lnTo>
                    <a:lnTo>
                      <a:pt x="1219" y="409"/>
                    </a:lnTo>
                    <a:lnTo>
                      <a:pt x="1229" y="427"/>
                    </a:lnTo>
                    <a:lnTo>
                      <a:pt x="1239" y="444"/>
                    </a:lnTo>
                    <a:lnTo>
                      <a:pt x="1251" y="462"/>
                    </a:lnTo>
                    <a:lnTo>
                      <a:pt x="1261" y="480"/>
                    </a:lnTo>
                    <a:lnTo>
                      <a:pt x="1274" y="498"/>
                    </a:lnTo>
                    <a:lnTo>
                      <a:pt x="1287" y="515"/>
                    </a:lnTo>
                    <a:lnTo>
                      <a:pt x="1280" y="559"/>
                    </a:lnTo>
                    <a:lnTo>
                      <a:pt x="1274" y="602"/>
                    </a:lnTo>
                    <a:lnTo>
                      <a:pt x="1268" y="646"/>
                    </a:lnTo>
                    <a:lnTo>
                      <a:pt x="1261" y="689"/>
                    </a:lnTo>
                    <a:lnTo>
                      <a:pt x="1254" y="731"/>
                    </a:lnTo>
                    <a:lnTo>
                      <a:pt x="1246" y="775"/>
                    </a:lnTo>
                    <a:lnTo>
                      <a:pt x="1236" y="817"/>
                    </a:lnTo>
                    <a:lnTo>
                      <a:pt x="1229" y="860"/>
                    </a:lnTo>
                    <a:lnTo>
                      <a:pt x="1217" y="901"/>
                    </a:lnTo>
                    <a:lnTo>
                      <a:pt x="1206" y="943"/>
                    </a:lnTo>
                    <a:lnTo>
                      <a:pt x="1193" y="984"/>
                    </a:lnTo>
                    <a:lnTo>
                      <a:pt x="1180" y="1026"/>
                    </a:lnTo>
                    <a:lnTo>
                      <a:pt x="1165" y="1066"/>
                    </a:lnTo>
                    <a:lnTo>
                      <a:pt x="1149" y="1107"/>
                    </a:lnTo>
                    <a:lnTo>
                      <a:pt x="1130" y="1148"/>
                    </a:lnTo>
                    <a:lnTo>
                      <a:pt x="1113" y="1188"/>
                    </a:lnTo>
                    <a:lnTo>
                      <a:pt x="1101" y="1207"/>
                    </a:lnTo>
                    <a:lnTo>
                      <a:pt x="1090" y="1223"/>
                    </a:lnTo>
                    <a:lnTo>
                      <a:pt x="1077" y="1236"/>
                    </a:lnTo>
                    <a:lnTo>
                      <a:pt x="1065" y="1246"/>
                    </a:lnTo>
                    <a:lnTo>
                      <a:pt x="1050" y="1254"/>
                    </a:lnTo>
                    <a:lnTo>
                      <a:pt x="1037" y="1259"/>
                    </a:lnTo>
                    <a:lnTo>
                      <a:pt x="1023" y="1262"/>
                    </a:lnTo>
                    <a:lnTo>
                      <a:pt x="1010" y="1264"/>
                    </a:lnTo>
                    <a:lnTo>
                      <a:pt x="995" y="1264"/>
                    </a:lnTo>
                    <a:lnTo>
                      <a:pt x="981" y="1264"/>
                    </a:lnTo>
                    <a:lnTo>
                      <a:pt x="966" y="1261"/>
                    </a:lnTo>
                    <a:lnTo>
                      <a:pt x="952" y="1261"/>
                    </a:lnTo>
                    <a:lnTo>
                      <a:pt x="936" y="1256"/>
                    </a:lnTo>
                    <a:lnTo>
                      <a:pt x="921" y="1256"/>
                    </a:lnTo>
                    <a:lnTo>
                      <a:pt x="907" y="1255"/>
                    </a:lnTo>
                    <a:lnTo>
                      <a:pt x="894" y="1255"/>
                    </a:lnTo>
                    <a:lnTo>
                      <a:pt x="863" y="1249"/>
                    </a:lnTo>
                    <a:lnTo>
                      <a:pt x="831" y="1245"/>
                    </a:lnTo>
                    <a:lnTo>
                      <a:pt x="802" y="1238"/>
                    </a:lnTo>
                    <a:lnTo>
                      <a:pt x="772" y="1232"/>
                    </a:lnTo>
                    <a:lnTo>
                      <a:pt x="743" y="1223"/>
                    </a:lnTo>
                    <a:lnTo>
                      <a:pt x="714" y="1216"/>
                    </a:lnTo>
                    <a:lnTo>
                      <a:pt x="683" y="1207"/>
                    </a:lnTo>
                    <a:lnTo>
                      <a:pt x="654" y="1200"/>
                    </a:lnTo>
                    <a:lnTo>
                      <a:pt x="624" y="1191"/>
                    </a:lnTo>
                    <a:lnTo>
                      <a:pt x="595" y="1184"/>
                    </a:lnTo>
                    <a:lnTo>
                      <a:pt x="564" y="1177"/>
                    </a:lnTo>
                    <a:lnTo>
                      <a:pt x="535" y="1171"/>
                    </a:lnTo>
                    <a:lnTo>
                      <a:pt x="505" y="1165"/>
                    </a:lnTo>
                    <a:lnTo>
                      <a:pt x="474" y="1159"/>
                    </a:lnTo>
                    <a:lnTo>
                      <a:pt x="444" y="1156"/>
                    </a:lnTo>
                    <a:lnTo>
                      <a:pt x="412" y="1153"/>
                    </a:lnTo>
                    <a:lnTo>
                      <a:pt x="392" y="1143"/>
                    </a:lnTo>
                    <a:lnTo>
                      <a:pt x="374" y="1132"/>
                    </a:lnTo>
                    <a:lnTo>
                      <a:pt x="355" y="1119"/>
                    </a:lnTo>
                    <a:lnTo>
                      <a:pt x="341" y="1104"/>
                    </a:lnTo>
                    <a:lnTo>
                      <a:pt x="324" y="1087"/>
                    </a:lnTo>
                    <a:lnTo>
                      <a:pt x="309" y="1071"/>
                    </a:lnTo>
                    <a:lnTo>
                      <a:pt x="296" y="1053"/>
                    </a:lnTo>
                    <a:lnTo>
                      <a:pt x="281" y="1036"/>
                    </a:lnTo>
                    <a:lnTo>
                      <a:pt x="267" y="1017"/>
                    </a:lnTo>
                    <a:lnTo>
                      <a:pt x="252" y="998"/>
                    </a:lnTo>
                    <a:lnTo>
                      <a:pt x="238" y="979"/>
                    </a:lnTo>
                    <a:lnTo>
                      <a:pt x="225" y="963"/>
                    </a:lnTo>
                    <a:lnTo>
                      <a:pt x="210" y="945"/>
                    </a:lnTo>
                    <a:lnTo>
                      <a:pt x="196" y="929"/>
                    </a:lnTo>
                    <a:lnTo>
                      <a:pt x="180" y="914"/>
                    </a:lnTo>
                    <a:lnTo>
                      <a:pt x="164" y="901"/>
                    </a:lnTo>
                    <a:lnTo>
                      <a:pt x="152" y="888"/>
                    </a:lnTo>
                    <a:lnTo>
                      <a:pt x="142" y="876"/>
                    </a:lnTo>
                    <a:lnTo>
                      <a:pt x="132" y="863"/>
                    </a:lnTo>
                    <a:lnTo>
                      <a:pt x="123" y="852"/>
                    </a:lnTo>
                    <a:lnTo>
                      <a:pt x="113" y="840"/>
                    </a:lnTo>
                    <a:lnTo>
                      <a:pt x="103" y="827"/>
                    </a:lnTo>
                    <a:lnTo>
                      <a:pt x="94" y="815"/>
                    </a:lnTo>
                    <a:lnTo>
                      <a:pt x="86" y="804"/>
                    </a:lnTo>
                    <a:lnTo>
                      <a:pt x="75" y="792"/>
                    </a:lnTo>
                    <a:lnTo>
                      <a:pt x="64" y="779"/>
                    </a:lnTo>
                    <a:lnTo>
                      <a:pt x="54" y="769"/>
                    </a:lnTo>
                    <a:lnTo>
                      <a:pt x="45" y="757"/>
                    </a:lnTo>
                    <a:lnTo>
                      <a:pt x="33" y="747"/>
                    </a:lnTo>
                    <a:lnTo>
                      <a:pt x="23" y="737"/>
                    </a:lnTo>
                    <a:lnTo>
                      <a:pt x="12" y="726"/>
                    </a:lnTo>
                    <a:lnTo>
                      <a:pt x="0" y="717"/>
                    </a:lnTo>
                    <a:lnTo>
                      <a:pt x="4" y="675"/>
                    </a:lnTo>
                    <a:lnTo>
                      <a:pt x="12" y="636"/>
                    </a:lnTo>
                    <a:lnTo>
                      <a:pt x="19" y="595"/>
                    </a:lnTo>
                    <a:lnTo>
                      <a:pt x="28" y="557"/>
                    </a:lnTo>
                    <a:lnTo>
                      <a:pt x="36" y="518"/>
                    </a:lnTo>
                    <a:lnTo>
                      <a:pt x="45" y="480"/>
                    </a:lnTo>
                    <a:lnTo>
                      <a:pt x="54" y="443"/>
                    </a:lnTo>
                    <a:lnTo>
                      <a:pt x="65" y="405"/>
                    </a:lnTo>
                    <a:lnTo>
                      <a:pt x="75" y="369"/>
                    </a:lnTo>
                    <a:lnTo>
                      <a:pt x="86" y="331"/>
                    </a:lnTo>
                    <a:lnTo>
                      <a:pt x="97" y="295"/>
                    </a:lnTo>
                    <a:lnTo>
                      <a:pt x="110" y="257"/>
                    </a:lnTo>
                    <a:lnTo>
                      <a:pt x="122" y="219"/>
                    </a:lnTo>
                    <a:lnTo>
                      <a:pt x="132" y="182"/>
                    </a:lnTo>
                    <a:lnTo>
                      <a:pt x="145" y="145"/>
                    </a:lnTo>
                    <a:lnTo>
                      <a:pt x="157" y="108"/>
                    </a:lnTo>
                    <a:lnTo>
                      <a:pt x="164" y="99"/>
                    </a:lnTo>
                    <a:lnTo>
                      <a:pt x="171" y="89"/>
                    </a:lnTo>
                    <a:lnTo>
                      <a:pt x="181" y="80"/>
                    </a:lnTo>
                    <a:lnTo>
                      <a:pt x="190" y="73"/>
                    </a:lnTo>
                    <a:lnTo>
                      <a:pt x="199" y="64"/>
                    </a:lnTo>
                    <a:lnTo>
                      <a:pt x="206" y="58"/>
                    </a:lnTo>
                    <a:lnTo>
                      <a:pt x="213" y="52"/>
                    </a:lnTo>
                    <a:lnTo>
                      <a:pt x="221" y="47"/>
                    </a:lnTo>
                    <a:lnTo>
                      <a:pt x="250" y="81"/>
                    </a:lnTo>
                    <a:lnTo>
                      <a:pt x="250" y="99"/>
                    </a:lnTo>
                    <a:lnTo>
                      <a:pt x="250" y="118"/>
                    </a:lnTo>
                    <a:lnTo>
                      <a:pt x="245" y="137"/>
                    </a:lnTo>
                    <a:lnTo>
                      <a:pt x="242" y="155"/>
                    </a:lnTo>
                    <a:lnTo>
                      <a:pt x="235" y="171"/>
                    </a:lnTo>
                    <a:lnTo>
                      <a:pt x="229" y="189"/>
                    </a:lnTo>
                    <a:lnTo>
                      <a:pt x="222" y="205"/>
                    </a:lnTo>
                    <a:lnTo>
                      <a:pt x="215" y="224"/>
                    </a:lnTo>
                    <a:lnTo>
                      <a:pt x="206" y="240"/>
                    </a:lnTo>
                    <a:lnTo>
                      <a:pt x="197" y="255"/>
                    </a:lnTo>
                    <a:lnTo>
                      <a:pt x="189" y="273"/>
                    </a:lnTo>
                    <a:lnTo>
                      <a:pt x="183" y="290"/>
                    </a:lnTo>
                    <a:lnTo>
                      <a:pt x="176" y="309"/>
                    </a:lnTo>
                    <a:lnTo>
                      <a:pt x="171" y="327"/>
                    </a:lnTo>
                    <a:lnTo>
                      <a:pt x="167" y="345"/>
                    </a:lnTo>
                    <a:lnTo>
                      <a:pt x="164" y="366"/>
                    </a:lnTo>
                    <a:lnTo>
                      <a:pt x="160" y="385"/>
                    </a:lnTo>
                    <a:lnTo>
                      <a:pt x="154" y="403"/>
                    </a:lnTo>
                    <a:lnTo>
                      <a:pt x="149" y="422"/>
                    </a:lnTo>
                    <a:lnTo>
                      <a:pt x="145" y="441"/>
                    </a:lnTo>
                    <a:lnTo>
                      <a:pt x="139" y="460"/>
                    </a:lnTo>
                    <a:lnTo>
                      <a:pt x="135" y="479"/>
                    </a:lnTo>
                    <a:lnTo>
                      <a:pt x="131" y="498"/>
                    </a:lnTo>
                    <a:lnTo>
                      <a:pt x="126" y="517"/>
                    </a:lnTo>
                    <a:lnTo>
                      <a:pt x="122" y="535"/>
                    </a:lnTo>
                    <a:lnTo>
                      <a:pt x="118" y="554"/>
                    </a:lnTo>
                    <a:lnTo>
                      <a:pt x="112" y="573"/>
                    </a:lnTo>
                    <a:lnTo>
                      <a:pt x="109" y="594"/>
                    </a:lnTo>
                    <a:lnTo>
                      <a:pt x="104" y="612"/>
                    </a:lnTo>
                    <a:lnTo>
                      <a:pt x="102" y="633"/>
                    </a:lnTo>
                    <a:lnTo>
                      <a:pt x="99" y="652"/>
                    </a:lnTo>
                    <a:lnTo>
                      <a:pt x="97" y="672"/>
                    </a:lnTo>
                    <a:lnTo>
                      <a:pt x="115" y="697"/>
                    </a:lnTo>
                    <a:lnTo>
                      <a:pt x="132" y="720"/>
                    </a:lnTo>
                    <a:lnTo>
                      <a:pt x="152" y="744"/>
                    </a:lnTo>
                    <a:lnTo>
                      <a:pt x="173" y="768"/>
                    </a:lnTo>
                    <a:lnTo>
                      <a:pt x="192" y="789"/>
                    </a:lnTo>
                    <a:lnTo>
                      <a:pt x="212" y="814"/>
                    </a:lnTo>
                    <a:lnTo>
                      <a:pt x="232" y="837"/>
                    </a:lnTo>
                    <a:lnTo>
                      <a:pt x="252" y="860"/>
                    </a:lnTo>
                    <a:lnTo>
                      <a:pt x="273" y="884"/>
                    </a:lnTo>
                    <a:lnTo>
                      <a:pt x="293" y="907"/>
                    </a:lnTo>
                    <a:lnTo>
                      <a:pt x="313" y="930"/>
                    </a:lnTo>
                    <a:lnTo>
                      <a:pt x="334" y="953"/>
                    </a:lnTo>
                    <a:lnTo>
                      <a:pt x="353" y="978"/>
                    </a:lnTo>
                    <a:lnTo>
                      <a:pt x="370" y="1001"/>
                    </a:lnTo>
                    <a:lnTo>
                      <a:pt x="389" y="1026"/>
                    </a:lnTo>
                    <a:lnTo>
                      <a:pt x="408" y="1052"/>
                    </a:lnTo>
                    <a:lnTo>
                      <a:pt x="443" y="1058"/>
                    </a:lnTo>
                    <a:lnTo>
                      <a:pt x="479" y="1065"/>
                    </a:lnTo>
                    <a:lnTo>
                      <a:pt x="514" y="1071"/>
                    </a:lnTo>
                    <a:lnTo>
                      <a:pt x="550" y="1080"/>
                    </a:lnTo>
                    <a:lnTo>
                      <a:pt x="583" y="1088"/>
                    </a:lnTo>
                    <a:lnTo>
                      <a:pt x="618" y="1097"/>
                    </a:lnTo>
                    <a:lnTo>
                      <a:pt x="654" y="1107"/>
                    </a:lnTo>
                    <a:lnTo>
                      <a:pt x="689" y="1117"/>
                    </a:lnTo>
                    <a:lnTo>
                      <a:pt x="724" y="1124"/>
                    </a:lnTo>
                    <a:lnTo>
                      <a:pt x="760" y="1133"/>
                    </a:lnTo>
                    <a:lnTo>
                      <a:pt x="795" y="1140"/>
                    </a:lnTo>
                    <a:lnTo>
                      <a:pt x="831" y="1149"/>
                    </a:lnTo>
                    <a:lnTo>
                      <a:pt x="866" y="1153"/>
                    </a:lnTo>
                    <a:lnTo>
                      <a:pt x="904" y="1161"/>
                    </a:lnTo>
                    <a:lnTo>
                      <a:pt x="942" y="1165"/>
                    </a:lnTo>
                    <a:lnTo>
                      <a:pt x="981" y="1168"/>
                    </a:lnTo>
                    <a:lnTo>
                      <a:pt x="1001" y="1152"/>
                    </a:lnTo>
                    <a:lnTo>
                      <a:pt x="1021" y="1133"/>
                    </a:lnTo>
                    <a:lnTo>
                      <a:pt x="1037" y="1113"/>
                    </a:lnTo>
                    <a:lnTo>
                      <a:pt x="1052" y="1093"/>
                    </a:lnTo>
                    <a:lnTo>
                      <a:pt x="1062" y="1068"/>
                    </a:lnTo>
                    <a:lnTo>
                      <a:pt x="1072" y="1045"/>
                    </a:lnTo>
                    <a:lnTo>
                      <a:pt x="1079" y="1019"/>
                    </a:lnTo>
                    <a:lnTo>
                      <a:pt x="1088" y="994"/>
                    </a:lnTo>
                    <a:lnTo>
                      <a:pt x="1094" y="968"/>
                    </a:lnTo>
                    <a:lnTo>
                      <a:pt x="1100" y="940"/>
                    </a:lnTo>
                    <a:lnTo>
                      <a:pt x="1104" y="913"/>
                    </a:lnTo>
                    <a:lnTo>
                      <a:pt x="1111" y="887"/>
                    </a:lnTo>
                    <a:lnTo>
                      <a:pt x="1117" y="860"/>
                    </a:lnTo>
                    <a:lnTo>
                      <a:pt x="1124" y="836"/>
                    </a:lnTo>
                    <a:lnTo>
                      <a:pt x="1132" y="811"/>
                    </a:lnTo>
                    <a:lnTo>
                      <a:pt x="1142" y="789"/>
                    </a:lnTo>
                    <a:lnTo>
                      <a:pt x="1143" y="771"/>
                    </a:lnTo>
                    <a:lnTo>
                      <a:pt x="1146" y="752"/>
                    </a:lnTo>
                    <a:lnTo>
                      <a:pt x="1151" y="733"/>
                    </a:lnTo>
                    <a:lnTo>
                      <a:pt x="1158" y="715"/>
                    </a:lnTo>
                    <a:lnTo>
                      <a:pt x="1164" y="697"/>
                    </a:lnTo>
                    <a:lnTo>
                      <a:pt x="1169" y="676"/>
                    </a:lnTo>
                    <a:lnTo>
                      <a:pt x="1175" y="657"/>
                    </a:lnTo>
                    <a:lnTo>
                      <a:pt x="1182" y="638"/>
                    </a:lnTo>
                    <a:lnTo>
                      <a:pt x="1187" y="618"/>
                    </a:lnTo>
                    <a:lnTo>
                      <a:pt x="1190" y="599"/>
                    </a:lnTo>
                    <a:lnTo>
                      <a:pt x="1191" y="580"/>
                    </a:lnTo>
                    <a:lnTo>
                      <a:pt x="1191" y="562"/>
                    </a:lnTo>
                    <a:lnTo>
                      <a:pt x="1188" y="544"/>
                    </a:lnTo>
                    <a:lnTo>
                      <a:pt x="1182" y="525"/>
                    </a:lnTo>
                    <a:lnTo>
                      <a:pt x="1172" y="508"/>
                    </a:lnTo>
                    <a:lnTo>
                      <a:pt x="1161" y="492"/>
                    </a:lnTo>
                    <a:lnTo>
                      <a:pt x="1148" y="464"/>
                    </a:lnTo>
                    <a:lnTo>
                      <a:pt x="1133" y="437"/>
                    </a:lnTo>
                    <a:lnTo>
                      <a:pt x="1119" y="412"/>
                    </a:lnTo>
                    <a:lnTo>
                      <a:pt x="1104" y="388"/>
                    </a:lnTo>
                    <a:lnTo>
                      <a:pt x="1087" y="361"/>
                    </a:lnTo>
                    <a:lnTo>
                      <a:pt x="1069" y="337"/>
                    </a:lnTo>
                    <a:lnTo>
                      <a:pt x="1052" y="312"/>
                    </a:lnTo>
                    <a:lnTo>
                      <a:pt x="1033" y="289"/>
                    </a:lnTo>
                    <a:lnTo>
                      <a:pt x="1013" y="264"/>
                    </a:lnTo>
                    <a:lnTo>
                      <a:pt x="994" y="241"/>
                    </a:lnTo>
                    <a:lnTo>
                      <a:pt x="974" y="218"/>
                    </a:lnTo>
                    <a:lnTo>
                      <a:pt x="955" y="195"/>
                    </a:lnTo>
                    <a:lnTo>
                      <a:pt x="934" y="171"/>
                    </a:lnTo>
                    <a:lnTo>
                      <a:pt x="913" y="148"/>
                    </a:lnTo>
                    <a:lnTo>
                      <a:pt x="892" y="125"/>
                    </a:lnTo>
                    <a:lnTo>
                      <a:pt x="873" y="102"/>
                    </a:lnTo>
                    <a:lnTo>
                      <a:pt x="839" y="100"/>
                    </a:lnTo>
                    <a:lnTo>
                      <a:pt x="802" y="99"/>
                    </a:lnTo>
                    <a:lnTo>
                      <a:pt x="765" y="99"/>
                    </a:lnTo>
                    <a:lnTo>
                      <a:pt x="728" y="97"/>
                    </a:lnTo>
                    <a:lnTo>
                      <a:pt x="691" y="94"/>
                    </a:lnTo>
                    <a:lnTo>
                      <a:pt x="654" y="94"/>
                    </a:lnTo>
                    <a:lnTo>
                      <a:pt x="615" y="93"/>
                    </a:lnTo>
                    <a:lnTo>
                      <a:pt x="579" y="92"/>
                    </a:lnTo>
                    <a:lnTo>
                      <a:pt x="540" y="90"/>
                    </a:lnTo>
                    <a:lnTo>
                      <a:pt x="502" y="87"/>
                    </a:lnTo>
                    <a:lnTo>
                      <a:pt x="463" y="86"/>
                    </a:lnTo>
                    <a:lnTo>
                      <a:pt x="427" y="84"/>
                    </a:lnTo>
                    <a:lnTo>
                      <a:pt x="387" y="83"/>
                    </a:lnTo>
                    <a:lnTo>
                      <a:pt x="351" y="81"/>
                    </a:lnTo>
                    <a:lnTo>
                      <a:pt x="315" y="80"/>
                    </a:lnTo>
                    <a:lnTo>
                      <a:pt x="280" y="79"/>
                    </a:lnTo>
                    <a:lnTo>
                      <a:pt x="274" y="73"/>
                    </a:lnTo>
                    <a:lnTo>
                      <a:pt x="267" y="68"/>
                    </a:lnTo>
                    <a:lnTo>
                      <a:pt x="261" y="63"/>
                    </a:lnTo>
                    <a:lnTo>
                      <a:pt x="257" y="60"/>
                    </a:lnTo>
                    <a:lnTo>
                      <a:pt x="250" y="55"/>
                    </a:lnTo>
                    <a:lnTo>
                      <a:pt x="245" y="51"/>
                    </a:lnTo>
                    <a:lnTo>
                      <a:pt x="239" y="48"/>
                    </a:lnTo>
                    <a:lnTo>
                      <a:pt x="236" y="45"/>
                    </a:lnTo>
                    <a:lnTo>
                      <a:pt x="258" y="26"/>
                    </a:lnTo>
                    <a:lnTo>
                      <a:pt x="287" y="13"/>
                    </a:lnTo>
                    <a:lnTo>
                      <a:pt x="321" y="6"/>
                    </a:lnTo>
                    <a:lnTo>
                      <a:pt x="357" y="2"/>
                    </a:lnTo>
                    <a:lnTo>
                      <a:pt x="398" y="0"/>
                    </a:lnTo>
                    <a:lnTo>
                      <a:pt x="441" y="2"/>
                    </a:lnTo>
                    <a:lnTo>
                      <a:pt x="486" y="5"/>
                    </a:lnTo>
                    <a:lnTo>
                      <a:pt x="532" y="9"/>
                    </a:lnTo>
                    <a:lnTo>
                      <a:pt x="579" y="13"/>
                    </a:lnTo>
                    <a:lnTo>
                      <a:pt x="627" y="19"/>
                    </a:lnTo>
                    <a:lnTo>
                      <a:pt x="673" y="22"/>
                    </a:lnTo>
                    <a:lnTo>
                      <a:pt x="720" y="26"/>
                    </a:lnTo>
                    <a:lnTo>
                      <a:pt x="763" y="26"/>
                    </a:lnTo>
                    <a:lnTo>
                      <a:pt x="804" y="26"/>
                    </a:lnTo>
                    <a:lnTo>
                      <a:pt x="842" y="20"/>
                    </a:lnTo>
                    <a:lnTo>
                      <a:pt x="876" y="13"/>
                    </a:lnTo>
                    <a:lnTo>
                      <a:pt x="876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984240" y="1803600"/>
                <a:ext cx="340560" cy="314640"/>
              </a:xfrm>
              <a:custGeom>
                <a:avLst/>
                <a:gdLst/>
                <a:ahLst/>
                <a:rect l="l" t="t" r="r" b="b"/>
                <a:pathLst>
                  <a:path w="722" h="722">
                    <a:moveTo>
                      <a:pt x="490" y="17"/>
                    </a:moveTo>
                    <a:lnTo>
                      <a:pt x="513" y="24"/>
                    </a:lnTo>
                    <a:lnTo>
                      <a:pt x="535" y="33"/>
                    </a:lnTo>
                    <a:lnTo>
                      <a:pt x="557" y="43"/>
                    </a:lnTo>
                    <a:lnTo>
                      <a:pt x="576" y="56"/>
                    </a:lnTo>
                    <a:lnTo>
                      <a:pt x="593" y="71"/>
                    </a:lnTo>
                    <a:lnTo>
                      <a:pt x="611" y="87"/>
                    </a:lnTo>
                    <a:lnTo>
                      <a:pt x="627" y="103"/>
                    </a:lnTo>
                    <a:lnTo>
                      <a:pt x="643" y="121"/>
                    </a:lnTo>
                    <a:lnTo>
                      <a:pt x="654" y="140"/>
                    </a:lnTo>
                    <a:lnTo>
                      <a:pt x="667" y="159"/>
                    </a:lnTo>
                    <a:lnTo>
                      <a:pt x="677" y="181"/>
                    </a:lnTo>
                    <a:lnTo>
                      <a:pt x="689" y="203"/>
                    </a:lnTo>
                    <a:lnTo>
                      <a:pt x="696" y="224"/>
                    </a:lnTo>
                    <a:lnTo>
                      <a:pt x="705" y="249"/>
                    </a:lnTo>
                    <a:lnTo>
                      <a:pt x="712" y="272"/>
                    </a:lnTo>
                    <a:lnTo>
                      <a:pt x="720" y="298"/>
                    </a:lnTo>
                    <a:lnTo>
                      <a:pt x="722" y="320"/>
                    </a:lnTo>
                    <a:lnTo>
                      <a:pt x="722" y="343"/>
                    </a:lnTo>
                    <a:lnTo>
                      <a:pt x="720" y="365"/>
                    </a:lnTo>
                    <a:lnTo>
                      <a:pt x="717" y="388"/>
                    </a:lnTo>
                    <a:lnTo>
                      <a:pt x="709" y="410"/>
                    </a:lnTo>
                    <a:lnTo>
                      <a:pt x="702" y="432"/>
                    </a:lnTo>
                    <a:lnTo>
                      <a:pt x="692" y="454"/>
                    </a:lnTo>
                    <a:lnTo>
                      <a:pt x="683" y="475"/>
                    </a:lnTo>
                    <a:lnTo>
                      <a:pt x="672" y="497"/>
                    </a:lnTo>
                    <a:lnTo>
                      <a:pt x="660" y="519"/>
                    </a:lnTo>
                    <a:lnTo>
                      <a:pt x="650" y="541"/>
                    </a:lnTo>
                    <a:lnTo>
                      <a:pt x="638" y="562"/>
                    </a:lnTo>
                    <a:lnTo>
                      <a:pt x="628" y="584"/>
                    </a:lnTo>
                    <a:lnTo>
                      <a:pt x="619" y="607"/>
                    </a:lnTo>
                    <a:lnTo>
                      <a:pt x="611" y="629"/>
                    </a:lnTo>
                    <a:lnTo>
                      <a:pt x="606" y="654"/>
                    </a:lnTo>
                    <a:lnTo>
                      <a:pt x="589" y="668"/>
                    </a:lnTo>
                    <a:lnTo>
                      <a:pt x="572" y="680"/>
                    </a:lnTo>
                    <a:lnTo>
                      <a:pt x="553" y="689"/>
                    </a:lnTo>
                    <a:lnTo>
                      <a:pt x="534" y="694"/>
                    </a:lnTo>
                    <a:lnTo>
                      <a:pt x="513" y="697"/>
                    </a:lnTo>
                    <a:lnTo>
                      <a:pt x="493" y="700"/>
                    </a:lnTo>
                    <a:lnTo>
                      <a:pt x="471" y="700"/>
                    </a:lnTo>
                    <a:lnTo>
                      <a:pt x="453" y="700"/>
                    </a:lnTo>
                    <a:lnTo>
                      <a:pt x="431" y="700"/>
                    </a:lnTo>
                    <a:lnTo>
                      <a:pt x="410" y="699"/>
                    </a:lnTo>
                    <a:lnTo>
                      <a:pt x="389" y="699"/>
                    </a:lnTo>
                    <a:lnTo>
                      <a:pt x="368" y="700"/>
                    </a:lnTo>
                    <a:lnTo>
                      <a:pt x="348" y="702"/>
                    </a:lnTo>
                    <a:lnTo>
                      <a:pt x="329" y="706"/>
                    </a:lnTo>
                    <a:lnTo>
                      <a:pt x="310" y="712"/>
                    </a:lnTo>
                    <a:lnTo>
                      <a:pt x="293" y="722"/>
                    </a:lnTo>
                    <a:lnTo>
                      <a:pt x="271" y="715"/>
                    </a:lnTo>
                    <a:lnTo>
                      <a:pt x="254" y="708"/>
                    </a:lnTo>
                    <a:lnTo>
                      <a:pt x="238" y="699"/>
                    </a:lnTo>
                    <a:lnTo>
                      <a:pt x="223" y="689"/>
                    </a:lnTo>
                    <a:lnTo>
                      <a:pt x="209" y="676"/>
                    </a:lnTo>
                    <a:lnTo>
                      <a:pt x="196" y="664"/>
                    </a:lnTo>
                    <a:lnTo>
                      <a:pt x="184" y="650"/>
                    </a:lnTo>
                    <a:lnTo>
                      <a:pt x="174" y="635"/>
                    </a:lnTo>
                    <a:lnTo>
                      <a:pt x="164" y="619"/>
                    </a:lnTo>
                    <a:lnTo>
                      <a:pt x="152" y="602"/>
                    </a:lnTo>
                    <a:lnTo>
                      <a:pt x="142" y="586"/>
                    </a:lnTo>
                    <a:lnTo>
                      <a:pt x="132" y="570"/>
                    </a:lnTo>
                    <a:lnTo>
                      <a:pt x="120" y="551"/>
                    </a:lnTo>
                    <a:lnTo>
                      <a:pt x="107" y="535"/>
                    </a:lnTo>
                    <a:lnTo>
                      <a:pt x="94" y="518"/>
                    </a:lnTo>
                    <a:lnTo>
                      <a:pt x="80" y="502"/>
                    </a:lnTo>
                    <a:lnTo>
                      <a:pt x="67" y="487"/>
                    </a:lnTo>
                    <a:lnTo>
                      <a:pt x="55" y="473"/>
                    </a:lnTo>
                    <a:lnTo>
                      <a:pt x="45" y="459"/>
                    </a:lnTo>
                    <a:lnTo>
                      <a:pt x="36" y="448"/>
                    </a:lnTo>
                    <a:lnTo>
                      <a:pt x="27" y="435"/>
                    </a:lnTo>
                    <a:lnTo>
                      <a:pt x="22" y="423"/>
                    </a:lnTo>
                    <a:lnTo>
                      <a:pt x="14" y="412"/>
                    </a:lnTo>
                    <a:lnTo>
                      <a:pt x="11" y="400"/>
                    </a:lnTo>
                    <a:lnTo>
                      <a:pt x="7" y="387"/>
                    </a:lnTo>
                    <a:lnTo>
                      <a:pt x="4" y="377"/>
                    </a:lnTo>
                    <a:lnTo>
                      <a:pt x="1" y="365"/>
                    </a:lnTo>
                    <a:lnTo>
                      <a:pt x="0" y="356"/>
                    </a:lnTo>
                    <a:lnTo>
                      <a:pt x="0" y="345"/>
                    </a:lnTo>
                    <a:lnTo>
                      <a:pt x="0" y="335"/>
                    </a:lnTo>
                    <a:lnTo>
                      <a:pt x="0" y="326"/>
                    </a:lnTo>
                    <a:lnTo>
                      <a:pt x="3" y="316"/>
                    </a:lnTo>
                    <a:lnTo>
                      <a:pt x="3" y="306"/>
                    </a:lnTo>
                    <a:lnTo>
                      <a:pt x="4" y="296"/>
                    </a:lnTo>
                    <a:lnTo>
                      <a:pt x="6" y="285"/>
                    </a:lnTo>
                    <a:lnTo>
                      <a:pt x="9" y="277"/>
                    </a:lnTo>
                    <a:lnTo>
                      <a:pt x="11" y="267"/>
                    </a:lnTo>
                    <a:lnTo>
                      <a:pt x="14" y="256"/>
                    </a:lnTo>
                    <a:lnTo>
                      <a:pt x="17" y="248"/>
                    </a:lnTo>
                    <a:lnTo>
                      <a:pt x="22" y="238"/>
                    </a:lnTo>
                    <a:lnTo>
                      <a:pt x="25" y="229"/>
                    </a:lnTo>
                    <a:lnTo>
                      <a:pt x="29" y="220"/>
                    </a:lnTo>
                    <a:lnTo>
                      <a:pt x="32" y="210"/>
                    </a:lnTo>
                    <a:lnTo>
                      <a:pt x="36" y="201"/>
                    </a:lnTo>
                    <a:lnTo>
                      <a:pt x="39" y="191"/>
                    </a:lnTo>
                    <a:lnTo>
                      <a:pt x="42" y="182"/>
                    </a:lnTo>
                    <a:lnTo>
                      <a:pt x="46" y="174"/>
                    </a:lnTo>
                    <a:lnTo>
                      <a:pt x="49" y="164"/>
                    </a:lnTo>
                    <a:lnTo>
                      <a:pt x="49" y="159"/>
                    </a:lnTo>
                    <a:lnTo>
                      <a:pt x="51" y="152"/>
                    </a:lnTo>
                    <a:lnTo>
                      <a:pt x="54" y="145"/>
                    </a:lnTo>
                    <a:lnTo>
                      <a:pt x="56" y="139"/>
                    </a:lnTo>
                    <a:lnTo>
                      <a:pt x="59" y="130"/>
                    </a:lnTo>
                    <a:lnTo>
                      <a:pt x="62" y="121"/>
                    </a:lnTo>
                    <a:lnTo>
                      <a:pt x="67" y="113"/>
                    </a:lnTo>
                    <a:lnTo>
                      <a:pt x="71" y="106"/>
                    </a:lnTo>
                    <a:lnTo>
                      <a:pt x="74" y="95"/>
                    </a:lnTo>
                    <a:lnTo>
                      <a:pt x="78" y="87"/>
                    </a:lnTo>
                    <a:lnTo>
                      <a:pt x="81" y="76"/>
                    </a:lnTo>
                    <a:lnTo>
                      <a:pt x="85" y="71"/>
                    </a:lnTo>
                    <a:lnTo>
                      <a:pt x="88" y="63"/>
                    </a:lnTo>
                    <a:lnTo>
                      <a:pt x="93" y="58"/>
                    </a:lnTo>
                    <a:lnTo>
                      <a:pt x="96" y="52"/>
                    </a:lnTo>
                    <a:lnTo>
                      <a:pt x="99" y="50"/>
                    </a:lnTo>
                    <a:lnTo>
                      <a:pt x="145" y="98"/>
                    </a:lnTo>
                    <a:lnTo>
                      <a:pt x="138" y="117"/>
                    </a:lnTo>
                    <a:lnTo>
                      <a:pt x="132" y="135"/>
                    </a:lnTo>
                    <a:lnTo>
                      <a:pt x="125" y="150"/>
                    </a:lnTo>
                    <a:lnTo>
                      <a:pt x="119" y="168"/>
                    </a:lnTo>
                    <a:lnTo>
                      <a:pt x="113" y="184"/>
                    </a:lnTo>
                    <a:lnTo>
                      <a:pt x="107" y="198"/>
                    </a:lnTo>
                    <a:lnTo>
                      <a:pt x="103" y="214"/>
                    </a:lnTo>
                    <a:lnTo>
                      <a:pt x="99" y="230"/>
                    </a:lnTo>
                    <a:lnTo>
                      <a:pt x="94" y="245"/>
                    </a:lnTo>
                    <a:lnTo>
                      <a:pt x="90" y="259"/>
                    </a:lnTo>
                    <a:lnTo>
                      <a:pt x="87" y="275"/>
                    </a:lnTo>
                    <a:lnTo>
                      <a:pt x="84" y="291"/>
                    </a:lnTo>
                    <a:lnTo>
                      <a:pt x="81" y="307"/>
                    </a:lnTo>
                    <a:lnTo>
                      <a:pt x="78" y="325"/>
                    </a:lnTo>
                    <a:lnTo>
                      <a:pt x="74" y="342"/>
                    </a:lnTo>
                    <a:lnTo>
                      <a:pt x="72" y="362"/>
                    </a:lnTo>
                    <a:lnTo>
                      <a:pt x="83" y="377"/>
                    </a:lnTo>
                    <a:lnTo>
                      <a:pt x="96" y="394"/>
                    </a:lnTo>
                    <a:lnTo>
                      <a:pt x="109" y="409"/>
                    </a:lnTo>
                    <a:lnTo>
                      <a:pt x="125" y="425"/>
                    </a:lnTo>
                    <a:lnTo>
                      <a:pt x="139" y="438"/>
                    </a:lnTo>
                    <a:lnTo>
                      <a:pt x="154" y="454"/>
                    </a:lnTo>
                    <a:lnTo>
                      <a:pt x="170" y="467"/>
                    </a:lnTo>
                    <a:lnTo>
                      <a:pt x="184" y="483"/>
                    </a:lnTo>
                    <a:lnTo>
                      <a:pt x="199" y="497"/>
                    </a:lnTo>
                    <a:lnTo>
                      <a:pt x="213" y="512"/>
                    </a:lnTo>
                    <a:lnTo>
                      <a:pt x="228" y="526"/>
                    </a:lnTo>
                    <a:lnTo>
                      <a:pt x="241" y="544"/>
                    </a:lnTo>
                    <a:lnTo>
                      <a:pt x="251" y="558"/>
                    </a:lnTo>
                    <a:lnTo>
                      <a:pt x="261" y="577"/>
                    </a:lnTo>
                    <a:lnTo>
                      <a:pt x="270" y="594"/>
                    </a:lnTo>
                    <a:lnTo>
                      <a:pt x="277" y="615"/>
                    </a:lnTo>
                    <a:lnTo>
                      <a:pt x="294" y="612"/>
                    </a:lnTo>
                    <a:lnTo>
                      <a:pt x="315" y="612"/>
                    </a:lnTo>
                    <a:lnTo>
                      <a:pt x="336" y="612"/>
                    </a:lnTo>
                    <a:lnTo>
                      <a:pt x="361" y="612"/>
                    </a:lnTo>
                    <a:lnTo>
                      <a:pt x="384" y="612"/>
                    </a:lnTo>
                    <a:lnTo>
                      <a:pt x="410" y="612"/>
                    </a:lnTo>
                    <a:lnTo>
                      <a:pt x="435" y="610"/>
                    </a:lnTo>
                    <a:lnTo>
                      <a:pt x="460" y="609"/>
                    </a:lnTo>
                    <a:lnTo>
                      <a:pt x="483" y="605"/>
                    </a:lnTo>
                    <a:lnTo>
                      <a:pt x="505" y="600"/>
                    </a:lnTo>
                    <a:lnTo>
                      <a:pt x="525" y="591"/>
                    </a:lnTo>
                    <a:lnTo>
                      <a:pt x="543" y="583"/>
                    </a:lnTo>
                    <a:lnTo>
                      <a:pt x="556" y="570"/>
                    </a:lnTo>
                    <a:lnTo>
                      <a:pt x="566" y="552"/>
                    </a:lnTo>
                    <a:lnTo>
                      <a:pt x="572" y="531"/>
                    </a:lnTo>
                    <a:lnTo>
                      <a:pt x="574" y="507"/>
                    </a:lnTo>
                    <a:lnTo>
                      <a:pt x="624" y="298"/>
                    </a:lnTo>
                    <a:lnTo>
                      <a:pt x="611" y="284"/>
                    </a:lnTo>
                    <a:lnTo>
                      <a:pt x="602" y="271"/>
                    </a:lnTo>
                    <a:lnTo>
                      <a:pt x="592" y="256"/>
                    </a:lnTo>
                    <a:lnTo>
                      <a:pt x="583" y="243"/>
                    </a:lnTo>
                    <a:lnTo>
                      <a:pt x="574" y="229"/>
                    </a:lnTo>
                    <a:lnTo>
                      <a:pt x="566" y="216"/>
                    </a:lnTo>
                    <a:lnTo>
                      <a:pt x="557" y="201"/>
                    </a:lnTo>
                    <a:lnTo>
                      <a:pt x="550" y="188"/>
                    </a:lnTo>
                    <a:lnTo>
                      <a:pt x="540" y="174"/>
                    </a:lnTo>
                    <a:lnTo>
                      <a:pt x="531" y="161"/>
                    </a:lnTo>
                    <a:lnTo>
                      <a:pt x="519" y="148"/>
                    </a:lnTo>
                    <a:lnTo>
                      <a:pt x="509" y="135"/>
                    </a:lnTo>
                    <a:lnTo>
                      <a:pt x="496" y="121"/>
                    </a:lnTo>
                    <a:lnTo>
                      <a:pt x="483" y="108"/>
                    </a:lnTo>
                    <a:lnTo>
                      <a:pt x="467" y="95"/>
                    </a:lnTo>
                    <a:lnTo>
                      <a:pt x="451" y="84"/>
                    </a:lnTo>
                    <a:lnTo>
                      <a:pt x="440" y="85"/>
                    </a:lnTo>
                    <a:lnTo>
                      <a:pt x="425" y="87"/>
                    </a:lnTo>
                    <a:lnTo>
                      <a:pt x="408" y="88"/>
                    </a:lnTo>
                    <a:lnTo>
                      <a:pt x="390" y="90"/>
                    </a:lnTo>
                    <a:lnTo>
                      <a:pt x="370" y="90"/>
                    </a:lnTo>
                    <a:lnTo>
                      <a:pt x="350" y="91"/>
                    </a:lnTo>
                    <a:lnTo>
                      <a:pt x="329" y="91"/>
                    </a:lnTo>
                    <a:lnTo>
                      <a:pt x="309" y="91"/>
                    </a:lnTo>
                    <a:lnTo>
                      <a:pt x="287" y="88"/>
                    </a:lnTo>
                    <a:lnTo>
                      <a:pt x="267" y="88"/>
                    </a:lnTo>
                    <a:lnTo>
                      <a:pt x="245" y="85"/>
                    </a:lnTo>
                    <a:lnTo>
                      <a:pt x="228" y="84"/>
                    </a:lnTo>
                    <a:lnTo>
                      <a:pt x="209" y="79"/>
                    </a:lnTo>
                    <a:lnTo>
                      <a:pt x="191" y="76"/>
                    </a:lnTo>
                    <a:lnTo>
                      <a:pt x="177" y="71"/>
                    </a:lnTo>
                    <a:lnTo>
                      <a:pt x="167" y="66"/>
                    </a:lnTo>
                    <a:lnTo>
                      <a:pt x="139" y="33"/>
                    </a:lnTo>
                    <a:lnTo>
                      <a:pt x="149" y="21"/>
                    </a:lnTo>
                    <a:lnTo>
                      <a:pt x="165" y="13"/>
                    </a:lnTo>
                    <a:lnTo>
                      <a:pt x="184" y="5"/>
                    </a:lnTo>
                    <a:lnTo>
                      <a:pt x="206" y="2"/>
                    </a:lnTo>
                    <a:lnTo>
                      <a:pt x="229" y="0"/>
                    </a:lnTo>
                    <a:lnTo>
                      <a:pt x="255" y="0"/>
                    </a:lnTo>
                    <a:lnTo>
                      <a:pt x="280" y="0"/>
                    </a:lnTo>
                    <a:lnTo>
                      <a:pt x="309" y="2"/>
                    </a:lnTo>
                    <a:lnTo>
                      <a:pt x="335" y="4"/>
                    </a:lnTo>
                    <a:lnTo>
                      <a:pt x="363" y="7"/>
                    </a:lnTo>
                    <a:lnTo>
                      <a:pt x="387" y="10"/>
                    </a:lnTo>
                    <a:lnTo>
                      <a:pt x="413" y="13"/>
                    </a:lnTo>
                    <a:lnTo>
                      <a:pt x="437" y="14"/>
                    </a:lnTo>
                    <a:lnTo>
                      <a:pt x="457" y="17"/>
                    </a:lnTo>
                    <a:lnTo>
                      <a:pt x="476" y="17"/>
                    </a:lnTo>
                    <a:lnTo>
                      <a:pt x="490" y="17"/>
                    </a:lnTo>
                    <a:lnTo>
                      <a:pt x="49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04920" y="1713600"/>
                <a:ext cx="66240" cy="123840"/>
              </a:xfrm>
              <a:custGeom>
                <a:avLst/>
                <a:gdLst/>
                <a:ahLst/>
                <a:rect l="l" t="t" r="r" b="b"/>
                <a:pathLst>
                  <a:path w="139" h="285">
                    <a:moveTo>
                      <a:pt x="88" y="0"/>
                    </a:moveTo>
                    <a:lnTo>
                      <a:pt x="108" y="10"/>
                    </a:lnTo>
                    <a:lnTo>
                      <a:pt x="123" y="23"/>
                    </a:lnTo>
                    <a:lnTo>
                      <a:pt x="132" y="37"/>
                    </a:lnTo>
                    <a:lnTo>
                      <a:pt x="137" y="55"/>
                    </a:lnTo>
                    <a:lnTo>
                      <a:pt x="139" y="71"/>
                    </a:lnTo>
                    <a:lnTo>
                      <a:pt x="137" y="91"/>
                    </a:lnTo>
                    <a:lnTo>
                      <a:pt x="132" y="108"/>
                    </a:lnTo>
                    <a:lnTo>
                      <a:pt x="126" y="130"/>
                    </a:lnTo>
                    <a:lnTo>
                      <a:pt x="117" y="149"/>
                    </a:lnTo>
                    <a:lnTo>
                      <a:pt x="107" y="169"/>
                    </a:lnTo>
                    <a:lnTo>
                      <a:pt x="97" y="191"/>
                    </a:lnTo>
                    <a:lnTo>
                      <a:pt x="88" y="211"/>
                    </a:lnTo>
                    <a:lnTo>
                      <a:pt x="78" y="230"/>
                    </a:lnTo>
                    <a:lnTo>
                      <a:pt x="71" y="249"/>
                    </a:lnTo>
                    <a:lnTo>
                      <a:pt x="65" y="268"/>
                    </a:lnTo>
                    <a:lnTo>
                      <a:pt x="63" y="285"/>
                    </a:lnTo>
                    <a:lnTo>
                      <a:pt x="10" y="272"/>
                    </a:lnTo>
                    <a:lnTo>
                      <a:pt x="2" y="253"/>
                    </a:lnTo>
                    <a:lnTo>
                      <a:pt x="0" y="236"/>
                    </a:lnTo>
                    <a:lnTo>
                      <a:pt x="0" y="222"/>
                    </a:lnTo>
                    <a:lnTo>
                      <a:pt x="2" y="207"/>
                    </a:lnTo>
                    <a:lnTo>
                      <a:pt x="5" y="193"/>
                    </a:lnTo>
                    <a:lnTo>
                      <a:pt x="10" y="179"/>
                    </a:lnTo>
                    <a:lnTo>
                      <a:pt x="17" y="166"/>
                    </a:lnTo>
                    <a:lnTo>
                      <a:pt x="24" y="155"/>
                    </a:lnTo>
                    <a:lnTo>
                      <a:pt x="31" y="140"/>
                    </a:lnTo>
                    <a:lnTo>
                      <a:pt x="39" y="129"/>
                    </a:lnTo>
                    <a:lnTo>
                      <a:pt x="46" y="114"/>
                    </a:lnTo>
                    <a:lnTo>
                      <a:pt x="53" y="101"/>
                    </a:lnTo>
                    <a:lnTo>
                      <a:pt x="56" y="84"/>
                    </a:lnTo>
                    <a:lnTo>
                      <a:pt x="62" y="69"/>
                    </a:lnTo>
                    <a:lnTo>
                      <a:pt x="63" y="52"/>
                    </a:lnTo>
                    <a:lnTo>
                      <a:pt x="65" y="34"/>
                    </a:lnTo>
                    <a:lnTo>
                      <a:pt x="88" y="0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111680" y="1722960"/>
                <a:ext cx="50760" cy="118440"/>
              </a:xfrm>
              <a:custGeom>
                <a:avLst/>
                <a:gdLst/>
                <a:ahLst/>
                <a:rect l="l" t="t" r="r" b="b"/>
                <a:pathLst>
                  <a:path w="107" h="273">
                    <a:moveTo>
                      <a:pt x="42" y="0"/>
                    </a:moveTo>
                    <a:lnTo>
                      <a:pt x="58" y="7"/>
                    </a:lnTo>
                    <a:lnTo>
                      <a:pt x="71" y="17"/>
                    </a:lnTo>
                    <a:lnTo>
                      <a:pt x="81" y="27"/>
                    </a:lnTo>
                    <a:lnTo>
                      <a:pt x="90" y="42"/>
                    </a:lnTo>
                    <a:lnTo>
                      <a:pt x="94" y="56"/>
                    </a:lnTo>
                    <a:lnTo>
                      <a:pt x="98" y="74"/>
                    </a:lnTo>
                    <a:lnTo>
                      <a:pt x="100" y="90"/>
                    </a:lnTo>
                    <a:lnTo>
                      <a:pt x="101" y="109"/>
                    </a:lnTo>
                    <a:lnTo>
                      <a:pt x="100" y="126"/>
                    </a:lnTo>
                    <a:lnTo>
                      <a:pt x="98" y="145"/>
                    </a:lnTo>
                    <a:lnTo>
                      <a:pt x="98" y="162"/>
                    </a:lnTo>
                    <a:lnTo>
                      <a:pt x="98" y="181"/>
                    </a:lnTo>
                    <a:lnTo>
                      <a:pt x="98" y="199"/>
                    </a:lnTo>
                    <a:lnTo>
                      <a:pt x="98" y="216"/>
                    </a:lnTo>
                    <a:lnTo>
                      <a:pt x="101" y="231"/>
                    </a:lnTo>
                    <a:lnTo>
                      <a:pt x="107" y="248"/>
                    </a:lnTo>
                    <a:lnTo>
                      <a:pt x="101" y="251"/>
                    </a:lnTo>
                    <a:lnTo>
                      <a:pt x="96" y="254"/>
                    </a:lnTo>
                    <a:lnTo>
                      <a:pt x="90" y="257"/>
                    </a:lnTo>
                    <a:lnTo>
                      <a:pt x="85" y="260"/>
                    </a:lnTo>
                    <a:lnTo>
                      <a:pt x="75" y="265"/>
                    </a:lnTo>
                    <a:lnTo>
                      <a:pt x="68" y="273"/>
                    </a:lnTo>
                    <a:lnTo>
                      <a:pt x="52" y="260"/>
                    </a:lnTo>
                    <a:lnTo>
                      <a:pt x="39" y="248"/>
                    </a:lnTo>
                    <a:lnTo>
                      <a:pt x="27" y="232"/>
                    </a:lnTo>
                    <a:lnTo>
                      <a:pt x="19" y="216"/>
                    </a:lnTo>
                    <a:lnTo>
                      <a:pt x="10" y="199"/>
                    </a:lnTo>
                    <a:lnTo>
                      <a:pt x="6" y="181"/>
                    </a:lnTo>
                    <a:lnTo>
                      <a:pt x="1" y="161"/>
                    </a:lnTo>
                    <a:lnTo>
                      <a:pt x="0" y="142"/>
                    </a:lnTo>
                    <a:lnTo>
                      <a:pt x="0" y="122"/>
                    </a:lnTo>
                    <a:lnTo>
                      <a:pt x="0" y="103"/>
                    </a:lnTo>
                    <a:lnTo>
                      <a:pt x="4" y="83"/>
                    </a:lnTo>
                    <a:lnTo>
                      <a:pt x="8" y="64"/>
                    </a:lnTo>
                    <a:lnTo>
                      <a:pt x="14" y="46"/>
                    </a:lnTo>
                    <a:lnTo>
                      <a:pt x="22" y="27"/>
                    </a:lnTo>
                    <a:lnTo>
                      <a:pt x="30" y="13"/>
                    </a:lnTo>
                    <a:lnTo>
                      <a:pt x="42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34920" y="1708560"/>
                <a:ext cx="141120" cy="146160"/>
              </a:xfrm>
              <a:custGeom>
                <a:avLst/>
                <a:gdLst/>
                <a:ahLst/>
                <a:rect l="l" t="t" r="r" b="b"/>
                <a:pathLst>
                  <a:path w="302" h="334">
                    <a:moveTo>
                      <a:pt x="45" y="0"/>
                    </a:moveTo>
                    <a:lnTo>
                      <a:pt x="65" y="7"/>
                    </a:lnTo>
                    <a:lnTo>
                      <a:pt x="84" y="17"/>
                    </a:lnTo>
                    <a:lnTo>
                      <a:pt x="103" y="32"/>
                    </a:lnTo>
                    <a:lnTo>
                      <a:pt x="120" y="48"/>
                    </a:lnTo>
                    <a:lnTo>
                      <a:pt x="136" y="65"/>
                    </a:lnTo>
                    <a:lnTo>
                      <a:pt x="152" y="86"/>
                    </a:lnTo>
                    <a:lnTo>
                      <a:pt x="168" y="106"/>
                    </a:lnTo>
                    <a:lnTo>
                      <a:pt x="184" y="129"/>
                    </a:lnTo>
                    <a:lnTo>
                      <a:pt x="199" y="151"/>
                    </a:lnTo>
                    <a:lnTo>
                      <a:pt x="213" y="174"/>
                    </a:lnTo>
                    <a:lnTo>
                      <a:pt x="226" y="196"/>
                    </a:lnTo>
                    <a:lnTo>
                      <a:pt x="242" y="218"/>
                    </a:lnTo>
                    <a:lnTo>
                      <a:pt x="257" y="238"/>
                    </a:lnTo>
                    <a:lnTo>
                      <a:pt x="271" y="260"/>
                    </a:lnTo>
                    <a:lnTo>
                      <a:pt x="287" y="277"/>
                    </a:lnTo>
                    <a:lnTo>
                      <a:pt x="302" y="294"/>
                    </a:lnTo>
                    <a:lnTo>
                      <a:pt x="245" y="334"/>
                    </a:lnTo>
                    <a:lnTo>
                      <a:pt x="226" y="316"/>
                    </a:lnTo>
                    <a:lnTo>
                      <a:pt x="209" y="302"/>
                    </a:lnTo>
                    <a:lnTo>
                      <a:pt x="193" y="284"/>
                    </a:lnTo>
                    <a:lnTo>
                      <a:pt x="177" y="267"/>
                    </a:lnTo>
                    <a:lnTo>
                      <a:pt x="162" y="247"/>
                    </a:lnTo>
                    <a:lnTo>
                      <a:pt x="147" y="228"/>
                    </a:lnTo>
                    <a:lnTo>
                      <a:pt x="131" y="209"/>
                    </a:lnTo>
                    <a:lnTo>
                      <a:pt x="116" y="190"/>
                    </a:lnTo>
                    <a:lnTo>
                      <a:pt x="102" y="170"/>
                    </a:lnTo>
                    <a:lnTo>
                      <a:pt x="87" y="149"/>
                    </a:lnTo>
                    <a:lnTo>
                      <a:pt x="73" y="131"/>
                    </a:lnTo>
                    <a:lnTo>
                      <a:pt x="58" y="112"/>
                    </a:lnTo>
                    <a:lnTo>
                      <a:pt x="42" y="93"/>
                    </a:lnTo>
                    <a:lnTo>
                      <a:pt x="29" y="75"/>
                    </a:lnTo>
                    <a:lnTo>
                      <a:pt x="13" y="58"/>
                    </a:lnTo>
                    <a:lnTo>
                      <a:pt x="0" y="44"/>
                    </a:lnTo>
                    <a:lnTo>
                      <a:pt x="3" y="36"/>
                    </a:lnTo>
                    <a:lnTo>
                      <a:pt x="10" y="30"/>
                    </a:lnTo>
                    <a:lnTo>
                      <a:pt x="16" y="25"/>
                    </a:lnTo>
                    <a:lnTo>
                      <a:pt x="25" y="17"/>
                    </a:lnTo>
                    <a:lnTo>
                      <a:pt x="30" y="12"/>
                    </a:lnTo>
                    <a:lnTo>
                      <a:pt x="38" y="6"/>
                    </a:lnTo>
                    <a:lnTo>
                      <a:pt x="42" y="3"/>
                    </a:lnTo>
                    <a:lnTo>
                      <a:pt x="45" y="0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254240" y="1811880"/>
                <a:ext cx="105840" cy="71640"/>
              </a:xfrm>
              <a:custGeom>
                <a:avLst/>
                <a:gdLst/>
                <a:ahLst/>
                <a:rect l="l" t="t" r="r" b="b"/>
                <a:pathLst>
                  <a:path w="227" h="167">
                    <a:moveTo>
                      <a:pt x="187" y="0"/>
                    </a:moveTo>
                    <a:lnTo>
                      <a:pt x="227" y="26"/>
                    </a:lnTo>
                    <a:lnTo>
                      <a:pt x="223" y="39"/>
                    </a:lnTo>
                    <a:lnTo>
                      <a:pt x="216" y="51"/>
                    </a:lnTo>
                    <a:lnTo>
                      <a:pt x="206" y="61"/>
                    </a:lnTo>
                    <a:lnTo>
                      <a:pt x="195" y="71"/>
                    </a:lnTo>
                    <a:lnTo>
                      <a:pt x="182" y="78"/>
                    </a:lnTo>
                    <a:lnTo>
                      <a:pt x="169" y="87"/>
                    </a:lnTo>
                    <a:lnTo>
                      <a:pt x="153" y="94"/>
                    </a:lnTo>
                    <a:lnTo>
                      <a:pt x="139" y="102"/>
                    </a:lnTo>
                    <a:lnTo>
                      <a:pt x="123" y="107"/>
                    </a:lnTo>
                    <a:lnTo>
                      <a:pt x="105" y="113"/>
                    </a:lnTo>
                    <a:lnTo>
                      <a:pt x="91" y="120"/>
                    </a:lnTo>
                    <a:lnTo>
                      <a:pt x="76" y="128"/>
                    </a:lnTo>
                    <a:lnTo>
                      <a:pt x="60" y="135"/>
                    </a:lnTo>
                    <a:lnTo>
                      <a:pt x="49" y="145"/>
                    </a:lnTo>
                    <a:lnTo>
                      <a:pt x="39" y="154"/>
                    </a:lnTo>
                    <a:lnTo>
                      <a:pt x="30" y="167"/>
                    </a:lnTo>
                    <a:lnTo>
                      <a:pt x="0" y="107"/>
                    </a:lnTo>
                    <a:lnTo>
                      <a:pt x="8" y="96"/>
                    </a:lnTo>
                    <a:lnTo>
                      <a:pt x="18" y="86"/>
                    </a:lnTo>
                    <a:lnTo>
                      <a:pt x="29" y="75"/>
                    </a:lnTo>
                    <a:lnTo>
                      <a:pt x="40" y="70"/>
                    </a:lnTo>
                    <a:lnTo>
                      <a:pt x="52" y="61"/>
                    </a:lnTo>
                    <a:lnTo>
                      <a:pt x="63" y="57"/>
                    </a:lnTo>
                    <a:lnTo>
                      <a:pt x="76" y="49"/>
                    </a:lnTo>
                    <a:lnTo>
                      <a:pt x="88" y="46"/>
                    </a:lnTo>
                    <a:lnTo>
                      <a:pt x="101" y="39"/>
                    </a:lnTo>
                    <a:lnTo>
                      <a:pt x="113" y="35"/>
                    </a:lnTo>
                    <a:lnTo>
                      <a:pt x="126" y="29"/>
                    </a:lnTo>
                    <a:lnTo>
                      <a:pt x="137" y="25"/>
                    </a:lnTo>
                    <a:lnTo>
                      <a:pt x="149" y="19"/>
                    </a:lnTo>
                    <a:lnTo>
                      <a:pt x="162" y="13"/>
                    </a:lnTo>
                    <a:lnTo>
                      <a:pt x="174" y="6"/>
                    </a:lnTo>
                    <a:lnTo>
                      <a:pt x="187" y="0"/>
                    </a:lnTo>
                    <a:lnTo>
                      <a:pt x="18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9560" y="1835280"/>
                <a:ext cx="138240" cy="78480"/>
              </a:xfrm>
              <a:custGeom>
                <a:avLst/>
                <a:gdLst/>
                <a:ahLst/>
                <a:rect l="l" t="t" r="r" b="b"/>
                <a:pathLst>
                  <a:path w="293" h="179">
                    <a:moveTo>
                      <a:pt x="29" y="0"/>
                    </a:moveTo>
                    <a:lnTo>
                      <a:pt x="43" y="7"/>
                    </a:lnTo>
                    <a:lnTo>
                      <a:pt x="62" y="16"/>
                    </a:lnTo>
                    <a:lnTo>
                      <a:pt x="79" y="22"/>
                    </a:lnTo>
                    <a:lnTo>
                      <a:pt x="100" y="28"/>
                    </a:lnTo>
                    <a:lnTo>
                      <a:pt x="119" y="34"/>
                    </a:lnTo>
                    <a:lnTo>
                      <a:pt x="139" y="39"/>
                    </a:lnTo>
                    <a:lnTo>
                      <a:pt x="158" y="45"/>
                    </a:lnTo>
                    <a:lnTo>
                      <a:pt x="178" y="51"/>
                    </a:lnTo>
                    <a:lnTo>
                      <a:pt x="196" y="58"/>
                    </a:lnTo>
                    <a:lnTo>
                      <a:pt x="214" y="65"/>
                    </a:lnTo>
                    <a:lnTo>
                      <a:pt x="230" y="74"/>
                    </a:lnTo>
                    <a:lnTo>
                      <a:pt x="246" y="86"/>
                    </a:lnTo>
                    <a:lnTo>
                      <a:pt x="261" y="97"/>
                    </a:lnTo>
                    <a:lnTo>
                      <a:pt x="274" y="110"/>
                    </a:lnTo>
                    <a:lnTo>
                      <a:pt x="283" y="126"/>
                    </a:lnTo>
                    <a:lnTo>
                      <a:pt x="293" y="144"/>
                    </a:lnTo>
                    <a:lnTo>
                      <a:pt x="281" y="152"/>
                    </a:lnTo>
                    <a:lnTo>
                      <a:pt x="271" y="161"/>
                    </a:lnTo>
                    <a:lnTo>
                      <a:pt x="261" y="170"/>
                    </a:lnTo>
                    <a:lnTo>
                      <a:pt x="254" y="179"/>
                    </a:lnTo>
                    <a:lnTo>
                      <a:pt x="235" y="170"/>
                    </a:lnTo>
                    <a:lnTo>
                      <a:pt x="217" y="164"/>
                    </a:lnTo>
                    <a:lnTo>
                      <a:pt x="200" y="158"/>
                    </a:lnTo>
                    <a:lnTo>
                      <a:pt x="182" y="154"/>
                    </a:lnTo>
                    <a:lnTo>
                      <a:pt x="164" y="148"/>
                    </a:lnTo>
                    <a:lnTo>
                      <a:pt x="146" y="144"/>
                    </a:lnTo>
                    <a:lnTo>
                      <a:pt x="127" y="138"/>
                    </a:lnTo>
                    <a:lnTo>
                      <a:pt x="111" y="134"/>
                    </a:lnTo>
                    <a:lnTo>
                      <a:pt x="93" y="126"/>
                    </a:lnTo>
                    <a:lnTo>
                      <a:pt x="77" y="119"/>
                    </a:lnTo>
                    <a:lnTo>
                      <a:pt x="61" y="109"/>
                    </a:lnTo>
                    <a:lnTo>
                      <a:pt x="46" y="102"/>
                    </a:lnTo>
                    <a:lnTo>
                      <a:pt x="32" y="90"/>
                    </a:lnTo>
                    <a:lnTo>
                      <a:pt x="19" y="77"/>
                    </a:lnTo>
                    <a:lnTo>
                      <a:pt x="8" y="64"/>
                    </a:lnTo>
                    <a:lnTo>
                      <a:pt x="0" y="48"/>
                    </a:lnTo>
                    <a:lnTo>
                      <a:pt x="1" y="41"/>
                    </a:lnTo>
                    <a:lnTo>
                      <a:pt x="4" y="35"/>
                    </a:lnTo>
                    <a:lnTo>
                      <a:pt x="8" y="26"/>
                    </a:lnTo>
                    <a:lnTo>
                      <a:pt x="14" y="20"/>
                    </a:lnTo>
                    <a:lnTo>
                      <a:pt x="19" y="12"/>
                    </a:lnTo>
                    <a:lnTo>
                      <a:pt x="23" y="7"/>
                    </a:lnTo>
                    <a:lnTo>
                      <a:pt x="26" y="2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292760" y="1908360"/>
                <a:ext cx="129600" cy="49680"/>
              </a:xfrm>
              <a:custGeom>
                <a:avLst/>
                <a:gdLst/>
                <a:ahLst/>
                <a:rect l="l" t="t" r="r" b="b"/>
                <a:pathLst>
                  <a:path w="276" h="116">
                    <a:moveTo>
                      <a:pt x="7" y="16"/>
                    </a:moveTo>
                    <a:lnTo>
                      <a:pt x="22" y="19"/>
                    </a:lnTo>
                    <a:lnTo>
                      <a:pt x="38" y="20"/>
                    </a:lnTo>
                    <a:lnTo>
                      <a:pt x="52" y="20"/>
                    </a:lnTo>
                    <a:lnTo>
                      <a:pt x="68" y="20"/>
                    </a:lnTo>
                    <a:lnTo>
                      <a:pt x="84" y="17"/>
                    </a:lnTo>
                    <a:lnTo>
                      <a:pt x="99" y="16"/>
                    </a:lnTo>
                    <a:lnTo>
                      <a:pt x="116" y="13"/>
                    </a:lnTo>
                    <a:lnTo>
                      <a:pt x="132" y="12"/>
                    </a:lnTo>
                    <a:lnTo>
                      <a:pt x="148" y="9"/>
                    </a:lnTo>
                    <a:lnTo>
                      <a:pt x="164" y="6"/>
                    </a:lnTo>
                    <a:lnTo>
                      <a:pt x="180" y="3"/>
                    </a:lnTo>
                    <a:lnTo>
                      <a:pt x="196" y="3"/>
                    </a:lnTo>
                    <a:lnTo>
                      <a:pt x="211" y="0"/>
                    </a:lnTo>
                    <a:lnTo>
                      <a:pt x="227" y="0"/>
                    </a:lnTo>
                    <a:lnTo>
                      <a:pt x="241" y="1"/>
                    </a:lnTo>
                    <a:lnTo>
                      <a:pt x="257" y="4"/>
                    </a:lnTo>
                    <a:lnTo>
                      <a:pt x="276" y="73"/>
                    </a:lnTo>
                    <a:lnTo>
                      <a:pt x="258" y="80"/>
                    </a:lnTo>
                    <a:lnTo>
                      <a:pt x="243" y="87"/>
                    </a:lnTo>
                    <a:lnTo>
                      <a:pt x="225" y="93"/>
                    </a:lnTo>
                    <a:lnTo>
                      <a:pt x="208" y="100"/>
                    </a:lnTo>
                    <a:lnTo>
                      <a:pt x="187" y="106"/>
                    </a:lnTo>
                    <a:lnTo>
                      <a:pt x="169" y="110"/>
                    </a:lnTo>
                    <a:lnTo>
                      <a:pt x="148" y="113"/>
                    </a:lnTo>
                    <a:lnTo>
                      <a:pt x="131" y="116"/>
                    </a:lnTo>
                    <a:lnTo>
                      <a:pt x="111" y="116"/>
                    </a:lnTo>
                    <a:lnTo>
                      <a:pt x="92" y="116"/>
                    </a:lnTo>
                    <a:lnTo>
                      <a:pt x="73" y="113"/>
                    </a:lnTo>
                    <a:lnTo>
                      <a:pt x="55" y="110"/>
                    </a:lnTo>
                    <a:lnTo>
                      <a:pt x="39" y="103"/>
                    </a:lnTo>
                    <a:lnTo>
                      <a:pt x="25" y="94"/>
                    </a:lnTo>
                    <a:lnTo>
                      <a:pt x="12" y="84"/>
                    </a:lnTo>
                    <a:lnTo>
                      <a:pt x="0" y="73"/>
                    </a:lnTo>
                    <a:lnTo>
                      <a:pt x="7" y="16"/>
                    </a:lnTo>
                    <a:lnTo>
                      <a:pt x="7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76960" y="1950120"/>
                <a:ext cx="138240" cy="44280"/>
              </a:xfrm>
              <a:custGeom>
                <a:avLst/>
                <a:gdLst/>
                <a:ahLst/>
                <a:rect l="l" t="t" r="r" b="b"/>
                <a:pathLst>
                  <a:path w="294" h="103">
                    <a:moveTo>
                      <a:pt x="180" y="6"/>
                    </a:moveTo>
                    <a:lnTo>
                      <a:pt x="181" y="5"/>
                    </a:lnTo>
                    <a:lnTo>
                      <a:pt x="184" y="5"/>
                    </a:lnTo>
                    <a:lnTo>
                      <a:pt x="190" y="5"/>
                    </a:lnTo>
                    <a:lnTo>
                      <a:pt x="196" y="5"/>
                    </a:lnTo>
                    <a:lnTo>
                      <a:pt x="201" y="3"/>
                    </a:lnTo>
                    <a:lnTo>
                      <a:pt x="209" y="2"/>
                    </a:lnTo>
                    <a:lnTo>
                      <a:pt x="216" y="2"/>
                    </a:lnTo>
                    <a:lnTo>
                      <a:pt x="226" y="2"/>
                    </a:lnTo>
                    <a:lnTo>
                      <a:pt x="233" y="2"/>
                    </a:lnTo>
                    <a:lnTo>
                      <a:pt x="240" y="0"/>
                    </a:lnTo>
                    <a:lnTo>
                      <a:pt x="248" y="0"/>
                    </a:lnTo>
                    <a:lnTo>
                      <a:pt x="256" y="0"/>
                    </a:lnTo>
                    <a:lnTo>
                      <a:pt x="262" y="0"/>
                    </a:lnTo>
                    <a:lnTo>
                      <a:pt x="270" y="0"/>
                    </a:lnTo>
                    <a:lnTo>
                      <a:pt x="275" y="0"/>
                    </a:lnTo>
                    <a:lnTo>
                      <a:pt x="280" y="2"/>
                    </a:lnTo>
                    <a:lnTo>
                      <a:pt x="281" y="9"/>
                    </a:lnTo>
                    <a:lnTo>
                      <a:pt x="283" y="15"/>
                    </a:lnTo>
                    <a:lnTo>
                      <a:pt x="285" y="20"/>
                    </a:lnTo>
                    <a:lnTo>
                      <a:pt x="287" y="28"/>
                    </a:lnTo>
                    <a:lnTo>
                      <a:pt x="288" y="34"/>
                    </a:lnTo>
                    <a:lnTo>
                      <a:pt x="290" y="41"/>
                    </a:lnTo>
                    <a:lnTo>
                      <a:pt x="293" y="47"/>
                    </a:lnTo>
                    <a:lnTo>
                      <a:pt x="294" y="55"/>
                    </a:lnTo>
                    <a:lnTo>
                      <a:pt x="275" y="58"/>
                    </a:lnTo>
                    <a:lnTo>
                      <a:pt x="256" y="64"/>
                    </a:lnTo>
                    <a:lnTo>
                      <a:pt x="239" y="68"/>
                    </a:lnTo>
                    <a:lnTo>
                      <a:pt x="222" y="73"/>
                    </a:lnTo>
                    <a:lnTo>
                      <a:pt x="203" y="76"/>
                    </a:lnTo>
                    <a:lnTo>
                      <a:pt x="187" y="79"/>
                    </a:lnTo>
                    <a:lnTo>
                      <a:pt x="168" y="81"/>
                    </a:lnTo>
                    <a:lnTo>
                      <a:pt x="152" y="86"/>
                    </a:lnTo>
                    <a:lnTo>
                      <a:pt x="133" y="87"/>
                    </a:lnTo>
                    <a:lnTo>
                      <a:pt x="116" y="90"/>
                    </a:lnTo>
                    <a:lnTo>
                      <a:pt x="98" y="92"/>
                    </a:lnTo>
                    <a:lnTo>
                      <a:pt x="81" y="94"/>
                    </a:lnTo>
                    <a:lnTo>
                      <a:pt x="62" y="96"/>
                    </a:lnTo>
                    <a:lnTo>
                      <a:pt x="43" y="99"/>
                    </a:lnTo>
                    <a:lnTo>
                      <a:pt x="23" y="100"/>
                    </a:lnTo>
                    <a:lnTo>
                      <a:pt x="5" y="103"/>
                    </a:lnTo>
                    <a:lnTo>
                      <a:pt x="0" y="20"/>
                    </a:lnTo>
                    <a:lnTo>
                      <a:pt x="13" y="18"/>
                    </a:lnTo>
                    <a:lnTo>
                      <a:pt x="27" y="16"/>
                    </a:lnTo>
                    <a:lnTo>
                      <a:pt x="37" y="16"/>
                    </a:lnTo>
                    <a:lnTo>
                      <a:pt x="50" y="16"/>
                    </a:lnTo>
                    <a:lnTo>
                      <a:pt x="59" y="16"/>
                    </a:lnTo>
                    <a:lnTo>
                      <a:pt x="69" y="16"/>
                    </a:lnTo>
                    <a:lnTo>
                      <a:pt x="79" y="16"/>
                    </a:lnTo>
                    <a:lnTo>
                      <a:pt x="88" y="16"/>
                    </a:lnTo>
                    <a:lnTo>
                      <a:pt x="97" y="16"/>
                    </a:lnTo>
                    <a:lnTo>
                      <a:pt x="106" y="16"/>
                    </a:lnTo>
                    <a:lnTo>
                      <a:pt x="116" y="15"/>
                    </a:lnTo>
                    <a:lnTo>
                      <a:pt x="126" y="15"/>
                    </a:lnTo>
                    <a:lnTo>
                      <a:pt x="136" y="12"/>
                    </a:lnTo>
                    <a:lnTo>
                      <a:pt x="149" y="12"/>
                    </a:lnTo>
                    <a:lnTo>
                      <a:pt x="162" y="9"/>
                    </a:lnTo>
                    <a:lnTo>
                      <a:pt x="180" y="6"/>
                    </a:lnTo>
                    <a:lnTo>
                      <a:pt x="18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265760" y="1986840"/>
                <a:ext cx="138240" cy="63720"/>
              </a:xfrm>
              <a:custGeom>
                <a:avLst/>
                <a:gdLst/>
                <a:ahLst/>
                <a:rect l="l" t="t" r="r" b="b"/>
                <a:pathLst>
                  <a:path w="293" h="148">
                    <a:moveTo>
                      <a:pt x="30" y="0"/>
                    </a:moveTo>
                    <a:lnTo>
                      <a:pt x="45" y="4"/>
                    </a:lnTo>
                    <a:lnTo>
                      <a:pt x="62" y="7"/>
                    </a:lnTo>
                    <a:lnTo>
                      <a:pt x="78" y="11"/>
                    </a:lnTo>
                    <a:lnTo>
                      <a:pt x="95" y="16"/>
                    </a:lnTo>
                    <a:lnTo>
                      <a:pt x="111" y="19"/>
                    </a:lnTo>
                    <a:lnTo>
                      <a:pt x="127" y="22"/>
                    </a:lnTo>
                    <a:lnTo>
                      <a:pt x="143" y="26"/>
                    </a:lnTo>
                    <a:lnTo>
                      <a:pt x="161" y="30"/>
                    </a:lnTo>
                    <a:lnTo>
                      <a:pt x="175" y="33"/>
                    </a:lnTo>
                    <a:lnTo>
                      <a:pt x="191" y="39"/>
                    </a:lnTo>
                    <a:lnTo>
                      <a:pt x="207" y="43"/>
                    </a:lnTo>
                    <a:lnTo>
                      <a:pt x="222" y="51"/>
                    </a:lnTo>
                    <a:lnTo>
                      <a:pt x="236" y="56"/>
                    </a:lnTo>
                    <a:lnTo>
                      <a:pt x="252" y="65"/>
                    </a:lnTo>
                    <a:lnTo>
                      <a:pt x="268" y="72"/>
                    </a:lnTo>
                    <a:lnTo>
                      <a:pt x="283" y="83"/>
                    </a:lnTo>
                    <a:lnTo>
                      <a:pt x="284" y="90"/>
                    </a:lnTo>
                    <a:lnTo>
                      <a:pt x="285" y="97"/>
                    </a:lnTo>
                    <a:lnTo>
                      <a:pt x="285" y="104"/>
                    </a:lnTo>
                    <a:lnTo>
                      <a:pt x="288" y="112"/>
                    </a:lnTo>
                    <a:lnTo>
                      <a:pt x="288" y="117"/>
                    </a:lnTo>
                    <a:lnTo>
                      <a:pt x="290" y="125"/>
                    </a:lnTo>
                    <a:lnTo>
                      <a:pt x="290" y="130"/>
                    </a:lnTo>
                    <a:lnTo>
                      <a:pt x="293" y="139"/>
                    </a:lnTo>
                    <a:lnTo>
                      <a:pt x="278" y="143"/>
                    </a:lnTo>
                    <a:lnTo>
                      <a:pt x="262" y="146"/>
                    </a:lnTo>
                    <a:lnTo>
                      <a:pt x="246" y="148"/>
                    </a:lnTo>
                    <a:lnTo>
                      <a:pt x="232" y="148"/>
                    </a:lnTo>
                    <a:lnTo>
                      <a:pt x="216" y="145"/>
                    </a:lnTo>
                    <a:lnTo>
                      <a:pt x="201" y="142"/>
                    </a:lnTo>
                    <a:lnTo>
                      <a:pt x="187" y="138"/>
                    </a:lnTo>
                    <a:lnTo>
                      <a:pt x="172" y="133"/>
                    </a:lnTo>
                    <a:lnTo>
                      <a:pt x="156" y="128"/>
                    </a:lnTo>
                    <a:lnTo>
                      <a:pt x="140" y="122"/>
                    </a:lnTo>
                    <a:lnTo>
                      <a:pt x="126" y="116"/>
                    </a:lnTo>
                    <a:lnTo>
                      <a:pt x="111" y="113"/>
                    </a:lnTo>
                    <a:lnTo>
                      <a:pt x="95" y="107"/>
                    </a:lnTo>
                    <a:lnTo>
                      <a:pt x="79" y="106"/>
                    </a:lnTo>
                    <a:lnTo>
                      <a:pt x="65" y="104"/>
                    </a:lnTo>
                    <a:lnTo>
                      <a:pt x="49" y="104"/>
                    </a:lnTo>
                    <a:lnTo>
                      <a:pt x="37" y="101"/>
                    </a:lnTo>
                    <a:lnTo>
                      <a:pt x="27" y="99"/>
                    </a:lnTo>
                    <a:lnTo>
                      <a:pt x="20" y="94"/>
                    </a:lnTo>
                    <a:lnTo>
                      <a:pt x="13" y="90"/>
                    </a:lnTo>
                    <a:lnTo>
                      <a:pt x="7" y="83"/>
                    </a:lnTo>
                    <a:lnTo>
                      <a:pt x="4" y="75"/>
                    </a:lnTo>
                    <a:lnTo>
                      <a:pt x="1" y="68"/>
                    </a:lnTo>
                    <a:lnTo>
                      <a:pt x="1" y="61"/>
                    </a:lnTo>
                    <a:lnTo>
                      <a:pt x="0" y="52"/>
                    </a:lnTo>
                    <a:lnTo>
                      <a:pt x="1" y="43"/>
                    </a:lnTo>
                    <a:lnTo>
                      <a:pt x="3" y="36"/>
                    </a:lnTo>
                    <a:lnTo>
                      <a:pt x="7" y="27"/>
                    </a:lnTo>
                    <a:lnTo>
                      <a:pt x="10" y="19"/>
                    </a:lnTo>
                    <a:lnTo>
                      <a:pt x="16" y="11"/>
                    </a:lnTo>
                    <a:lnTo>
                      <a:pt x="21" y="6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940680" y="2004840"/>
                <a:ext cx="108360" cy="79560"/>
              </a:xfrm>
              <a:custGeom>
                <a:avLst/>
                <a:gdLst/>
                <a:ahLst/>
                <a:rect l="l" t="t" r="r" b="b"/>
                <a:pathLst>
                  <a:path w="232" h="183">
                    <a:moveTo>
                      <a:pt x="183" y="0"/>
                    </a:moveTo>
                    <a:lnTo>
                      <a:pt x="232" y="26"/>
                    </a:lnTo>
                    <a:lnTo>
                      <a:pt x="223" y="39"/>
                    </a:lnTo>
                    <a:lnTo>
                      <a:pt x="215" y="52"/>
                    </a:lnTo>
                    <a:lnTo>
                      <a:pt x="205" y="62"/>
                    </a:lnTo>
                    <a:lnTo>
                      <a:pt x="194" y="74"/>
                    </a:lnTo>
                    <a:lnTo>
                      <a:pt x="181" y="83"/>
                    </a:lnTo>
                    <a:lnTo>
                      <a:pt x="171" y="90"/>
                    </a:lnTo>
                    <a:lnTo>
                      <a:pt x="157" y="99"/>
                    </a:lnTo>
                    <a:lnTo>
                      <a:pt x="145" y="107"/>
                    </a:lnTo>
                    <a:lnTo>
                      <a:pt x="131" y="115"/>
                    </a:lnTo>
                    <a:lnTo>
                      <a:pt x="116" y="122"/>
                    </a:lnTo>
                    <a:lnTo>
                      <a:pt x="102" y="129"/>
                    </a:lnTo>
                    <a:lnTo>
                      <a:pt x="90" y="139"/>
                    </a:lnTo>
                    <a:lnTo>
                      <a:pt x="75" y="148"/>
                    </a:lnTo>
                    <a:lnTo>
                      <a:pt x="62" y="158"/>
                    </a:lnTo>
                    <a:lnTo>
                      <a:pt x="51" y="170"/>
                    </a:lnTo>
                    <a:lnTo>
                      <a:pt x="39" y="183"/>
                    </a:lnTo>
                    <a:lnTo>
                      <a:pt x="0" y="130"/>
                    </a:lnTo>
                    <a:lnTo>
                      <a:pt x="9" y="117"/>
                    </a:lnTo>
                    <a:lnTo>
                      <a:pt x="19" y="104"/>
                    </a:lnTo>
                    <a:lnTo>
                      <a:pt x="29" y="94"/>
                    </a:lnTo>
                    <a:lnTo>
                      <a:pt x="39" y="87"/>
                    </a:lnTo>
                    <a:lnTo>
                      <a:pt x="51" y="77"/>
                    </a:lnTo>
                    <a:lnTo>
                      <a:pt x="61" y="71"/>
                    </a:lnTo>
                    <a:lnTo>
                      <a:pt x="73" y="65"/>
                    </a:lnTo>
                    <a:lnTo>
                      <a:pt x="86" y="58"/>
                    </a:lnTo>
                    <a:lnTo>
                      <a:pt x="97" y="51"/>
                    </a:lnTo>
                    <a:lnTo>
                      <a:pt x="107" y="45"/>
                    </a:lnTo>
                    <a:lnTo>
                      <a:pt x="120" y="39"/>
                    </a:lnTo>
                    <a:lnTo>
                      <a:pt x="132" y="33"/>
                    </a:lnTo>
                    <a:lnTo>
                      <a:pt x="145" y="25"/>
                    </a:lnTo>
                    <a:lnTo>
                      <a:pt x="157" y="17"/>
                    </a:lnTo>
                    <a:lnTo>
                      <a:pt x="170" y="9"/>
                    </a:lnTo>
                    <a:lnTo>
                      <a:pt x="183" y="0"/>
                    </a:lnTo>
                    <a:lnTo>
                      <a:pt x="18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240200" y="2067480"/>
                <a:ext cx="96120" cy="156600"/>
              </a:xfrm>
              <a:custGeom>
                <a:avLst/>
                <a:gdLst/>
                <a:ahLst/>
                <a:rect l="l" t="t" r="r" b="b"/>
                <a:pathLst>
                  <a:path w="202" h="360">
                    <a:moveTo>
                      <a:pt x="38" y="0"/>
                    </a:moveTo>
                    <a:lnTo>
                      <a:pt x="59" y="13"/>
                    </a:lnTo>
                    <a:lnTo>
                      <a:pt x="80" y="30"/>
                    </a:lnTo>
                    <a:lnTo>
                      <a:pt x="94" y="46"/>
                    </a:lnTo>
                    <a:lnTo>
                      <a:pt x="109" y="65"/>
                    </a:lnTo>
                    <a:lnTo>
                      <a:pt x="120" y="83"/>
                    </a:lnTo>
                    <a:lnTo>
                      <a:pt x="131" y="102"/>
                    </a:lnTo>
                    <a:lnTo>
                      <a:pt x="138" y="120"/>
                    </a:lnTo>
                    <a:lnTo>
                      <a:pt x="147" y="142"/>
                    </a:lnTo>
                    <a:lnTo>
                      <a:pt x="152" y="162"/>
                    </a:lnTo>
                    <a:lnTo>
                      <a:pt x="158" y="184"/>
                    </a:lnTo>
                    <a:lnTo>
                      <a:pt x="162" y="206"/>
                    </a:lnTo>
                    <a:lnTo>
                      <a:pt x="170" y="229"/>
                    </a:lnTo>
                    <a:lnTo>
                      <a:pt x="176" y="251"/>
                    </a:lnTo>
                    <a:lnTo>
                      <a:pt x="183" y="274"/>
                    </a:lnTo>
                    <a:lnTo>
                      <a:pt x="191" y="297"/>
                    </a:lnTo>
                    <a:lnTo>
                      <a:pt x="202" y="322"/>
                    </a:lnTo>
                    <a:lnTo>
                      <a:pt x="190" y="360"/>
                    </a:lnTo>
                    <a:lnTo>
                      <a:pt x="170" y="351"/>
                    </a:lnTo>
                    <a:lnTo>
                      <a:pt x="152" y="341"/>
                    </a:lnTo>
                    <a:lnTo>
                      <a:pt x="136" y="326"/>
                    </a:lnTo>
                    <a:lnTo>
                      <a:pt x="125" y="313"/>
                    </a:lnTo>
                    <a:lnTo>
                      <a:pt x="113" y="297"/>
                    </a:lnTo>
                    <a:lnTo>
                      <a:pt x="104" y="281"/>
                    </a:lnTo>
                    <a:lnTo>
                      <a:pt x="97" y="264"/>
                    </a:lnTo>
                    <a:lnTo>
                      <a:pt x="91" y="247"/>
                    </a:lnTo>
                    <a:lnTo>
                      <a:pt x="84" y="226"/>
                    </a:lnTo>
                    <a:lnTo>
                      <a:pt x="77" y="209"/>
                    </a:lnTo>
                    <a:lnTo>
                      <a:pt x="71" y="189"/>
                    </a:lnTo>
                    <a:lnTo>
                      <a:pt x="65" y="170"/>
                    </a:lnTo>
                    <a:lnTo>
                      <a:pt x="57" y="152"/>
                    </a:lnTo>
                    <a:lnTo>
                      <a:pt x="48" y="133"/>
                    </a:lnTo>
                    <a:lnTo>
                      <a:pt x="38" y="116"/>
                    </a:lnTo>
                    <a:lnTo>
                      <a:pt x="26" y="102"/>
                    </a:lnTo>
                    <a:lnTo>
                      <a:pt x="19" y="94"/>
                    </a:lnTo>
                    <a:lnTo>
                      <a:pt x="13" y="87"/>
                    </a:lnTo>
                    <a:lnTo>
                      <a:pt x="9" y="81"/>
                    </a:lnTo>
                    <a:lnTo>
                      <a:pt x="6" y="75"/>
                    </a:lnTo>
                    <a:lnTo>
                      <a:pt x="3" y="70"/>
                    </a:lnTo>
                    <a:lnTo>
                      <a:pt x="1" y="62"/>
                    </a:lnTo>
                    <a:lnTo>
                      <a:pt x="0" y="57"/>
                    </a:lnTo>
                    <a:lnTo>
                      <a:pt x="1" y="51"/>
                    </a:lnTo>
                    <a:lnTo>
                      <a:pt x="1" y="44"/>
                    </a:lnTo>
                    <a:lnTo>
                      <a:pt x="4" y="38"/>
                    </a:lnTo>
                    <a:lnTo>
                      <a:pt x="6" y="30"/>
                    </a:lnTo>
                    <a:lnTo>
                      <a:pt x="12" y="25"/>
                    </a:lnTo>
                    <a:lnTo>
                      <a:pt x="17" y="19"/>
                    </a:lnTo>
                    <a:lnTo>
                      <a:pt x="23" y="13"/>
                    </a:lnTo>
                    <a:lnTo>
                      <a:pt x="29" y="6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032480" y="2083320"/>
                <a:ext cx="83160" cy="88560"/>
              </a:xfrm>
              <a:custGeom>
                <a:avLst/>
                <a:gdLst/>
                <a:ahLst/>
                <a:rect l="l" t="t" r="r" b="b"/>
                <a:pathLst>
                  <a:path w="175" h="204">
                    <a:moveTo>
                      <a:pt x="158" y="1"/>
                    </a:moveTo>
                    <a:lnTo>
                      <a:pt x="167" y="7"/>
                    </a:lnTo>
                    <a:lnTo>
                      <a:pt x="173" y="17"/>
                    </a:lnTo>
                    <a:lnTo>
                      <a:pt x="175" y="26"/>
                    </a:lnTo>
                    <a:lnTo>
                      <a:pt x="175" y="39"/>
                    </a:lnTo>
                    <a:lnTo>
                      <a:pt x="171" y="49"/>
                    </a:lnTo>
                    <a:lnTo>
                      <a:pt x="167" y="64"/>
                    </a:lnTo>
                    <a:lnTo>
                      <a:pt x="158" y="78"/>
                    </a:lnTo>
                    <a:lnTo>
                      <a:pt x="149" y="93"/>
                    </a:lnTo>
                    <a:lnTo>
                      <a:pt x="138" y="107"/>
                    </a:lnTo>
                    <a:lnTo>
                      <a:pt x="128" y="123"/>
                    </a:lnTo>
                    <a:lnTo>
                      <a:pt x="115" y="138"/>
                    </a:lnTo>
                    <a:lnTo>
                      <a:pt x="103" y="152"/>
                    </a:lnTo>
                    <a:lnTo>
                      <a:pt x="90" y="167"/>
                    </a:lnTo>
                    <a:lnTo>
                      <a:pt x="78" y="180"/>
                    </a:lnTo>
                    <a:lnTo>
                      <a:pt x="67" y="191"/>
                    </a:lnTo>
                    <a:lnTo>
                      <a:pt x="59" y="204"/>
                    </a:lnTo>
                    <a:lnTo>
                      <a:pt x="6" y="203"/>
                    </a:lnTo>
                    <a:lnTo>
                      <a:pt x="0" y="180"/>
                    </a:lnTo>
                    <a:lnTo>
                      <a:pt x="0" y="158"/>
                    </a:lnTo>
                    <a:lnTo>
                      <a:pt x="1" y="136"/>
                    </a:lnTo>
                    <a:lnTo>
                      <a:pt x="9" y="117"/>
                    </a:lnTo>
                    <a:lnTo>
                      <a:pt x="17" y="98"/>
                    </a:lnTo>
                    <a:lnTo>
                      <a:pt x="29" y="81"/>
                    </a:lnTo>
                    <a:lnTo>
                      <a:pt x="41" y="65"/>
                    </a:lnTo>
                    <a:lnTo>
                      <a:pt x="56" y="51"/>
                    </a:lnTo>
                    <a:lnTo>
                      <a:pt x="71" y="38"/>
                    </a:lnTo>
                    <a:lnTo>
                      <a:pt x="85" y="26"/>
                    </a:lnTo>
                    <a:lnTo>
                      <a:pt x="100" y="16"/>
                    </a:lnTo>
                    <a:lnTo>
                      <a:pt x="116" y="9"/>
                    </a:lnTo>
                    <a:lnTo>
                      <a:pt x="128" y="3"/>
                    </a:lnTo>
                    <a:lnTo>
                      <a:pt x="141" y="0"/>
                    </a:lnTo>
                    <a:lnTo>
                      <a:pt x="149" y="0"/>
                    </a:lnTo>
                    <a:lnTo>
                      <a:pt x="158" y="1"/>
                    </a:lnTo>
                    <a:lnTo>
                      <a:pt x="15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61000" y="2080800"/>
                <a:ext cx="49680" cy="129240"/>
              </a:xfrm>
              <a:custGeom>
                <a:avLst/>
                <a:gdLst/>
                <a:ahLst/>
                <a:rect l="l" t="t" r="r" b="b"/>
                <a:pathLst>
                  <a:path w="103" h="296">
                    <a:moveTo>
                      <a:pt x="56" y="0"/>
                    </a:moveTo>
                    <a:lnTo>
                      <a:pt x="74" y="8"/>
                    </a:lnTo>
                    <a:lnTo>
                      <a:pt x="87" y="19"/>
                    </a:lnTo>
                    <a:lnTo>
                      <a:pt x="95" y="32"/>
                    </a:lnTo>
                    <a:lnTo>
                      <a:pt x="103" y="48"/>
                    </a:lnTo>
                    <a:lnTo>
                      <a:pt x="103" y="64"/>
                    </a:lnTo>
                    <a:lnTo>
                      <a:pt x="103" y="83"/>
                    </a:lnTo>
                    <a:lnTo>
                      <a:pt x="100" y="102"/>
                    </a:lnTo>
                    <a:lnTo>
                      <a:pt x="95" y="122"/>
                    </a:lnTo>
                    <a:lnTo>
                      <a:pt x="90" y="143"/>
                    </a:lnTo>
                    <a:lnTo>
                      <a:pt x="84" y="163"/>
                    </a:lnTo>
                    <a:lnTo>
                      <a:pt x="77" y="183"/>
                    </a:lnTo>
                    <a:lnTo>
                      <a:pt x="71" y="204"/>
                    </a:lnTo>
                    <a:lnTo>
                      <a:pt x="65" y="222"/>
                    </a:lnTo>
                    <a:lnTo>
                      <a:pt x="61" y="241"/>
                    </a:lnTo>
                    <a:lnTo>
                      <a:pt x="59" y="259"/>
                    </a:lnTo>
                    <a:lnTo>
                      <a:pt x="61" y="276"/>
                    </a:lnTo>
                    <a:lnTo>
                      <a:pt x="13" y="296"/>
                    </a:lnTo>
                    <a:lnTo>
                      <a:pt x="7" y="276"/>
                    </a:lnTo>
                    <a:lnTo>
                      <a:pt x="5" y="257"/>
                    </a:lnTo>
                    <a:lnTo>
                      <a:pt x="3" y="238"/>
                    </a:lnTo>
                    <a:lnTo>
                      <a:pt x="1" y="220"/>
                    </a:lnTo>
                    <a:lnTo>
                      <a:pt x="0" y="201"/>
                    </a:lnTo>
                    <a:lnTo>
                      <a:pt x="1" y="180"/>
                    </a:lnTo>
                    <a:lnTo>
                      <a:pt x="1" y="161"/>
                    </a:lnTo>
                    <a:lnTo>
                      <a:pt x="4" y="144"/>
                    </a:lnTo>
                    <a:lnTo>
                      <a:pt x="7" y="125"/>
                    </a:lnTo>
                    <a:lnTo>
                      <a:pt x="11" y="106"/>
                    </a:lnTo>
                    <a:lnTo>
                      <a:pt x="14" y="88"/>
                    </a:lnTo>
                    <a:lnTo>
                      <a:pt x="21" y="69"/>
                    </a:lnTo>
                    <a:lnTo>
                      <a:pt x="27" y="51"/>
                    </a:lnTo>
                    <a:lnTo>
                      <a:pt x="36" y="34"/>
                    </a:lnTo>
                    <a:lnTo>
                      <a:pt x="45" y="16"/>
                    </a:lnTo>
                    <a:lnTo>
                      <a:pt x="56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393200" y="1738800"/>
                <a:ext cx="180720" cy="405720"/>
              </a:xfrm>
              <a:custGeom>
                <a:avLst/>
                <a:gdLst/>
                <a:ahLst/>
                <a:rect l="l" t="t" r="r" b="b"/>
                <a:pathLst>
                  <a:path w="385" h="935">
                    <a:moveTo>
                      <a:pt x="15" y="0"/>
                    </a:moveTo>
                    <a:lnTo>
                      <a:pt x="42" y="10"/>
                    </a:lnTo>
                    <a:lnTo>
                      <a:pt x="67" y="23"/>
                    </a:lnTo>
                    <a:lnTo>
                      <a:pt x="90" y="39"/>
                    </a:lnTo>
                    <a:lnTo>
                      <a:pt x="113" y="59"/>
                    </a:lnTo>
                    <a:lnTo>
                      <a:pt x="134" y="80"/>
                    </a:lnTo>
                    <a:lnTo>
                      <a:pt x="154" y="103"/>
                    </a:lnTo>
                    <a:lnTo>
                      <a:pt x="174" y="126"/>
                    </a:lnTo>
                    <a:lnTo>
                      <a:pt x="193" y="151"/>
                    </a:lnTo>
                    <a:lnTo>
                      <a:pt x="212" y="175"/>
                    </a:lnTo>
                    <a:lnTo>
                      <a:pt x="231" y="198"/>
                    </a:lnTo>
                    <a:lnTo>
                      <a:pt x="251" y="222"/>
                    </a:lnTo>
                    <a:lnTo>
                      <a:pt x="273" y="243"/>
                    </a:lnTo>
                    <a:lnTo>
                      <a:pt x="295" y="262"/>
                    </a:lnTo>
                    <a:lnTo>
                      <a:pt x="318" y="280"/>
                    </a:lnTo>
                    <a:lnTo>
                      <a:pt x="342" y="294"/>
                    </a:lnTo>
                    <a:lnTo>
                      <a:pt x="370" y="306"/>
                    </a:lnTo>
                    <a:lnTo>
                      <a:pt x="376" y="317"/>
                    </a:lnTo>
                    <a:lnTo>
                      <a:pt x="382" y="330"/>
                    </a:lnTo>
                    <a:lnTo>
                      <a:pt x="383" y="342"/>
                    </a:lnTo>
                    <a:lnTo>
                      <a:pt x="385" y="355"/>
                    </a:lnTo>
                    <a:lnTo>
                      <a:pt x="383" y="367"/>
                    </a:lnTo>
                    <a:lnTo>
                      <a:pt x="380" y="378"/>
                    </a:lnTo>
                    <a:lnTo>
                      <a:pt x="376" y="391"/>
                    </a:lnTo>
                    <a:lnTo>
                      <a:pt x="371" y="403"/>
                    </a:lnTo>
                    <a:lnTo>
                      <a:pt x="366" y="416"/>
                    </a:lnTo>
                    <a:lnTo>
                      <a:pt x="358" y="429"/>
                    </a:lnTo>
                    <a:lnTo>
                      <a:pt x="353" y="444"/>
                    </a:lnTo>
                    <a:lnTo>
                      <a:pt x="348" y="460"/>
                    </a:lnTo>
                    <a:lnTo>
                      <a:pt x="342" y="474"/>
                    </a:lnTo>
                    <a:lnTo>
                      <a:pt x="340" y="493"/>
                    </a:lnTo>
                    <a:lnTo>
                      <a:pt x="337" y="512"/>
                    </a:lnTo>
                    <a:lnTo>
                      <a:pt x="337" y="532"/>
                    </a:lnTo>
                    <a:lnTo>
                      <a:pt x="335" y="552"/>
                    </a:lnTo>
                    <a:lnTo>
                      <a:pt x="334" y="576"/>
                    </a:lnTo>
                    <a:lnTo>
                      <a:pt x="332" y="599"/>
                    </a:lnTo>
                    <a:lnTo>
                      <a:pt x="331" y="624"/>
                    </a:lnTo>
                    <a:lnTo>
                      <a:pt x="328" y="648"/>
                    </a:lnTo>
                    <a:lnTo>
                      <a:pt x="325" y="674"/>
                    </a:lnTo>
                    <a:lnTo>
                      <a:pt x="322" y="699"/>
                    </a:lnTo>
                    <a:lnTo>
                      <a:pt x="319" y="727"/>
                    </a:lnTo>
                    <a:lnTo>
                      <a:pt x="313" y="753"/>
                    </a:lnTo>
                    <a:lnTo>
                      <a:pt x="309" y="779"/>
                    </a:lnTo>
                    <a:lnTo>
                      <a:pt x="305" y="805"/>
                    </a:lnTo>
                    <a:lnTo>
                      <a:pt x="299" y="831"/>
                    </a:lnTo>
                    <a:lnTo>
                      <a:pt x="293" y="856"/>
                    </a:lnTo>
                    <a:lnTo>
                      <a:pt x="287" y="882"/>
                    </a:lnTo>
                    <a:lnTo>
                      <a:pt x="280" y="906"/>
                    </a:lnTo>
                    <a:lnTo>
                      <a:pt x="273" y="931"/>
                    </a:lnTo>
                    <a:lnTo>
                      <a:pt x="266" y="931"/>
                    </a:lnTo>
                    <a:lnTo>
                      <a:pt x="258" y="931"/>
                    </a:lnTo>
                    <a:lnTo>
                      <a:pt x="251" y="933"/>
                    </a:lnTo>
                    <a:lnTo>
                      <a:pt x="245" y="934"/>
                    </a:lnTo>
                    <a:lnTo>
                      <a:pt x="238" y="934"/>
                    </a:lnTo>
                    <a:lnTo>
                      <a:pt x="232" y="934"/>
                    </a:lnTo>
                    <a:lnTo>
                      <a:pt x="226" y="934"/>
                    </a:lnTo>
                    <a:lnTo>
                      <a:pt x="221" y="935"/>
                    </a:lnTo>
                    <a:lnTo>
                      <a:pt x="213" y="912"/>
                    </a:lnTo>
                    <a:lnTo>
                      <a:pt x="208" y="888"/>
                    </a:lnTo>
                    <a:lnTo>
                      <a:pt x="205" y="864"/>
                    </a:lnTo>
                    <a:lnTo>
                      <a:pt x="205" y="841"/>
                    </a:lnTo>
                    <a:lnTo>
                      <a:pt x="205" y="816"/>
                    </a:lnTo>
                    <a:lnTo>
                      <a:pt x="206" y="792"/>
                    </a:lnTo>
                    <a:lnTo>
                      <a:pt x="209" y="767"/>
                    </a:lnTo>
                    <a:lnTo>
                      <a:pt x="215" y="744"/>
                    </a:lnTo>
                    <a:lnTo>
                      <a:pt x="218" y="718"/>
                    </a:lnTo>
                    <a:lnTo>
                      <a:pt x="223" y="693"/>
                    </a:lnTo>
                    <a:lnTo>
                      <a:pt x="228" y="669"/>
                    </a:lnTo>
                    <a:lnTo>
                      <a:pt x="235" y="644"/>
                    </a:lnTo>
                    <a:lnTo>
                      <a:pt x="238" y="619"/>
                    </a:lnTo>
                    <a:lnTo>
                      <a:pt x="242" y="595"/>
                    </a:lnTo>
                    <a:lnTo>
                      <a:pt x="245" y="570"/>
                    </a:lnTo>
                    <a:lnTo>
                      <a:pt x="250" y="547"/>
                    </a:lnTo>
                    <a:lnTo>
                      <a:pt x="247" y="531"/>
                    </a:lnTo>
                    <a:lnTo>
                      <a:pt x="247" y="516"/>
                    </a:lnTo>
                    <a:lnTo>
                      <a:pt x="248" y="502"/>
                    </a:lnTo>
                    <a:lnTo>
                      <a:pt x="251" y="486"/>
                    </a:lnTo>
                    <a:lnTo>
                      <a:pt x="254" y="468"/>
                    </a:lnTo>
                    <a:lnTo>
                      <a:pt x="258" y="452"/>
                    </a:lnTo>
                    <a:lnTo>
                      <a:pt x="261" y="436"/>
                    </a:lnTo>
                    <a:lnTo>
                      <a:pt x="266" y="420"/>
                    </a:lnTo>
                    <a:lnTo>
                      <a:pt x="266" y="404"/>
                    </a:lnTo>
                    <a:lnTo>
                      <a:pt x="267" y="390"/>
                    </a:lnTo>
                    <a:lnTo>
                      <a:pt x="266" y="374"/>
                    </a:lnTo>
                    <a:lnTo>
                      <a:pt x="263" y="362"/>
                    </a:lnTo>
                    <a:lnTo>
                      <a:pt x="255" y="349"/>
                    </a:lnTo>
                    <a:lnTo>
                      <a:pt x="245" y="339"/>
                    </a:lnTo>
                    <a:lnTo>
                      <a:pt x="232" y="330"/>
                    </a:lnTo>
                    <a:lnTo>
                      <a:pt x="216" y="325"/>
                    </a:lnTo>
                    <a:lnTo>
                      <a:pt x="202" y="307"/>
                    </a:lnTo>
                    <a:lnTo>
                      <a:pt x="190" y="290"/>
                    </a:lnTo>
                    <a:lnTo>
                      <a:pt x="177" y="274"/>
                    </a:lnTo>
                    <a:lnTo>
                      <a:pt x="164" y="258"/>
                    </a:lnTo>
                    <a:lnTo>
                      <a:pt x="151" y="242"/>
                    </a:lnTo>
                    <a:lnTo>
                      <a:pt x="138" y="226"/>
                    </a:lnTo>
                    <a:lnTo>
                      <a:pt x="126" y="210"/>
                    </a:lnTo>
                    <a:lnTo>
                      <a:pt x="113" y="196"/>
                    </a:lnTo>
                    <a:lnTo>
                      <a:pt x="100" y="181"/>
                    </a:lnTo>
                    <a:lnTo>
                      <a:pt x="86" y="165"/>
                    </a:lnTo>
                    <a:lnTo>
                      <a:pt x="73" y="151"/>
                    </a:lnTo>
                    <a:lnTo>
                      <a:pt x="60" y="138"/>
                    </a:lnTo>
                    <a:lnTo>
                      <a:pt x="45" y="123"/>
                    </a:lnTo>
                    <a:lnTo>
                      <a:pt x="31" y="110"/>
                    </a:lnTo>
                    <a:lnTo>
                      <a:pt x="15" y="97"/>
                    </a:lnTo>
                    <a:lnTo>
                      <a:pt x="0" y="85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69320" y="2077920"/>
                <a:ext cx="392760" cy="236520"/>
              </a:xfrm>
              <a:custGeom>
                <a:avLst/>
                <a:gdLst/>
                <a:ahLst/>
                <a:rect l="l" t="t" r="r" b="b"/>
                <a:pathLst>
                  <a:path w="833" h="544">
                    <a:moveTo>
                      <a:pt x="29" y="0"/>
                    </a:moveTo>
                    <a:lnTo>
                      <a:pt x="47" y="13"/>
                    </a:lnTo>
                    <a:lnTo>
                      <a:pt x="66" y="28"/>
                    </a:lnTo>
                    <a:lnTo>
                      <a:pt x="83" y="44"/>
                    </a:lnTo>
                    <a:lnTo>
                      <a:pt x="100" y="61"/>
                    </a:lnTo>
                    <a:lnTo>
                      <a:pt x="115" y="79"/>
                    </a:lnTo>
                    <a:lnTo>
                      <a:pt x="132" y="97"/>
                    </a:lnTo>
                    <a:lnTo>
                      <a:pt x="148" y="116"/>
                    </a:lnTo>
                    <a:lnTo>
                      <a:pt x="164" y="137"/>
                    </a:lnTo>
                    <a:lnTo>
                      <a:pt x="180" y="154"/>
                    </a:lnTo>
                    <a:lnTo>
                      <a:pt x="196" y="176"/>
                    </a:lnTo>
                    <a:lnTo>
                      <a:pt x="212" y="193"/>
                    </a:lnTo>
                    <a:lnTo>
                      <a:pt x="231" y="215"/>
                    </a:lnTo>
                    <a:lnTo>
                      <a:pt x="247" y="232"/>
                    </a:lnTo>
                    <a:lnTo>
                      <a:pt x="267" y="253"/>
                    </a:lnTo>
                    <a:lnTo>
                      <a:pt x="285" y="270"/>
                    </a:lnTo>
                    <a:lnTo>
                      <a:pt x="306" y="289"/>
                    </a:lnTo>
                    <a:lnTo>
                      <a:pt x="333" y="318"/>
                    </a:lnTo>
                    <a:lnTo>
                      <a:pt x="360" y="343"/>
                    </a:lnTo>
                    <a:lnTo>
                      <a:pt x="389" y="360"/>
                    </a:lnTo>
                    <a:lnTo>
                      <a:pt x="421" y="377"/>
                    </a:lnTo>
                    <a:lnTo>
                      <a:pt x="453" y="389"/>
                    </a:lnTo>
                    <a:lnTo>
                      <a:pt x="485" y="398"/>
                    </a:lnTo>
                    <a:lnTo>
                      <a:pt x="520" y="404"/>
                    </a:lnTo>
                    <a:lnTo>
                      <a:pt x="553" y="411"/>
                    </a:lnTo>
                    <a:lnTo>
                      <a:pt x="588" y="415"/>
                    </a:lnTo>
                    <a:lnTo>
                      <a:pt x="621" y="419"/>
                    </a:lnTo>
                    <a:lnTo>
                      <a:pt x="656" y="424"/>
                    </a:lnTo>
                    <a:lnTo>
                      <a:pt x="691" y="431"/>
                    </a:lnTo>
                    <a:lnTo>
                      <a:pt x="724" y="437"/>
                    </a:lnTo>
                    <a:lnTo>
                      <a:pt x="758" y="447"/>
                    </a:lnTo>
                    <a:lnTo>
                      <a:pt x="790" y="460"/>
                    </a:lnTo>
                    <a:lnTo>
                      <a:pt x="823" y="477"/>
                    </a:lnTo>
                    <a:lnTo>
                      <a:pt x="823" y="482"/>
                    </a:lnTo>
                    <a:lnTo>
                      <a:pt x="823" y="489"/>
                    </a:lnTo>
                    <a:lnTo>
                      <a:pt x="824" y="495"/>
                    </a:lnTo>
                    <a:lnTo>
                      <a:pt x="826" y="502"/>
                    </a:lnTo>
                    <a:lnTo>
                      <a:pt x="827" y="508"/>
                    </a:lnTo>
                    <a:lnTo>
                      <a:pt x="829" y="515"/>
                    </a:lnTo>
                    <a:lnTo>
                      <a:pt x="830" y="522"/>
                    </a:lnTo>
                    <a:lnTo>
                      <a:pt x="833" y="531"/>
                    </a:lnTo>
                    <a:lnTo>
                      <a:pt x="819" y="537"/>
                    </a:lnTo>
                    <a:lnTo>
                      <a:pt x="803" y="543"/>
                    </a:lnTo>
                    <a:lnTo>
                      <a:pt x="787" y="543"/>
                    </a:lnTo>
                    <a:lnTo>
                      <a:pt x="772" y="544"/>
                    </a:lnTo>
                    <a:lnTo>
                      <a:pt x="758" y="543"/>
                    </a:lnTo>
                    <a:lnTo>
                      <a:pt x="742" y="538"/>
                    </a:lnTo>
                    <a:lnTo>
                      <a:pt x="726" y="536"/>
                    </a:lnTo>
                    <a:lnTo>
                      <a:pt x="711" y="531"/>
                    </a:lnTo>
                    <a:lnTo>
                      <a:pt x="697" y="527"/>
                    </a:lnTo>
                    <a:lnTo>
                      <a:pt x="682" y="521"/>
                    </a:lnTo>
                    <a:lnTo>
                      <a:pt x="666" y="517"/>
                    </a:lnTo>
                    <a:lnTo>
                      <a:pt x="652" y="514"/>
                    </a:lnTo>
                    <a:lnTo>
                      <a:pt x="637" y="511"/>
                    </a:lnTo>
                    <a:lnTo>
                      <a:pt x="623" y="509"/>
                    </a:lnTo>
                    <a:lnTo>
                      <a:pt x="608" y="508"/>
                    </a:lnTo>
                    <a:lnTo>
                      <a:pt x="595" y="511"/>
                    </a:lnTo>
                    <a:lnTo>
                      <a:pt x="563" y="507"/>
                    </a:lnTo>
                    <a:lnTo>
                      <a:pt x="534" y="504"/>
                    </a:lnTo>
                    <a:lnTo>
                      <a:pt x="505" y="499"/>
                    </a:lnTo>
                    <a:lnTo>
                      <a:pt x="478" y="493"/>
                    </a:lnTo>
                    <a:lnTo>
                      <a:pt x="450" y="485"/>
                    </a:lnTo>
                    <a:lnTo>
                      <a:pt x="424" y="477"/>
                    </a:lnTo>
                    <a:lnTo>
                      <a:pt x="396" y="467"/>
                    </a:lnTo>
                    <a:lnTo>
                      <a:pt x="372" y="456"/>
                    </a:lnTo>
                    <a:lnTo>
                      <a:pt x="346" y="443"/>
                    </a:lnTo>
                    <a:lnTo>
                      <a:pt x="321" y="427"/>
                    </a:lnTo>
                    <a:lnTo>
                      <a:pt x="296" y="411"/>
                    </a:lnTo>
                    <a:lnTo>
                      <a:pt x="275" y="393"/>
                    </a:lnTo>
                    <a:lnTo>
                      <a:pt x="253" y="372"/>
                    </a:lnTo>
                    <a:lnTo>
                      <a:pt x="231" y="351"/>
                    </a:lnTo>
                    <a:lnTo>
                      <a:pt x="209" y="328"/>
                    </a:lnTo>
                    <a:lnTo>
                      <a:pt x="190" y="303"/>
                    </a:lnTo>
                    <a:lnTo>
                      <a:pt x="176" y="286"/>
                    </a:lnTo>
                    <a:lnTo>
                      <a:pt x="160" y="271"/>
                    </a:lnTo>
                    <a:lnTo>
                      <a:pt x="144" y="256"/>
                    </a:lnTo>
                    <a:lnTo>
                      <a:pt x="129" y="240"/>
                    </a:lnTo>
                    <a:lnTo>
                      <a:pt x="115" y="225"/>
                    </a:lnTo>
                    <a:lnTo>
                      <a:pt x="100" y="209"/>
                    </a:lnTo>
                    <a:lnTo>
                      <a:pt x="87" y="193"/>
                    </a:lnTo>
                    <a:lnTo>
                      <a:pt x="76" y="179"/>
                    </a:lnTo>
                    <a:lnTo>
                      <a:pt x="61" y="161"/>
                    </a:lnTo>
                    <a:lnTo>
                      <a:pt x="51" y="147"/>
                    </a:lnTo>
                    <a:lnTo>
                      <a:pt x="39" y="131"/>
                    </a:lnTo>
                    <a:lnTo>
                      <a:pt x="29" y="115"/>
                    </a:lnTo>
                    <a:lnTo>
                      <a:pt x="21" y="99"/>
                    </a:lnTo>
                    <a:lnTo>
                      <a:pt x="12" y="83"/>
                    </a:lnTo>
                    <a:lnTo>
                      <a:pt x="5" y="65"/>
                    </a:lnTo>
                    <a:lnTo>
                      <a:pt x="0" y="50"/>
                    </a:lnTo>
                    <a:lnTo>
                      <a:pt x="2" y="42"/>
                    </a:lnTo>
                    <a:lnTo>
                      <a:pt x="5" y="36"/>
                    </a:lnTo>
                    <a:lnTo>
                      <a:pt x="9" y="28"/>
                    </a:lnTo>
                    <a:lnTo>
                      <a:pt x="15" y="22"/>
                    </a:lnTo>
                    <a:lnTo>
                      <a:pt x="18" y="13"/>
                    </a:lnTo>
                    <a:lnTo>
                      <a:pt x="22" y="7"/>
                    </a:lnTo>
                    <a:lnTo>
                      <a:pt x="25" y="3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336320" y="1741320"/>
                <a:ext cx="84960" cy="58320"/>
              </a:xfrm>
              <a:custGeom>
                <a:avLst/>
                <a:gdLst/>
                <a:ahLst/>
                <a:rect l="l" t="t" r="r" b="b"/>
                <a:pathLst>
                  <a:path w="180" h="137">
                    <a:moveTo>
                      <a:pt x="135" y="0"/>
                    </a:moveTo>
                    <a:lnTo>
                      <a:pt x="180" y="55"/>
                    </a:lnTo>
                    <a:lnTo>
                      <a:pt x="174" y="63"/>
                    </a:lnTo>
                    <a:lnTo>
                      <a:pt x="166" y="72"/>
                    </a:lnTo>
                    <a:lnTo>
                      <a:pt x="159" y="79"/>
                    </a:lnTo>
                    <a:lnTo>
                      <a:pt x="152" y="87"/>
                    </a:lnTo>
                    <a:lnTo>
                      <a:pt x="143" y="92"/>
                    </a:lnTo>
                    <a:lnTo>
                      <a:pt x="135" y="98"/>
                    </a:lnTo>
                    <a:lnTo>
                      <a:pt x="126" y="104"/>
                    </a:lnTo>
                    <a:lnTo>
                      <a:pt x="117" y="108"/>
                    </a:lnTo>
                    <a:lnTo>
                      <a:pt x="107" y="111"/>
                    </a:lnTo>
                    <a:lnTo>
                      <a:pt x="97" y="116"/>
                    </a:lnTo>
                    <a:lnTo>
                      <a:pt x="87" y="118"/>
                    </a:lnTo>
                    <a:lnTo>
                      <a:pt x="78" y="123"/>
                    </a:lnTo>
                    <a:lnTo>
                      <a:pt x="66" y="126"/>
                    </a:lnTo>
                    <a:lnTo>
                      <a:pt x="56" y="130"/>
                    </a:lnTo>
                    <a:lnTo>
                      <a:pt x="48" y="133"/>
                    </a:lnTo>
                    <a:lnTo>
                      <a:pt x="39" y="137"/>
                    </a:lnTo>
                    <a:lnTo>
                      <a:pt x="0" y="105"/>
                    </a:lnTo>
                    <a:lnTo>
                      <a:pt x="0" y="92"/>
                    </a:lnTo>
                    <a:lnTo>
                      <a:pt x="1" y="82"/>
                    </a:lnTo>
                    <a:lnTo>
                      <a:pt x="5" y="72"/>
                    </a:lnTo>
                    <a:lnTo>
                      <a:pt x="11" y="65"/>
                    </a:lnTo>
                    <a:lnTo>
                      <a:pt x="19" y="58"/>
                    </a:lnTo>
                    <a:lnTo>
                      <a:pt x="27" y="50"/>
                    </a:lnTo>
                    <a:lnTo>
                      <a:pt x="37" y="44"/>
                    </a:lnTo>
                    <a:lnTo>
                      <a:pt x="49" y="40"/>
                    </a:lnTo>
                    <a:lnTo>
                      <a:pt x="59" y="34"/>
                    </a:lnTo>
                    <a:lnTo>
                      <a:pt x="71" y="30"/>
                    </a:lnTo>
                    <a:lnTo>
                      <a:pt x="82" y="26"/>
                    </a:lnTo>
                    <a:lnTo>
                      <a:pt x="95" y="21"/>
                    </a:lnTo>
                    <a:lnTo>
                      <a:pt x="106" y="15"/>
                    </a:lnTo>
                    <a:lnTo>
                      <a:pt x="116" y="11"/>
                    </a:lnTo>
                    <a:lnTo>
                      <a:pt x="124" y="5"/>
                    </a:lnTo>
                    <a:lnTo>
                      <a:pt x="135" y="0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414440" y="1849680"/>
                <a:ext cx="108360" cy="73080"/>
              </a:xfrm>
              <a:custGeom>
                <a:avLst/>
                <a:gdLst/>
                <a:ahLst/>
                <a:rect l="l" t="t" r="r" b="b"/>
                <a:pathLst>
                  <a:path w="232" h="166">
                    <a:moveTo>
                      <a:pt x="164" y="0"/>
                    </a:moveTo>
                    <a:lnTo>
                      <a:pt x="232" y="72"/>
                    </a:lnTo>
                    <a:lnTo>
                      <a:pt x="221" y="81"/>
                    </a:lnTo>
                    <a:lnTo>
                      <a:pt x="210" y="92"/>
                    </a:lnTo>
                    <a:lnTo>
                      <a:pt x="199" y="101"/>
                    </a:lnTo>
                    <a:lnTo>
                      <a:pt x="189" y="111"/>
                    </a:lnTo>
                    <a:lnTo>
                      <a:pt x="176" y="120"/>
                    </a:lnTo>
                    <a:lnTo>
                      <a:pt x="164" y="127"/>
                    </a:lnTo>
                    <a:lnTo>
                      <a:pt x="151" y="136"/>
                    </a:lnTo>
                    <a:lnTo>
                      <a:pt x="139" y="143"/>
                    </a:lnTo>
                    <a:lnTo>
                      <a:pt x="126" y="149"/>
                    </a:lnTo>
                    <a:lnTo>
                      <a:pt x="112" y="155"/>
                    </a:lnTo>
                    <a:lnTo>
                      <a:pt x="99" y="159"/>
                    </a:lnTo>
                    <a:lnTo>
                      <a:pt x="86" y="163"/>
                    </a:lnTo>
                    <a:lnTo>
                      <a:pt x="71" y="165"/>
                    </a:lnTo>
                    <a:lnTo>
                      <a:pt x="58" y="166"/>
                    </a:lnTo>
                    <a:lnTo>
                      <a:pt x="44" y="166"/>
                    </a:lnTo>
                    <a:lnTo>
                      <a:pt x="31" y="166"/>
                    </a:lnTo>
                    <a:lnTo>
                      <a:pt x="0" y="107"/>
                    </a:lnTo>
                    <a:lnTo>
                      <a:pt x="6" y="94"/>
                    </a:lnTo>
                    <a:lnTo>
                      <a:pt x="16" y="84"/>
                    </a:lnTo>
                    <a:lnTo>
                      <a:pt x="23" y="75"/>
                    </a:lnTo>
                    <a:lnTo>
                      <a:pt x="33" y="68"/>
                    </a:lnTo>
                    <a:lnTo>
                      <a:pt x="44" y="60"/>
                    </a:lnTo>
                    <a:lnTo>
                      <a:pt x="55" y="53"/>
                    </a:lnTo>
                    <a:lnTo>
                      <a:pt x="65" y="49"/>
                    </a:lnTo>
                    <a:lnTo>
                      <a:pt x="77" y="44"/>
                    </a:lnTo>
                    <a:lnTo>
                      <a:pt x="87" y="39"/>
                    </a:lnTo>
                    <a:lnTo>
                      <a:pt x="99" y="34"/>
                    </a:lnTo>
                    <a:lnTo>
                      <a:pt x="110" y="29"/>
                    </a:lnTo>
                    <a:lnTo>
                      <a:pt x="122" y="24"/>
                    </a:lnTo>
                    <a:lnTo>
                      <a:pt x="132" y="18"/>
                    </a:lnTo>
                    <a:lnTo>
                      <a:pt x="142" y="14"/>
                    </a:lnTo>
                    <a:lnTo>
                      <a:pt x="152" y="7"/>
                    </a:lnTo>
                    <a:lnTo>
                      <a:pt x="164" y="0"/>
                    </a:lnTo>
                    <a:lnTo>
                      <a:pt x="1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411560" y="1963080"/>
                <a:ext cx="125640" cy="58680"/>
              </a:xfrm>
              <a:custGeom>
                <a:avLst/>
                <a:gdLst/>
                <a:ahLst/>
                <a:rect l="l" t="t" r="r" b="b"/>
                <a:pathLst>
                  <a:path w="269" h="135">
                    <a:moveTo>
                      <a:pt x="231" y="0"/>
                    </a:moveTo>
                    <a:lnTo>
                      <a:pt x="269" y="45"/>
                    </a:lnTo>
                    <a:lnTo>
                      <a:pt x="257" y="59"/>
                    </a:lnTo>
                    <a:lnTo>
                      <a:pt x="245" y="74"/>
                    </a:lnTo>
                    <a:lnTo>
                      <a:pt x="231" y="84"/>
                    </a:lnTo>
                    <a:lnTo>
                      <a:pt x="216" y="95"/>
                    </a:lnTo>
                    <a:lnTo>
                      <a:pt x="200" y="104"/>
                    </a:lnTo>
                    <a:lnTo>
                      <a:pt x="184" y="113"/>
                    </a:lnTo>
                    <a:lnTo>
                      <a:pt x="166" y="120"/>
                    </a:lnTo>
                    <a:lnTo>
                      <a:pt x="148" y="126"/>
                    </a:lnTo>
                    <a:lnTo>
                      <a:pt x="128" y="129"/>
                    </a:lnTo>
                    <a:lnTo>
                      <a:pt x="111" y="132"/>
                    </a:lnTo>
                    <a:lnTo>
                      <a:pt x="90" y="133"/>
                    </a:lnTo>
                    <a:lnTo>
                      <a:pt x="71" y="135"/>
                    </a:lnTo>
                    <a:lnTo>
                      <a:pt x="52" y="133"/>
                    </a:lnTo>
                    <a:lnTo>
                      <a:pt x="35" y="130"/>
                    </a:lnTo>
                    <a:lnTo>
                      <a:pt x="16" y="127"/>
                    </a:lnTo>
                    <a:lnTo>
                      <a:pt x="0" y="126"/>
                    </a:lnTo>
                    <a:lnTo>
                      <a:pt x="0" y="117"/>
                    </a:lnTo>
                    <a:lnTo>
                      <a:pt x="0" y="110"/>
                    </a:lnTo>
                    <a:lnTo>
                      <a:pt x="2" y="104"/>
                    </a:lnTo>
                    <a:lnTo>
                      <a:pt x="3" y="98"/>
                    </a:lnTo>
                    <a:lnTo>
                      <a:pt x="3" y="91"/>
                    </a:lnTo>
                    <a:lnTo>
                      <a:pt x="3" y="84"/>
                    </a:lnTo>
                    <a:lnTo>
                      <a:pt x="5" y="77"/>
                    </a:lnTo>
                    <a:lnTo>
                      <a:pt x="6" y="71"/>
                    </a:lnTo>
                    <a:lnTo>
                      <a:pt x="18" y="62"/>
                    </a:lnTo>
                    <a:lnTo>
                      <a:pt x="29" y="56"/>
                    </a:lnTo>
                    <a:lnTo>
                      <a:pt x="42" y="49"/>
                    </a:lnTo>
                    <a:lnTo>
                      <a:pt x="57" y="46"/>
                    </a:lnTo>
                    <a:lnTo>
                      <a:pt x="71" y="42"/>
                    </a:lnTo>
                    <a:lnTo>
                      <a:pt x="86" y="39"/>
                    </a:lnTo>
                    <a:lnTo>
                      <a:pt x="102" y="37"/>
                    </a:lnTo>
                    <a:lnTo>
                      <a:pt x="118" y="34"/>
                    </a:lnTo>
                    <a:lnTo>
                      <a:pt x="132" y="32"/>
                    </a:lnTo>
                    <a:lnTo>
                      <a:pt x="147" y="29"/>
                    </a:lnTo>
                    <a:lnTo>
                      <a:pt x="161" y="26"/>
                    </a:lnTo>
                    <a:lnTo>
                      <a:pt x="177" y="23"/>
                    </a:lnTo>
                    <a:lnTo>
                      <a:pt x="190" y="17"/>
                    </a:lnTo>
                    <a:lnTo>
                      <a:pt x="205" y="13"/>
                    </a:lnTo>
                    <a:lnTo>
                      <a:pt x="216" y="5"/>
                    </a:lnTo>
                    <a:lnTo>
                      <a:pt x="231" y="0"/>
                    </a:lnTo>
                    <a:lnTo>
                      <a:pt x="2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377360" y="2096280"/>
                <a:ext cx="142920" cy="49680"/>
              </a:xfrm>
              <a:custGeom>
                <a:avLst/>
                <a:gdLst/>
                <a:ahLst/>
                <a:rect l="l" t="t" r="r" b="b"/>
                <a:pathLst>
                  <a:path w="302" h="113">
                    <a:moveTo>
                      <a:pt x="28" y="0"/>
                    </a:moveTo>
                    <a:lnTo>
                      <a:pt x="44" y="6"/>
                    </a:lnTo>
                    <a:lnTo>
                      <a:pt x="61" y="10"/>
                    </a:lnTo>
                    <a:lnTo>
                      <a:pt x="78" y="11"/>
                    </a:lnTo>
                    <a:lnTo>
                      <a:pt x="96" y="14"/>
                    </a:lnTo>
                    <a:lnTo>
                      <a:pt x="113" y="16"/>
                    </a:lnTo>
                    <a:lnTo>
                      <a:pt x="132" y="17"/>
                    </a:lnTo>
                    <a:lnTo>
                      <a:pt x="150" y="17"/>
                    </a:lnTo>
                    <a:lnTo>
                      <a:pt x="167" y="19"/>
                    </a:lnTo>
                    <a:lnTo>
                      <a:pt x="184" y="19"/>
                    </a:lnTo>
                    <a:lnTo>
                      <a:pt x="203" y="20"/>
                    </a:lnTo>
                    <a:lnTo>
                      <a:pt x="221" y="23"/>
                    </a:lnTo>
                    <a:lnTo>
                      <a:pt x="238" y="27"/>
                    </a:lnTo>
                    <a:lnTo>
                      <a:pt x="254" y="30"/>
                    </a:lnTo>
                    <a:lnTo>
                      <a:pt x="270" y="37"/>
                    </a:lnTo>
                    <a:lnTo>
                      <a:pt x="286" y="43"/>
                    </a:lnTo>
                    <a:lnTo>
                      <a:pt x="302" y="53"/>
                    </a:lnTo>
                    <a:lnTo>
                      <a:pt x="286" y="107"/>
                    </a:lnTo>
                    <a:lnTo>
                      <a:pt x="276" y="109"/>
                    </a:lnTo>
                    <a:lnTo>
                      <a:pt x="266" y="110"/>
                    </a:lnTo>
                    <a:lnTo>
                      <a:pt x="255" y="111"/>
                    </a:lnTo>
                    <a:lnTo>
                      <a:pt x="247" y="113"/>
                    </a:lnTo>
                    <a:lnTo>
                      <a:pt x="237" y="113"/>
                    </a:lnTo>
                    <a:lnTo>
                      <a:pt x="228" y="113"/>
                    </a:lnTo>
                    <a:lnTo>
                      <a:pt x="218" y="113"/>
                    </a:lnTo>
                    <a:lnTo>
                      <a:pt x="209" y="113"/>
                    </a:lnTo>
                    <a:lnTo>
                      <a:pt x="199" y="113"/>
                    </a:lnTo>
                    <a:lnTo>
                      <a:pt x="189" y="111"/>
                    </a:lnTo>
                    <a:lnTo>
                      <a:pt x="179" y="111"/>
                    </a:lnTo>
                    <a:lnTo>
                      <a:pt x="170" y="111"/>
                    </a:lnTo>
                    <a:lnTo>
                      <a:pt x="160" y="110"/>
                    </a:lnTo>
                    <a:lnTo>
                      <a:pt x="150" y="110"/>
                    </a:lnTo>
                    <a:lnTo>
                      <a:pt x="138" y="110"/>
                    </a:lnTo>
                    <a:lnTo>
                      <a:pt x="129" y="111"/>
                    </a:lnTo>
                    <a:lnTo>
                      <a:pt x="118" y="110"/>
                    </a:lnTo>
                    <a:lnTo>
                      <a:pt x="106" y="110"/>
                    </a:lnTo>
                    <a:lnTo>
                      <a:pt x="92" y="107"/>
                    </a:lnTo>
                    <a:lnTo>
                      <a:pt x="78" y="106"/>
                    </a:lnTo>
                    <a:lnTo>
                      <a:pt x="64" y="100"/>
                    </a:lnTo>
                    <a:lnTo>
                      <a:pt x="49" y="95"/>
                    </a:lnTo>
                    <a:lnTo>
                      <a:pt x="38" y="90"/>
                    </a:lnTo>
                    <a:lnTo>
                      <a:pt x="26" y="84"/>
                    </a:lnTo>
                    <a:lnTo>
                      <a:pt x="15" y="75"/>
                    </a:lnTo>
                    <a:lnTo>
                      <a:pt x="7" y="66"/>
                    </a:lnTo>
                    <a:lnTo>
                      <a:pt x="2" y="56"/>
                    </a:lnTo>
                    <a:lnTo>
                      <a:pt x="0" y="48"/>
                    </a:lnTo>
                    <a:lnTo>
                      <a:pt x="0" y="36"/>
                    </a:lnTo>
                    <a:lnTo>
                      <a:pt x="4" y="24"/>
                    </a:lnTo>
                    <a:lnTo>
                      <a:pt x="13" y="13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139760" y="2199600"/>
                <a:ext cx="90720" cy="117360"/>
              </a:xfrm>
              <a:custGeom>
                <a:avLst/>
                <a:gdLst/>
                <a:ahLst/>
                <a:rect l="l" t="t" r="r" b="b"/>
                <a:pathLst>
                  <a:path w="190" h="271">
                    <a:moveTo>
                      <a:pt x="142" y="0"/>
                    </a:moveTo>
                    <a:lnTo>
                      <a:pt x="162" y="10"/>
                    </a:lnTo>
                    <a:lnTo>
                      <a:pt x="177" y="22"/>
                    </a:lnTo>
                    <a:lnTo>
                      <a:pt x="185" y="35"/>
                    </a:lnTo>
                    <a:lnTo>
                      <a:pt x="190" y="51"/>
                    </a:lnTo>
                    <a:lnTo>
                      <a:pt x="187" y="66"/>
                    </a:lnTo>
                    <a:lnTo>
                      <a:pt x="184" y="85"/>
                    </a:lnTo>
                    <a:lnTo>
                      <a:pt x="175" y="103"/>
                    </a:lnTo>
                    <a:lnTo>
                      <a:pt x="167" y="122"/>
                    </a:lnTo>
                    <a:lnTo>
                      <a:pt x="152" y="140"/>
                    </a:lnTo>
                    <a:lnTo>
                      <a:pt x="140" y="159"/>
                    </a:lnTo>
                    <a:lnTo>
                      <a:pt x="126" y="177"/>
                    </a:lnTo>
                    <a:lnTo>
                      <a:pt x="114" y="196"/>
                    </a:lnTo>
                    <a:lnTo>
                      <a:pt x="101" y="212"/>
                    </a:lnTo>
                    <a:lnTo>
                      <a:pt x="91" y="228"/>
                    </a:lnTo>
                    <a:lnTo>
                      <a:pt x="84" y="242"/>
                    </a:lnTo>
                    <a:lnTo>
                      <a:pt x="79" y="257"/>
                    </a:lnTo>
                    <a:lnTo>
                      <a:pt x="0" y="271"/>
                    </a:lnTo>
                    <a:lnTo>
                      <a:pt x="1" y="252"/>
                    </a:lnTo>
                    <a:lnTo>
                      <a:pt x="5" y="235"/>
                    </a:lnTo>
                    <a:lnTo>
                      <a:pt x="10" y="216"/>
                    </a:lnTo>
                    <a:lnTo>
                      <a:pt x="16" y="198"/>
                    </a:lnTo>
                    <a:lnTo>
                      <a:pt x="21" y="180"/>
                    </a:lnTo>
                    <a:lnTo>
                      <a:pt x="32" y="162"/>
                    </a:lnTo>
                    <a:lnTo>
                      <a:pt x="39" y="145"/>
                    </a:lnTo>
                    <a:lnTo>
                      <a:pt x="49" y="127"/>
                    </a:lnTo>
                    <a:lnTo>
                      <a:pt x="59" y="109"/>
                    </a:lnTo>
                    <a:lnTo>
                      <a:pt x="69" y="93"/>
                    </a:lnTo>
                    <a:lnTo>
                      <a:pt x="81" y="74"/>
                    </a:lnTo>
                    <a:lnTo>
                      <a:pt x="93" y="59"/>
                    </a:lnTo>
                    <a:lnTo>
                      <a:pt x="104" y="43"/>
                    </a:lnTo>
                    <a:lnTo>
                      <a:pt x="116" y="27"/>
                    </a:lnTo>
                    <a:lnTo>
                      <a:pt x="129" y="13"/>
                    </a:lnTo>
                    <a:lnTo>
                      <a:pt x="142" y="0"/>
                    </a:lnTo>
                    <a:lnTo>
                      <a:pt x="1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39880" y="2059920"/>
                <a:ext cx="101880" cy="110520"/>
              </a:xfrm>
              <a:custGeom>
                <a:avLst/>
                <a:gdLst/>
                <a:ahLst/>
                <a:rect l="l" t="t" r="r" b="b"/>
                <a:pathLst>
                  <a:path w="216" h="255">
                    <a:moveTo>
                      <a:pt x="166" y="0"/>
                    </a:moveTo>
                    <a:lnTo>
                      <a:pt x="187" y="8"/>
                    </a:lnTo>
                    <a:lnTo>
                      <a:pt x="202" y="20"/>
                    </a:lnTo>
                    <a:lnTo>
                      <a:pt x="212" y="33"/>
                    </a:lnTo>
                    <a:lnTo>
                      <a:pt x="216" y="46"/>
                    </a:lnTo>
                    <a:lnTo>
                      <a:pt x="213" y="59"/>
                    </a:lnTo>
                    <a:lnTo>
                      <a:pt x="209" y="72"/>
                    </a:lnTo>
                    <a:lnTo>
                      <a:pt x="202" y="88"/>
                    </a:lnTo>
                    <a:lnTo>
                      <a:pt x="192" y="104"/>
                    </a:lnTo>
                    <a:lnTo>
                      <a:pt x="177" y="119"/>
                    </a:lnTo>
                    <a:lnTo>
                      <a:pt x="164" y="133"/>
                    </a:lnTo>
                    <a:lnTo>
                      <a:pt x="148" y="148"/>
                    </a:lnTo>
                    <a:lnTo>
                      <a:pt x="135" y="164"/>
                    </a:lnTo>
                    <a:lnTo>
                      <a:pt x="121" y="178"/>
                    </a:lnTo>
                    <a:lnTo>
                      <a:pt x="109" y="193"/>
                    </a:lnTo>
                    <a:lnTo>
                      <a:pt x="99" y="206"/>
                    </a:lnTo>
                    <a:lnTo>
                      <a:pt x="93" y="220"/>
                    </a:lnTo>
                    <a:lnTo>
                      <a:pt x="81" y="227"/>
                    </a:lnTo>
                    <a:lnTo>
                      <a:pt x="71" y="236"/>
                    </a:lnTo>
                    <a:lnTo>
                      <a:pt x="63" y="245"/>
                    </a:lnTo>
                    <a:lnTo>
                      <a:pt x="54" y="255"/>
                    </a:lnTo>
                    <a:lnTo>
                      <a:pt x="45" y="251"/>
                    </a:lnTo>
                    <a:lnTo>
                      <a:pt x="39" y="251"/>
                    </a:lnTo>
                    <a:lnTo>
                      <a:pt x="32" y="249"/>
                    </a:lnTo>
                    <a:lnTo>
                      <a:pt x="25" y="249"/>
                    </a:lnTo>
                    <a:lnTo>
                      <a:pt x="19" y="248"/>
                    </a:lnTo>
                    <a:lnTo>
                      <a:pt x="13" y="246"/>
                    </a:lnTo>
                    <a:lnTo>
                      <a:pt x="6" y="245"/>
                    </a:lnTo>
                    <a:lnTo>
                      <a:pt x="2" y="243"/>
                    </a:lnTo>
                    <a:lnTo>
                      <a:pt x="0" y="224"/>
                    </a:lnTo>
                    <a:lnTo>
                      <a:pt x="3" y="206"/>
                    </a:lnTo>
                    <a:lnTo>
                      <a:pt x="6" y="188"/>
                    </a:lnTo>
                    <a:lnTo>
                      <a:pt x="13" y="172"/>
                    </a:lnTo>
                    <a:lnTo>
                      <a:pt x="21" y="155"/>
                    </a:lnTo>
                    <a:lnTo>
                      <a:pt x="31" y="140"/>
                    </a:lnTo>
                    <a:lnTo>
                      <a:pt x="42" y="124"/>
                    </a:lnTo>
                    <a:lnTo>
                      <a:pt x="55" y="110"/>
                    </a:lnTo>
                    <a:lnTo>
                      <a:pt x="67" y="94"/>
                    </a:lnTo>
                    <a:lnTo>
                      <a:pt x="81" y="79"/>
                    </a:lnTo>
                    <a:lnTo>
                      <a:pt x="96" y="65"/>
                    </a:lnTo>
                    <a:lnTo>
                      <a:pt x="110" y="52"/>
                    </a:lnTo>
                    <a:lnTo>
                      <a:pt x="124" y="39"/>
                    </a:lnTo>
                    <a:lnTo>
                      <a:pt x="138" y="26"/>
                    </a:lnTo>
                    <a:lnTo>
                      <a:pt x="153" y="13"/>
                    </a:lnTo>
                    <a:lnTo>
                      <a:pt x="166" y="0"/>
                    </a:lnTo>
                    <a:lnTo>
                      <a:pt x="16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901080" y="2133000"/>
                <a:ext cx="123120" cy="110520"/>
              </a:xfrm>
              <a:custGeom>
                <a:avLst/>
                <a:gdLst/>
                <a:ahLst/>
                <a:rect l="l" t="t" r="r" b="b"/>
                <a:pathLst>
                  <a:path w="262" h="257">
                    <a:moveTo>
                      <a:pt x="204" y="0"/>
                    </a:moveTo>
                    <a:lnTo>
                      <a:pt x="206" y="2"/>
                    </a:lnTo>
                    <a:lnTo>
                      <a:pt x="212" y="6"/>
                    </a:lnTo>
                    <a:lnTo>
                      <a:pt x="219" y="11"/>
                    </a:lnTo>
                    <a:lnTo>
                      <a:pt x="229" y="19"/>
                    </a:lnTo>
                    <a:lnTo>
                      <a:pt x="238" y="27"/>
                    </a:lnTo>
                    <a:lnTo>
                      <a:pt x="247" y="35"/>
                    </a:lnTo>
                    <a:lnTo>
                      <a:pt x="255" y="42"/>
                    </a:lnTo>
                    <a:lnTo>
                      <a:pt x="262" y="50"/>
                    </a:lnTo>
                    <a:lnTo>
                      <a:pt x="255" y="64"/>
                    </a:lnTo>
                    <a:lnTo>
                      <a:pt x="245" y="77"/>
                    </a:lnTo>
                    <a:lnTo>
                      <a:pt x="233" y="90"/>
                    </a:lnTo>
                    <a:lnTo>
                      <a:pt x="223" y="103"/>
                    </a:lnTo>
                    <a:lnTo>
                      <a:pt x="207" y="115"/>
                    </a:lnTo>
                    <a:lnTo>
                      <a:pt x="193" y="127"/>
                    </a:lnTo>
                    <a:lnTo>
                      <a:pt x="177" y="138"/>
                    </a:lnTo>
                    <a:lnTo>
                      <a:pt x="162" y="150"/>
                    </a:lnTo>
                    <a:lnTo>
                      <a:pt x="145" y="160"/>
                    </a:lnTo>
                    <a:lnTo>
                      <a:pt x="129" y="172"/>
                    </a:lnTo>
                    <a:lnTo>
                      <a:pt x="113" y="183"/>
                    </a:lnTo>
                    <a:lnTo>
                      <a:pt x="100" y="196"/>
                    </a:lnTo>
                    <a:lnTo>
                      <a:pt x="87" y="209"/>
                    </a:lnTo>
                    <a:lnTo>
                      <a:pt x="75" y="224"/>
                    </a:lnTo>
                    <a:lnTo>
                      <a:pt x="65" y="240"/>
                    </a:lnTo>
                    <a:lnTo>
                      <a:pt x="59" y="257"/>
                    </a:lnTo>
                    <a:lnTo>
                      <a:pt x="0" y="209"/>
                    </a:lnTo>
                    <a:lnTo>
                      <a:pt x="3" y="189"/>
                    </a:lnTo>
                    <a:lnTo>
                      <a:pt x="9" y="170"/>
                    </a:lnTo>
                    <a:lnTo>
                      <a:pt x="17" y="154"/>
                    </a:lnTo>
                    <a:lnTo>
                      <a:pt x="27" y="140"/>
                    </a:lnTo>
                    <a:lnTo>
                      <a:pt x="38" y="125"/>
                    </a:lnTo>
                    <a:lnTo>
                      <a:pt x="49" y="114"/>
                    </a:lnTo>
                    <a:lnTo>
                      <a:pt x="64" y="101"/>
                    </a:lnTo>
                    <a:lnTo>
                      <a:pt x="80" y="90"/>
                    </a:lnTo>
                    <a:lnTo>
                      <a:pt x="94" y="77"/>
                    </a:lnTo>
                    <a:lnTo>
                      <a:pt x="110" y="67"/>
                    </a:lnTo>
                    <a:lnTo>
                      <a:pt x="126" y="57"/>
                    </a:lnTo>
                    <a:lnTo>
                      <a:pt x="142" y="45"/>
                    </a:lnTo>
                    <a:lnTo>
                      <a:pt x="158" y="35"/>
                    </a:lnTo>
                    <a:lnTo>
                      <a:pt x="174" y="24"/>
                    </a:lnTo>
                    <a:lnTo>
                      <a:pt x="188" y="12"/>
                    </a:lnTo>
                    <a:lnTo>
                      <a:pt x="204" y="0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69320" y="1995840"/>
                <a:ext cx="119880" cy="110520"/>
              </a:xfrm>
              <a:custGeom>
                <a:avLst/>
                <a:gdLst/>
                <a:ahLst/>
                <a:rect l="l" t="t" r="r" b="b"/>
                <a:pathLst>
                  <a:path w="254" h="256">
                    <a:moveTo>
                      <a:pt x="196" y="0"/>
                    </a:moveTo>
                    <a:lnTo>
                      <a:pt x="198" y="0"/>
                    </a:lnTo>
                    <a:lnTo>
                      <a:pt x="203" y="4"/>
                    </a:lnTo>
                    <a:lnTo>
                      <a:pt x="211" y="10"/>
                    </a:lnTo>
                    <a:lnTo>
                      <a:pt x="221" y="17"/>
                    </a:lnTo>
                    <a:lnTo>
                      <a:pt x="228" y="24"/>
                    </a:lnTo>
                    <a:lnTo>
                      <a:pt x="238" y="32"/>
                    </a:lnTo>
                    <a:lnTo>
                      <a:pt x="247" y="39"/>
                    </a:lnTo>
                    <a:lnTo>
                      <a:pt x="254" y="46"/>
                    </a:lnTo>
                    <a:lnTo>
                      <a:pt x="247" y="59"/>
                    </a:lnTo>
                    <a:lnTo>
                      <a:pt x="238" y="72"/>
                    </a:lnTo>
                    <a:lnTo>
                      <a:pt x="228" y="84"/>
                    </a:lnTo>
                    <a:lnTo>
                      <a:pt x="218" y="95"/>
                    </a:lnTo>
                    <a:lnTo>
                      <a:pt x="203" y="106"/>
                    </a:lnTo>
                    <a:lnTo>
                      <a:pt x="192" y="117"/>
                    </a:lnTo>
                    <a:lnTo>
                      <a:pt x="179" y="127"/>
                    </a:lnTo>
                    <a:lnTo>
                      <a:pt x="166" y="139"/>
                    </a:lnTo>
                    <a:lnTo>
                      <a:pt x="151" y="149"/>
                    </a:lnTo>
                    <a:lnTo>
                      <a:pt x="138" y="161"/>
                    </a:lnTo>
                    <a:lnTo>
                      <a:pt x="125" y="171"/>
                    </a:lnTo>
                    <a:lnTo>
                      <a:pt x="115" y="182"/>
                    </a:lnTo>
                    <a:lnTo>
                      <a:pt x="102" y="195"/>
                    </a:lnTo>
                    <a:lnTo>
                      <a:pt x="93" y="209"/>
                    </a:lnTo>
                    <a:lnTo>
                      <a:pt x="84" y="222"/>
                    </a:lnTo>
                    <a:lnTo>
                      <a:pt x="80" y="238"/>
                    </a:lnTo>
                    <a:lnTo>
                      <a:pt x="73" y="239"/>
                    </a:lnTo>
                    <a:lnTo>
                      <a:pt x="67" y="240"/>
                    </a:lnTo>
                    <a:lnTo>
                      <a:pt x="61" y="242"/>
                    </a:lnTo>
                    <a:lnTo>
                      <a:pt x="55" y="246"/>
                    </a:lnTo>
                    <a:lnTo>
                      <a:pt x="44" y="249"/>
                    </a:lnTo>
                    <a:lnTo>
                      <a:pt x="34" y="256"/>
                    </a:lnTo>
                    <a:lnTo>
                      <a:pt x="24" y="246"/>
                    </a:lnTo>
                    <a:lnTo>
                      <a:pt x="15" y="235"/>
                    </a:lnTo>
                    <a:lnTo>
                      <a:pt x="6" y="226"/>
                    </a:lnTo>
                    <a:lnTo>
                      <a:pt x="0" y="217"/>
                    </a:lnTo>
                    <a:lnTo>
                      <a:pt x="3" y="200"/>
                    </a:lnTo>
                    <a:lnTo>
                      <a:pt x="10" y="182"/>
                    </a:lnTo>
                    <a:lnTo>
                      <a:pt x="18" y="165"/>
                    </a:lnTo>
                    <a:lnTo>
                      <a:pt x="26" y="149"/>
                    </a:lnTo>
                    <a:lnTo>
                      <a:pt x="37" y="135"/>
                    </a:lnTo>
                    <a:lnTo>
                      <a:pt x="50" y="119"/>
                    </a:lnTo>
                    <a:lnTo>
                      <a:pt x="61" y="104"/>
                    </a:lnTo>
                    <a:lnTo>
                      <a:pt x="76" y="92"/>
                    </a:lnTo>
                    <a:lnTo>
                      <a:pt x="89" y="78"/>
                    </a:lnTo>
                    <a:lnTo>
                      <a:pt x="105" y="65"/>
                    </a:lnTo>
                    <a:lnTo>
                      <a:pt x="119" y="53"/>
                    </a:lnTo>
                    <a:lnTo>
                      <a:pt x="134" y="42"/>
                    </a:lnTo>
                    <a:lnTo>
                      <a:pt x="150" y="30"/>
                    </a:lnTo>
                    <a:lnTo>
                      <a:pt x="164" y="20"/>
                    </a:lnTo>
                    <a:lnTo>
                      <a:pt x="180" y="10"/>
                    </a:lnTo>
                    <a:lnTo>
                      <a:pt x="196" y="0"/>
                    </a:lnTo>
                    <a:lnTo>
                      <a:pt x="19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049400" y="2178720"/>
                <a:ext cx="47880" cy="111960"/>
              </a:xfrm>
              <a:custGeom>
                <a:avLst/>
                <a:gdLst/>
                <a:ahLst/>
                <a:rect l="l" t="t" r="r" b="b"/>
                <a:pathLst>
                  <a:path w="102" h="258">
                    <a:moveTo>
                      <a:pt x="35" y="0"/>
                    </a:moveTo>
                    <a:lnTo>
                      <a:pt x="52" y="6"/>
                    </a:lnTo>
                    <a:lnTo>
                      <a:pt x="67" y="16"/>
                    </a:lnTo>
                    <a:lnTo>
                      <a:pt x="77" y="27"/>
                    </a:lnTo>
                    <a:lnTo>
                      <a:pt x="87" y="40"/>
                    </a:lnTo>
                    <a:lnTo>
                      <a:pt x="93" y="55"/>
                    </a:lnTo>
                    <a:lnTo>
                      <a:pt x="97" y="72"/>
                    </a:lnTo>
                    <a:lnTo>
                      <a:pt x="100" y="88"/>
                    </a:lnTo>
                    <a:lnTo>
                      <a:pt x="102" y="107"/>
                    </a:lnTo>
                    <a:lnTo>
                      <a:pt x="102" y="125"/>
                    </a:lnTo>
                    <a:lnTo>
                      <a:pt x="102" y="143"/>
                    </a:lnTo>
                    <a:lnTo>
                      <a:pt x="100" y="162"/>
                    </a:lnTo>
                    <a:lnTo>
                      <a:pt x="99" y="180"/>
                    </a:lnTo>
                    <a:lnTo>
                      <a:pt x="97" y="197"/>
                    </a:lnTo>
                    <a:lnTo>
                      <a:pt x="97" y="215"/>
                    </a:lnTo>
                    <a:lnTo>
                      <a:pt x="97" y="232"/>
                    </a:lnTo>
                    <a:lnTo>
                      <a:pt x="99" y="248"/>
                    </a:lnTo>
                    <a:lnTo>
                      <a:pt x="90" y="249"/>
                    </a:lnTo>
                    <a:lnTo>
                      <a:pt x="84" y="251"/>
                    </a:lnTo>
                    <a:lnTo>
                      <a:pt x="77" y="251"/>
                    </a:lnTo>
                    <a:lnTo>
                      <a:pt x="71" y="254"/>
                    </a:lnTo>
                    <a:lnTo>
                      <a:pt x="64" y="254"/>
                    </a:lnTo>
                    <a:lnTo>
                      <a:pt x="58" y="254"/>
                    </a:lnTo>
                    <a:lnTo>
                      <a:pt x="51" y="255"/>
                    </a:lnTo>
                    <a:lnTo>
                      <a:pt x="45" y="258"/>
                    </a:lnTo>
                    <a:lnTo>
                      <a:pt x="38" y="244"/>
                    </a:lnTo>
                    <a:lnTo>
                      <a:pt x="31" y="229"/>
                    </a:lnTo>
                    <a:lnTo>
                      <a:pt x="25" y="212"/>
                    </a:lnTo>
                    <a:lnTo>
                      <a:pt x="19" y="197"/>
                    </a:lnTo>
                    <a:lnTo>
                      <a:pt x="13" y="180"/>
                    </a:lnTo>
                    <a:lnTo>
                      <a:pt x="9" y="162"/>
                    </a:lnTo>
                    <a:lnTo>
                      <a:pt x="5" y="145"/>
                    </a:lnTo>
                    <a:lnTo>
                      <a:pt x="3" y="129"/>
                    </a:lnTo>
                    <a:lnTo>
                      <a:pt x="0" y="110"/>
                    </a:lnTo>
                    <a:lnTo>
                      <a:pt x="0" y="94"/>
                    </a:lnTo>
                    <a:lnTo>
                      <a:pt x="0" y="75"/>
                    </a:lnTo>
                    <a:lnTo>
                      <a:pt x="3" y="59"/>
                    </a:lnTo>
                    <a:lnTo>
                      <a:pt x="7" y="43"/>
                    </a:lnTo>
                    <a:lnTo>
                      <a:pt x="15" y="27"/>
                    </a:lnTo>
                    <a:lnTo>
                      <a:pt x="23" y="11"/>
                    </a:lnTo>
                    <a:lnTo>
                      <a:pt x="35" y="0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441080" y="1754280"/>
                <a:ext cx="271080" cy="336600"/>
              </a:xfrm>
              <a:custGeom>
                <a:avLst/>
                <a:gdLst/>
                <a:ahLst/>
                <a:rect l="l" t="t" r="r" b="b"/>
                <a:pathLst>
                  <a:path w="576" h="776">
                    <a:moveTo>
                      <a:pt x="74" y="6"/>
                    </a:moveTo>
                    <a:lnTo>
                      <a:pt x="100" y="1"/>
                    </a:lnTo>
                    <a:lnTo>
                      <a:pt x="128" y="0"/>
                    </a:lnTo>
                    <a:lnTo>
                      <a:pt x="154" y="0"/>
                    </a:lnTo>
                    <a:lnTo>
                      <a:pt x="181" y="1"/>
                    </a:lnTo>
                    <a:lnTo>
                      <a:pt x="206" y="3"/>
                    </a:lnTo>
                    <a:lnTo>
                      <a:pt x="231" y="7"/>
                    </a:lnTo>
                    <a:lnTo>
                      <a:pt x="255" y="13"/>
                    </a:lnTo>
                    <a:lnTo>
                      <a:pt x="280" y="20"/>
                    </a:lnTo>
                    <a:lnTo>
                      <a:pt x="302" y="26"/>
                    </a:lnTo>
                    <a:lnTo>
                      <a:pt x="325" y="35"/>
                    </a:lnTo>
                    <a:lnTo>
                      <a:pt x="348" y="45"/>
                    </a:lnTo>
                    <a:lnTo>
                      <a:pt x="370" y="57"/>
                    </a:lnTo>
                    <a:lnTo>
                      <a:pt x="392" y="70"/>
                    </a:lnTo>
                    <a:lnTo>
                      <a:pt x="414" y="83"/>
                    </a:lnTo>
                    <a:lnTo>
                      <a:pt x="434" y="99"/>
                    </a:lnTo>
                    <a:lnTo>
                      <a:pt x="456" y="115"/>
                    </a:lnTo>
                    <a:lnTo>
                      <a:pt x="472" y="129"/>
                    </a:lnTo>
                    <a:lnTo>
                      <a:pt x="486" y="147"/>
                    </a:lnTo>
                    <a:lnTo>
                      <a:pt x="499" y="165"/>
                    </a:lnTo>
                    <a:lnTo>
                      <a:pt x="511" y="187"/>
                    </a:lnTo>
                    <a:lnTo>
                      <a:pt x="518" y="209"/>
                    </a:lnTo>
                    <a:lnTo>
                      <a:pt x="525" y="232"/>
                    </a:lnTo>
                    <a:lnTo>
                      <a:pt x="533" y="257"/>
                    </a:lnTo>
                    <a:lnTo>
                      <a:pt x="538" y="283"/>
                    </a:lnTo>
                    <a:lnTo>
                      <a:pt x="541" y="308"/>
                    </a:lnTo>
                    <a:lnTo>
                      <a:pt x="546" y="335"/>
                    </a:lnTo>
                    <a:lnTo>
                      <a:pt x="550" y="360"/>
                    </a:lnTo>
                    <a:lnTo>
                      <a:pt x="554" y="386"/>
                    </a:lnTo>
                    <a:lnTo>
                      <a:pt x="557" y="412"/>
                    </a:lnTo>
                    <a:lnTo>
                      <a:pt x="563" y="438"/>
                    </a:lnTo>
                    <a:lnTo>
                      <a:pt x="569" y="461"/>
                    </a:lnTo>
                    <a:lnTo>
                      <a:pt x="576" y="486"/>
                    </a:lnTo>
                    <a:lnTo>
                      <a:pt x="570" y="502"/>
                    </a:lnTo>
                    <a:lnTo>
                      <a:pt x="564" y="518"/>
                    </a:lnTo>
                    <a:lnTo>
                      <a:pt x="557" y="534"/>
                    </a:lnTo>
                    <a:lnTo>
                      <a:pt x="551" y="548"/>
                    </a:lnTo>
                    <a:lnTo>
                      <a:pt x="544" y="563"/>
                    </a:lnTo>
                    <a:lnTo>
                      <a:pt x="537" y="577"/>
                    </a:lnTo>
                    <a:lnTo>
                      <a:pt x="530" y="592"/>
                    </a:lnTo>
                    <a:lnTo>
                      <a:pt x="524" y="606"/>
                    </a:lnTo>
                    <a:lnTo>
                      <a:pt x="517" y="619"/>
                    </a:lnTo>
                    <a:lnTo>
                      <a:pt x="509" y="634"/>
                    </a:lnTo>
                    <a:lnTo>
                      <a:pt x="502" y="647"/>
                    </a:lnTo>
                    <a:lnTo>
                      <a:pt x="496" y="663"/>
                    </a:lnTo>
                    <a:lnTo>
                      <a:pt x="490" y="676"/>
                    </a:lnTo>
                    <a:lnTo>
                      <a:pt x="483" y="692"/>
                    </a:lnTo>
                    <a:lnTo>
                      <a:pt x="477" y="708"/>
                    </a:lnTo>
                    <a:lnTo>
                      <a:pt x="472" y="727"/>
                    </a:lnTo>
                    <a:lnTo>
                      <a:pt x="453" y="734"/>
                    </a:lnTo>
                    <a:lnTo>
                      <a:pt x="434" y="741"/>
                    </a:lnTo>
                    <a:lnTo>
                      <a:pt x="415" y="747"/>
                    </a:lnTo>
                    <a:lnTo>
                      <a:pt x="396" y="753"/>
                    </a:lnTo>
                    <a:lnTo>
                      <a:pt x="376" y="757"/>
                    </a:lnTo>
                    <a:lnTo>
                      <a:pt x="356" y="763"/>
                    </a:lnTo>
                    <a:lnTo>
                      <a:pt x="337" y="766"/>
                    </a:lnTo>
                    <a:lnTo>
                      <a:pt x="316" y="769"/>
                    </a:lnTo>
                    <a:lnTo>
                      <a:pt x="296" y="772"/>
                    </a:lnTo>
                    <a:lnTo>
                      <a:pt x="277" y="773"/>
                    </a:lnTo>
                    <a:lnTo>
                      <a:pt x="257" y="775"/>
                    </a:lnTo>
                    <a:lnTo>
                      <a:pt x="238" y="776"/>
                    </a:lnTo>
                    <a:lnTo>
                      <a:pt x="218" y="776"/>
                    </a:lnTo>
                    <a:lnTo>
                      <a:pt x="199" y="776"/>
                    </a:lnTo>
                    <a:lnTo>
                      <a:pt x="180" y="775"/>
                    </a:lnTo>
                    <a:lnTo>
                      <a:pt x="161" y="773"/>
                    </a:lnTo>
                    <a:lnTo>
                      <a:pt x="158" y="767"/>
                    </a:lnTo>
                    <a:lnTo>
                      <a:pt x="157" y="762"/>
                    </a:lnTo>
                    <a:lnTo>
                      <a:pt x="155" y="756"/>
                    </a:lnTo>
                    <a:lnTo>
                      <a:pt x="154" y="750"/>
                    </a:lnTo>
                    <a:lnTo>
                      <a:pt x="152" y="744"/>
                    </a:lnTo>
                    <a:lnTo>
                      <a:pt x="151" y="738"/>
                    </a:lnTo>
                    <a:lnTo>
                      <a:pt x="151" y="731"/>
                    </a:lnTo>
                    <a:lnTo>
                      <a:pt x="151" y="727"/>
                    </a:lnTo>
                    <a:lnTo>
                      <a:pt x="164" y="712"/>
                    </a:lnTo>
                    <a:lnTo>
                      <a:pt x="181" y="702"/>
                    </a:lnTo>
                    <a:lnTo>
                      <a:pt x="199" y="693"/>
                    </a:lnTo>
                    <a:lnTo>
                      <a:pt x="218" y="688"/>
                    </a:lnTo>
                    <a:lnTo>
                      <a:pt x="237" y="685"/>
                    </a:lnTo>
                    <a:lnTo>
                      <a:pt x="257" y="680"/>
                    </a:lnTo>
                    <a:lnTo>
                      <a:pt x="277" y="679"/>
                    </a:lnTo>
                    <a:lnTo>
                      <a:pt x="298" y="677"/>
                    </a:lnTo>
                    <a:lnTo>
                      <a:pt x="316" y="676"/>
                    </a:lnTo>
                    <a:lnTo>
                      <a:pt x="335" y="673"/>
                    </a:lnTo>
                    <a:lnTo>
                      <a:pt x="351" y="670"/>
                    </a:lnTo>
                    <a:lnTo>
                      <a:pt x="369" y="669"/>
                    </a:lnTo>
                    <a:lnTo>
                      <a:pt x="380" y="663"/>
                    </a:lnTo>
                    <a:lnTo>
                      <a:pt x="392" y="657"/>
                    </a:lnTo>
                    <a:lnTo>
                      <a:pt x="401" y="648"/>
                    </a:lnTo>
                    <a:lnTo>
                      <a:pt x="408" y="638"/>
                    </a:lnTo>
                    <a:lnTo>
                      <a:pt x="411" y="627"/>
                    </a:lnTo>
                    <a:lnTo>
                      <a:pt x="414" y="615"/>
                    </a:lnTo>
                    <a:lnTo>
                      <a:pt x="418" y="605"/>
                    </a:lnTo>
                    <a:lnTo>
                      <a:pt x="422" y="596"/>
                    </a:lnTo>
                    <a:lnTo>
                      <a:pt x="427" y="588"/>
                    </a:lnTo>
                    <a:lnTo>
                      <a:pt x="430" y="580"/>
                    </a:lnTo>
                    <a:lnTo>
                      <a:pt x="434" y="574"/>
                    </a:lnTo>
                    <a:lnTo>
                      <a:pt x="438" y="570"/>
                    </a:lnTo>
                    <a:lnTo>
                      <a:pt x="440" y="563"/>
                    </a:lnTo>
                    <a:lnTo>
                      <a:pt x="444" y="559"/>
                    </a:lnTo>
                    <a:lnTo>
                      <a:pt x="445" y="554"/>
                    </a:lnTo>
                    <a:lnTo>
                      <a:pt x="447" y="551"/>
                    </a:lnTo>
                    <a:lnTo>
                      <a:pt x="450" y="545"/>
                    </a:lnTo>
                    <a:lnTo>
                      <a:pt x="448" y="541"/>
                    </a:lnTo>
                    <a:lnTo>
                      <a:pt x="430" y="538"/>
                    </a:lnTo>
                    <a:lnTo>
                      <a:pt x="412" y="537"/>
                    </a:lnTo>
                    <a:lnTo>
                      <a:pt x="393" y="534"/>
                    </a:lnTo>
                    <a:lnTo>
                      <a:pt x="376" y="534"/>
                    </a:lnTo>
                    <a:lnTo>
                      <a:pt x="358" y="531"/>
                    </a:lnTo>
                    <a:lnTo>
                      <a:pt x="342" y="530"/>
                    </a:lnTo>
                    <a:lnTo>
                      <a:pt x="327" y="527"/>
                    </a:lnTo>
                    <a:lnTo>
                      <a:pt x="311" y="525"/>
                    </a:lnTo>
                    <a:lnTo>
                      <a:pt x="295" y="521"/>
                    </a:lnTo>
                    <a:lnTo>
                      <a:pt x="279" y="516"/>
                    </a:lnTo>
                    <a:lnTo>
                      <a:pt x="263" y="511"/>
                    </a:lnTo>
                    <a:lnTo>
                      <a:pt x="248" y="505"/>
                    </a:lnTo>
                    <a:lnTo>
                      <a:pt x="234" y="495"/>
                    </a:lnTo>
                    <a:lnTo>
                      <a:pt x="218" y="485"/>
                    </a:lnTo>
                    <a:lnTo>
                      <a:pt x="203" y="473"/>
                    </a:lnTo>
                    <a:lnTo>
                      <a:pt x="190" y="460"/>
                    </a:lnTo>
                    <a:lnTo>
                      <a:pt x="196" y="399"/>
                    </a:lnTo>
                    <a:lnTo>
                      <a:pt x="212" y="402"/>
                    </a:lnTo>
                    <a:lnTo>
                      <a:pt x="231" y="405"/>
                    </a:lnTo>
                    <a:lnTo>
                      <a:pt x="247" y="409"/>
                    </a:lnTo>
                    <a:lnTo>
                      <a:pt x="266" y="413"/>
                    </a:lnTo>
                    <a:lnTo>
                      <a:pt x="282" y="416"/>
                    </a:lnTo>
                    <a:lnTo>
                      <a:pt x="300" y="421"/>
                    </a:lnTo>
                    <a:lnTo>
                      <a:pt x="316" y="425"/>
                    </a:lnTo>
                    <a:lnTo>
                      <a:pt x="335" y="431"/>
                    </a:lnTo>
                    <a:lnTo>
                      <a:pt x="353" y="434"/>
                    </a:lnTo>
                    <a:lnTo>
                      <a:pt x="370" y="438"/>
                    </a:lnTo>
                    <a:lnTo>
                      <a:pt x="387" y="442"/>
                    </a:lnTo>
                    <a:lnTo>
                      <a:pt x="406" y="448"/>
                    </a:lnTo>
                    <a:lnTo>
                      <a:pt x="425" y="451"/>
                    </a:lnTo>
                    <a:lnTo>
                      <a:pt x="444" y="456"/>
                    </a:lnTo>
                    <a:lnTo>
                      <a:pt x="461" y="458"/>
                    </a:lnTo>
                    <a:lnTo>
                      <a:pt x="483" y="463"/>
                    </a:lnTo>
                    <a:lnTo>
                      <a:pt x="482" y="444"/>
                    </a:lnTo>
                    <a:lnTo>
                      <a:pt x="480" y="427"/>
                    </a:lnTo>
                    <a:lnTo>
                      <a:pt x="477" y="409"/>
                    </a:lnTo>
                    <a:lnTo>
                      <a:pt x="476" y="392"/>
                    </a:lnTo>
                    <a:lnTo>
                      <a:pt x="472" y="376"/>
                    </a:lnTo>
                    <a:lnTo>
                      <a:pt x="467" y="360"/>
                    </a:lnTo>
                    <a:lnTo>
                      <a:pt x="461" y="344"/>
                    </a:lnTo>
                    <a:lnTo>
                      <a:pt x="457" y="328"/>
                    </a:lnTo>
                    <a:lnTo>
                      <a:pt x="451" y="312"/>
                    </a:lnTo>
                    <a:lnTo>
                      <a:pt x="444" y="296"/>
                    </a:lnTo>
                    <a:lnTo>
                      <a:pt x="438" y="280"/>
                    </a:lnTo>
                    <a:lnTo>
                      <a:pt x="432" y="264"/>
                    </a:lnTo>
                    <a:lnTo>
                      <a:pt x="427" y="248"/>
                    </a:lnTo>
                    <a:lnTo>
                      <a:pt x="421" y="232"/>
                    </a:lnTo>
                    <a:lnTo>
                      <a:pt x="415" y="216"/>
                    </a:lnTo>
                    <a:lnTo>
                      <a:pt x="412" y="199"/>
                    </a:lnTo>
                    <a:lnTo>
                      <a:pt x="398" y="206"/>
                    </a:lnTo>
                    <a:lnTo>
                      <a:pt x="382" y="216"/>
                    </a:lnTo>
                    <a:lnTo>
                      <a:pt x="367" y="228"/>
                    </a:lnTo>
                    <a:lnTo>
                      <a:pt x="356" y="241"/>
                    </a:lnTo>
                    <a:lnTo>
                      <a:pt x="341" y="252"/>
                    </a:lnTo>
                    <a:lnTo>
                      <a:pt x="327" y="268"/>
                    </a:lnTo>
                    <a:lnTo>
                      <a:pt x="313" y="281"/>
                    </a:lnTo>
                    <a:lnTo>
                      <a:pt x="300" y="296"/>
                    </a:lnTo>
                    <a:lnTo>
                      <a:pt x="286" y="308"/>
                    </a:lnTo>
                    <a:lnTo>
                      <a:pt x="271" y="321"/>
                    </a:lnTo>
                    <a:lnTo>
                      <a:pt x="257" y="329"/>
                    </a:lnTo>
                    <a:lnTo>
                      <a:pt x="242" y="338"/>
                    </a:lnTo>
                    <a:lnTo>
                      <a:pt x="226" y="342"/>
                    </a:lnTo>
                    <a:lnTo>
                      <a:pt x="210" y="345"/>
                    </a:lnTo>
                    <a:lnTo>
                      <a:pt x="193" y="345"/>
                    </a:lnTo>
                    <a:lnTo>
                      <a:pt x="176" y="342"/>
                    </a:lnTo>
                    <a:lnTo>
                      <a:pt x="174" y="334"/>
                    </a:lnTo>
                    <a:lnTo>
                      <a:pt x="174" y="326"/>
                    </a:lnTo>
                    <a:lnTo>
                      <a:pt x="173" y="319"/>
                    </a:lnTo>
                    <a:lnTo>
                      <a:pt x="173" y="313"/>
                    </a:lnTo>
                    <a:lnTo>
                      <a:pt x="171" y="306"/>
                    </a:lnTo>
                    <a:lnTo>
                      <a:pt x="170" y="299"/>
                    </a:lnTo>
                    <a:lnTo>
                      <a:pt x="170" y="293"/>
                    </a:lnTo>
                    <a:lnTo>
                      <a:pt x="170" y="289"/>
                    </a:lnTo>
                    <a:lnTo>
                      <a:pt x="180" y="279"/>
                    </a:lnTo>
                    <a:lnTo>
                      <a:pt x="189" y="271"/>
                    </a:lnTo>
                    <a:lnTo>
                      <a:pt x="199" y="263"/>
                    </a:lnTo>
                    <a:lnTo>
                      <a:pt x="209" y="255"/>
                    </a:lnTo>
                    <a:lnTo>
                      <a:pt x="218" y="245"/>
                    </a:lnTo>
                    <a:lnTo>
                      <a:pt x="228" y="238"/>
                    </a:lnTo>
                    <a:lnTo>
                      <a:pt x="237" y="229"/>
                    </a:lnTo>
                    <a:lnTo>
                      <a:pt x="247" y="222"/>
                    </a:lnTo>
                    <a:lnTo>
                      <a:pt x="255" y="213"/>
                    </a:lnTo>
                    <a:lnTo>
                      <a:pt x="266" y="205"/>
                    </a:lnTo>
                    <a:lnTo>
                      <a:pt x="274" y="196"/>
                    </a:lnTo>
                    <a:lnTo>
                      <a:pt x="284" y="189"/>
                    </a:lnTo>
                    <a:lnTo>
                      <a:pt x="293" y="178"/>
                    </a:lnTo>
                    <a:lnTo>
                      <a:pt x="302" y="170"/>
                    </a:lnTo>
                    <a:lnTo>
                      <a:pt x="312" y="160"/>
                    </a:lnTo>
                    <a:lnTo>
                      <a:pt x="321" y="151"/>
                    </a:lnTo>
                    <a:lnTo>
                      <a:pt x="305" y="139"/>
                    </a:lnTo>
                    <a:lnTo>
                      <a:pt x="289" y="128"/>
                    </a:lnTo>
                    <a:lnTo>
                      <a:pt x="273" y="119"/>
                    </a:lnTo>
                    <a:lnTo>
                      <a:pt x="257" y="113"/>
                    </a:lnTo>
                    <a:lnTo>
                      <a:pt x="239" y="106"/>
                    </a:lnTo>
                    <a:lnTo>
                      <a:pt x="224" y="100"/>
                    </a:lnTo>
                    <a:lnTo>
                      <a:pt x="206" y="96"/>
                    </a:lnTo>
                    <a:lnTo>
                      <a:pt x="190" y="93"/>
                    </a:lnTo>
                    <a:lnTo>
                      <a:pt x="173" y="90"/>
                    </a:lnTo>
                    <a:lnTo>
                      <a:pt x="155" y="88"/>
                    </a:lnTo>
                    <a:lnTo>
                      <a:pt x="138" y="88"/>
                    </a:lnTo>
                    <a:lnTo>
                      <a:pt x="120" y="90"/>
                    </a:lnTo>
                    <a:lnTo>
                      <a:pt x="103" y="91"/>
                    </a:lnTo>
                    <a:lnTo>
                      <a:pt x="86" y="96"/>
                    </a:lnTo>
                    <a:lnTo>
                      <a:pt x="68" y="99"/>
                    </a:lnTo>
                    <a:lnTo>
                      <a:pt x="49" y="104"/>
                    </a:lnTo>
                    <a:lnTo>
                      <a:pt x="0" y="35"/>
                    </a:lnTo>
                    <a:lnTo>
                      <a:pt x="6" y="32"/>
                    </a:lnTo>
                    <a:lnTo>
                      <a:pt x="16" y="29"/>
                    </a:lnTo>
                    <a:lnTo>
                      <a:pt x="22" y="26"/>
                    </a:lnTo>
                    <a:lnTo>
                      <a:pt x="28" y="25"/>
                    </a:lnTo>
                    <a:lnTo>
                      <a:pt x="33" y="22"/>
                    </a:lnTo>
                    <a:lnTo>
                      <a:pt x="39" y="20"/>
                    </a:lnTo>
                    <a:lnTo>
                      <a:pt x="45" y="17"/>
                    </a:lnTo>
                    <a:lnTo>
                      <a:pt x="51" y="14"/>
                    </a:lnTo>
                    <a:lnTo>
                      <a:pt x="57" y="13"/>
                    </a:lnTo>
                    <a:lnTo>
                      <a:pt x="61" y="10"/>
                    </a:lnTo>
                    <a:lnTo>
                      <a:pt x="68" y="7"/>
                    </a:lnTo>
                    <a:lnTo>
                      <a:pt x="74" y="6"/>
                    </a:lnTo>
                    <a:lnTo>
                      <a:pt x="7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560" y="2096280"/>
                <a:ext cx="388800" cy="297720"/>
              </a:xfrm>
              <a:custGeom>
                <a:avLst/>
                <a:gdLst/>
                <a:ahLst/>
                <a:rect l="l" t="t" r="r" b="b"/>
                <a:pathLst>
                  <a:path w="827" h="684">
                    <a:moveTo>
                      <a:pt x="37" y="0"/>
                    </a:moveTo>
                    <a:lnTo>
                      <a:pt x="54" y="10"/>
                    </a:lnTo>
                    <a:lnTo>
                      <a:pt x="70" y="24"/>
                    </a:lnTo>
                    <a:lnTo>
                      <a:pt x="80" y="39"/>
                    </a:lnTo>
                    <a:lnTo>
                      <a:pt x="89" y="56"/>
                    </a:lnTo>
                    <a:lnTo>
                      <a:pt x="93" y="75"/>
                    </a:lnTo>
                    <a:lnTo>
                      <a:pt x="96" y="95"/>
                    </a:lnTo>
                    <a:lnTo>
                      <a:pt x="96" y="117"/>
                    </a:lnTo>
                    <a:lnTo>
                      <a:pt x="96" y="139"/>
                    </a:lnTo>
                    <a:lnTo>
                      <a:pt x="95" y="161"/>
                    </a:lnTo>
                    <a:lnTo>
                      <a:pt x="93" y="184"/>
                    </a:lnTo>
                    <a:lnTo>
                      <a:pt x="93" y="206"/>
                    </a:lnTo>
                    <a:lnTo>
                      <a:pt x="95" y="227"/>
                    </a:lnTo>
                    <a:lnTo>
                      <a:pt x="96" y="249"/>
                    </a:lnTo>
                    <a:lnTo>
                      <a:pt x="99" y="270"/>
                    </a:lnTo>
                    <a:lnTo>
                      <a:pt x="106" y="288"/>
                    </a:lnTo>
                    <a:lnTo>
                      <a:pt x="118" y="307"/>
                    </a:lnTo>
                    <a:lnTo>
                      <a:pt x="118" y="316"/>
                    </a:lnTo>
                    <a:lnTo>
                      <a:pt x="118" y="328"/>
                    </a:lnTo>
                    <a:lnTo>
                      <a:pt x="118" y="336"/>
                    </a:lnTo>
                    <a:lnTo>
                      <a:pt x="118" y="346"/>
                    </a:lnTo>
                    <a:lnTo>
                      <a:pt x="128" y="342"/>
                    </a:lnTo>
                    <a:lnTo>
                      <a:pt x="138" y="338"/>
                    </a:lnTo>
                    <a:lnTo>
                      <a:pt x="145" y="333"/>
                    </a:lnTo>
                    <a:lnTo>
                      <a:pt x="155" y="328"/>
                    </a:lnTo>
                    <a:lnTo>
                      <a:pt x="163" y="322"/>
                    </a:lnTo>
                    <a:lnTo>
                      <a:pt x="170" y="316"/>
                    </a:lnTo>
                    <a:lnTo>
                      <a:pt x="177" y="309"/>
                    </a:lnTo>
                    <a:lnTo>
                      <a:pt x="185" y="303"/>
                    </a:lnTo>
                    <a:lnTo>
                      <a:pt x="190" y="296"/>
                    </a:lnTo>
                    <a:lnTo>
                      <a:pt x="196" y="290"/>
                    </a:lnTo>
                    <a:lnTo>
                      <a:pt x="203" y="284"/>
                    </a:lnTo>
                    <a:lnTo>
                      <a:pt x="214" y="281"/>
                    </a:lnTo>
                    <a:lnTo>
                      <a:pt x="221" y="275"/>
                    </a:lnTo>
                    <a:lnTo>
                      <a:pt x="231" y="274"/>
                    </a:lnTo>
                    <a:lnTo>
                      <a:pt x="241" y="271"/>
                    </a:lnTo>
                    <a:lnTo>
                      <a:pt x="254" y="271"/>
                    </a:lnTo>
                    <a:lnTo>
                      <a:pt x="293" y="306"/>
                    </a:lnTo>
                    <a:lnTo>
                      <a:pt x="288" y="316"/>
                    </a:lnTo>
                    <a:lnTo>
                      <a:pt x="280" y="328"/>
                    </a:lnTo>
                    <a:lnTo>
                      <a:pt x="273" y="338"/>
                    </a:lnTo>
                    <a:lnTo>
                      <a:pt x="267" y="348"/>
                    </a:lnTo>
                    <a:lnTo>
                      <a:pt x="259" y="355"/>
                    </a:lnTo>
                    <a:lnTo>
                      <a:pt x="250" y="362"/>
                    </a:lnTo>
                    <a:lnTo>
                      <a:pt x="241" y="370"/>
                    </a:lnTo>
                    <a:lnTo>
                      <a:pt x="234" y="377"/>
                    </a:lnTo>
                    <a:lnTo>
                      <a:pt x="225" y="383"/>
                    </a:lnTo>
                    <a:lnTo>
                      <a:pt x="216" y="389"/>
                    </a:lnTo>
                    <a:lnTo>
                      <a:pt x="208" y="394"/>
                    </a:lnTo>
                    <a:lnTo>
                      <a:pt x="199" y="403"/>
                    </a:lnTo>
                    <a:lnTo>
                      <a:pt x="190" y="410"/>
                    </a:lnTo>
                    <a:lnTo>
                      <a:pt x="182" y="420"/>
                    </a:lnTo>
                    <a:lnTo>
                      <a:pt x="173" y="431"/>
                    </a:lnTo>
                    <a:lnTo>
                      <a:pt x="166" y="442"/>
                    </a:lnTo>
                    <a:lnTo>
                      <a:pt x="167" y="455"/>
                    </a:lnTo>
                    <a:lnTo>
                      <a:pt x="174" y="467"/>
                    </a:lnTo>
                    <a:lnTo>
                      <a:pt x="182" y="478"/>
                    </a:lnTo>
                    <a:lnTo>
                      <a:pt x="192" y="490"/>
                    </a:lnTo>
                    <a:lnTo>
                      <a:pt x="200" y="499"/>
                    </a:lnTo>
                    <a:lnTo>
                      <a:pt x="212" y="509"/>
                    </a:lnTo>
                    <a:lnTo>
                      <a:pt x="224" y="516"/>
                    </a:lnTo>
                    <a:lnTo>
                      <a:pt x="238" y="525"/>
                    </a:lnTo>
                    <a:lnTo>
                      <a:pt x="251" y="531"/>
                    </a:lnTo>
                    <a:lnTo>
                      <a:pt x="266" y="538"/>
                    </a:lnTo>
                    <a:lnTo>
                      <a:pt x="280" y="544"/>
                    </a:lnTo>
                    <a:lnTo>
                      <a:pt x="295" y="551"/>
                    </a:lnTo>
                    <a:lnTo>
                      <a:pt x="308" y="555"/>
                    </a:lnTo>
                    <a:lnTo>
                      <a:pt x="321" y="563"/>
                    </a:lnTo>
                    <a:lnTo>
                      <a:pt x="334" y="568"/>
                    </a:lnTo>
                    <a:lnTo>
                      <a:pt x="346" y="576"/>
                    </a:lnTo>
                    <a:lnTo>
                      <a:pt x="347" y="561"/>
                    </a:lnTo>
                    <a:lnTo>
                      <a:pt x="348" y="545"/>
                    </a:lnTo>
                    <a:lnTo>
                      <a:pt x="348" y="529"/>
                    </a:lnTo>
                    <a:lnTo>
                      <a:pt x="348" y="513"/>
                    </a:lnTo>
                    <a:lnTo>
                      <a:pt x="348" y="494"/>
                    </a:lnTo>
                    <a:lnTo>
                      <a:pt x="347" y="477"/>
                    </a:lnTo>
                    <a:lnTo>
                      <a:pt x="347" y="460"/>
                    </a:lnTo>
                    <a:lnTo>
                      <a:pt x="348" y="442"/>
                    </a:lnTo>
                    <a:lnTo>
                      <a:pt x="348" y="423"/>
                    </a:lnTo>
                    <a:lnTo>
                      <a:pt x="353" y="409"/>
                    </a:lnTo>
                    <a:lnTo>
                      <a:pt x="356" y="393"/>
                    </a:lnTo>
                    <a:lnTo>
                      <a:pt x="363" y="381"/>
                    </a:lnTo>
                    <a:lnTo>
                      <a:pt x="369" y="367"/>
                    </a:lnTo>
                    <a:lnTo>
                      <a:pt x="380" y="358"/>
                    </a:lnTo>
                    <a:lnTo>
                      <a:pt x="392" y="351"/>
                    </a:lnTo>
                    <a:lnTo>
                      <a:pt x="408" y="346"/>
                    </a:lnTo>
                    <a:lnTo>
                      <a:pt x="422" y="358"/>
                    </a:lnTo>
                    <a:lnTo>
                      <a:pt x="433" y="371"/>
                    </a:lnTo>
                    <a:lnTo>
                      <a:pt x="438" y="384"/>
                    </a:lnTo>
                    <a:lnTo>
                      <a:pt x="444" y="399"/>
                    </a:lnTo>
                    <a:lnTo>
                      <a:pt x="446" y="413"/>
                    </a:lnTo>
                    <a:lnTo>
                      <a:pt x="447" y="429"/>
                    </a:lnTo>
                    <a:lnTo>
                      <a:pt x="444" y="445"/>
                    </a:lnTo>
                    <a:lnTo>
                      <a:pt x="444" y="463"/>
                    </a:lnTo>
                    <a:lnTo>
                      <a:pt x="440" y="477"/>
                    </a:lnTo>
                    <a:lnTo>
                      <a:pt x="437" y="493"/>
                    </a:lnTo>
                    <a:lnTo>
                      <a:pt x="433" y="509"/>
                    </a:lnTo>
                    <a:lnTo>
                      <a:pt x="430" y="526"/>
                    </a:lnTo>
                    <a:lnTo>
                      <a:pt x="427" y="541"/>
                    </a:lnTo>
                    <a:lnTo>
                      <a:pt x="427" y="558"/>
                    </a:lnTo>
                    <a:lnTo>
                      <a:pt x="425" y="573"/>
                    </a:lnTo>
                    <a:lnTo>
                      <a:pt x="428" y="590"/>
                    </a:lnTo>
                    <a:lnTo>
                      <a:pt x="450" y="580"/>
                    </a:lnTo>
                    <a:lnTo>
                      <a:pt x="472" y="570"/>
                    </a:lnTo>
                    <a:lnTo>
                      <a:pt x="494" y="560"/>
                    </a:lnTo>
                    <a:lnTo>
                      <a:pt x="515" y="548"/>
                    </a:lnTo>
                    <a:lnTo>
                      <a:pt x="537" y="538"/>
                    </a:lnTo>
                    <a:lnTo>
                      <a:pt x="560" y="526"/>
                    </a:lnTo>
                    <a:lnTo>
                      <a:pt x="582" y="515"/>
                    </a:lnTo>
                    <a:lnTo>
                      <a:pt x="604" y="505"/>
                    </a:lnTo>
                    <a:lnTo>
                      <a:pt x="626" y="492"/>
                    </a:lnTo>
                    <a:lnTo>
                      <a:pt x="647" y="481"/>
                    </a:lnTo>
                    <a:lnTo>
                      <a:pt x="669" y="470"/>
                    </a:lnTo>
                    <a:lnTo>
                      <a:pt x="691" y="461"/>
                    </a:lnTo>
                    <a:lnTo>
                      <a:pt x="713" y="449"/>
                    </a:lnTo>
                    <a:lnTo>
                      <a:pt x="734" y="441"/>
                    </a:lnTo>
                    <a:lnTo>
                      <a:pt x="756" y="431"/>
                    </a:lnTo>
                    <a:lnTo>
                      <a:pt x="781" y="423"/>
                    </a:lnTo>
                    <a:lnTo>
                      <a:pt x="785" y="426"/>
                    </a:lnTo>
                    <a:lnTo>
                      <a:pt x="791" y="429"/>
                    </a:lnTo>
                    <a:lnTo>
                      <a:pt x="798" y="432"/>
                    </a:lnTo>
                    <a:lnTo>
                      <a:pt x="804" y="435"/>
                    </a:lnTo>
                    <a:lnTo>
                      <a:pt x="810" y="438"/>
                    </a:lnTo>
                    <a:lnTo>
                      <a:pt x="816" y="441"/>
                    </a:lnTo>
                    <a:lnTo>
                      <a:pt x="820" y="444"/>
                    </a:lnTo>
                    <a:lnTo>
                      <a:pt x="827" y="448"/>
                    </a:lnTo>
                    <a:lnTo>
                      <a:pt x="824" y="467"/>
                    </a:lnTo>
                    <a:lnTo>
                      <a:pt x="820" y="484"/>
                    </a:lnTo>
                    <a:lnTo>
                      <a:pt x="810" y="499"/>
                    </a:lnTo>
                    <a:lnTo>
                      <a:pt x="800" y="512"/>
                    </a:lnTo>
                    <a:lnTo>
                      <a:pt x="787" y="521"/>
                    </a:lnTo>
                    <a:lnTo>
                      <a:pt x="772" y="529"/>
                    </a:lnTo>
                    <a:lnTo>
                      <a:pt x="756" y="535"/>
                    </a:lnTo>
                    <a:lnTo>
                      <a:pt x="740" y="542"/>
                    </a:lnTo>
                    <a:lnTo>
                      <a:pt x="721" y="547"/>
                    </a:lnTo>
                    <a:lnTo>
                      <a:pt x="704" y="552"/>
                    </a:lnTo>
                    <a:lnTo>
                      <a:pt x="685" y="558"/>
                    </a:lnTo>
                    <a:lnTo>
                      <a:pt x="669" y="566"/>
                    </a:lnTo>
                    <a:lnTo>
                      <a:pt x="652" y="571"/>
                    </a:lnTo>
                    <a:lnTo>
                      <a:pt x="637" y="580"/>
                    </a:lnTo>
                    <a:lnTo>
                      <a:pt x="623" y="592"/>
                    </a:lnTo>
                    <a:lnTo>
                      <a:pt x="611" y="605"/>
                    </a:lnTo>
                    <a:lnTo>
                      <a:pt x="591" y="615"/>
                    </a:lnTo>
                    <a:lnTo>
                      <a:pt x="572" y="626"/>
                    </a:lnTo>
                    <a:lnTo>
                      <a:pt x="550" y="637"/>
                    </a:lnTo>
                    <a:lnTo>
                      <a:pt x="531" y="648"/>
                    </a:lnTo>
                    <a:lnTo>
                      <a:pt x="511" y="655"/>
                    </a:lnTo>
                    <a:lnTo>
                      <a:pt x="491" y="666"/>
                    </a:lnTo>
                    <a:lnTo>
                      <a:pt x="469" y="673"/>
                    </a:lnTo>
                    <a:lnTo>
                      <a:pt x="449" y="680"/>
                    </a:lnTo>
                    <a:lnTo>
                      <a:pt x="427" y="683"/>
                    </a:lnTo>
                    <a:lnTo>
                      <a:pt x="405" y="684"/>
                    </a:lnTo>
                    <a:lnTo>
                      <a:pt x="385" y="684"/>
                    </a:lnTo>
                    <a:lnTo>
                      <a:pt x="364" y="682"/>
                    </a:lnTo>
                    <a:lnTo>
                      <a:pt x="344" y="676"/>
                    </a:lnTo>
                    <a:lnTo>
                      <a:pt x="324" y="666"/>
                    </a:lnTo>
                    <a:lnTo>
                      <a:pt x="305" y="654"/>
                    </a:lnTo>
                    <a:lnTo>
                      <a:pt x="286" y="638"/>
                    </a:lnTo>
                    <a:lnTo>
                      <a:pt x="266" y="628"/>
                    </a:lnTo>
                    <a:lnTo>
                      <a:pt x="245" y="618"/>
                    </a:lnTo>
                    <a:lnTo>
                      <a:pt x="222" y="606"/>
                    </a:lnTo>
                    <a:lnTo>
                      <a:pt x="200" y="595"/>
                    </a:lnTo>
                    <a:lnTo>
                      <a:pt x="177" y="581"/>
                    </a:lnTo>
                    <a:lnTo>
                      <a:pt x="157" y="570"/>
                    </a:lnTo>
                    <a:lnTo>
                      <a:pt x="135" y="555"/>
                    </a:lnTo>
                    <a:lnTo>
                      <a:pt x="115" y="541"/>
                    </a:lnTo>
                    <a:lnTo>
                      <a:pt x="96" y="523"/>
                    </a:lnTo>
                    <a:lnTo>
                      <a:pt x="79" y="506"/>
                    </a:lnTo>
                    <a:lnTo>
                      <a:pt x="63" y="487"/>
                    </a:lnTo>
                    <a:lnTo>
                      <a:pt x="51" y="468"/>
                    </a:lnTo>
                    <a:lnTo>
                      <a:pt x="41" y="447"/>
                    </a:lnTo>
                    <a:lnTo>
                      <a:pt x="34" y="425"/>
                    </a:lnTo>
                    <a:lnTo>
                      <a:pt x="31" y="400"/>
                    </a:lnTo>
                    <a:lnTo>
                      <a:pt x="32" y="375"/>
                    </a:lnTo>
                    <a:lnTo>
                      <a:pt x="28" y="354"/>
                    </a:lnTo>
                    <a:lnTo>
                      <a:pt x="25" y="332"/>
                    </a:lnTo>
                    <a:lnTo>
                      <a:pt x="19" y="310"/>
                    </a:lnTo>
                    <a:lnTo>
                      <a:pt x="16" y="290"/>
                    </a:lnTo>
                    <a:lnTo>
                      <a:pt x="12" y="267"/>
                    </a:lnTo>
                    <a:lnTo>
                      <a:pt x="9" y="245"/>
                    </a:lnTo>
                    <a:lnTo>
                      <a:pt x="6" y="223"/>
                    </a:lnTo>
                    <a:lnTo>
                      <a:pt x="3" y="203"/>
                    </a:lnTo>
                    <a:lnTo>
                      <a:pt x="0" y="180"/>
                    </a:lnTo>
                    <a:lnTo>
                      <a:pt x="0" y="158"/>
                    </a:lnTo>
                    <a:lnTo>
                      <a:pt x="0" y="136"/>
                    </a:lnTo>
                    <a:lnTo>
                      <a:pt x="0" y="114"/>
                    </a:lnTo>
                    <a:lnTo>
                      <a:pt x="0" y="93"/>
                    </a:lnTo>
                    <a:lnTo>
                      <a:pt x="3" y="71"/>
                    </a:lnTo>
                    <a:lnTo>
                      <a:pt x="7" y="49"/>
                    </a:lnTo>
                    <a:lnTo>
                      <a:pt x="13" y="30"/>
                    </a:lnTo>
                    <a:lnTo>
                      <a:pt x="18" y="21"/>
                    </a:lnTo>
                    <a:lnTo>
                      <a:pt x="23" y="14"/>
                    </a:lnTo>
                    <a:lnTo>
                      <a:pt x="29" y="7"/>
                    </a:lnTo>
                    <a:lnTo>
                      <a:pt x="37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94880" y="2304000"/>
                <a:ext cx="334800" cy="202320"/>
              </a:xfrm>
              <a:custGeom>
                <a:avLst/>
                <a:gdLst/>
                <a:ahLst/>
                <a:rect l="l" t="t" r="r" b="b"/>
                <a:pathLst>
                  <a:path w="713" h="464">
                    <a:moveTo>
                      <a:pt x="33" y="0"/>
                    </a:moveTo>
                    <a:lnTo>
                      <a:pt x="107" y="49"/>
                    </a:lnTo>
                    <a:lnTo>
                      <a:pt x="114" y="68"/>
                    </a:lnTo>
                    <a:lnTo>
                      <a:pt x="120" y="89"/>
                    </a:lnTo>
                    <a:lnTo>
                      <a:pt x="123" y="109"/>
                    </a:lnTo>
                    <a:lnTo>
                      <a:pt x="126" y="132"/>
                    </a:lnTo>
                    <a:lnTo>
                      <a:pt x="126" y="154"/>
                    </a:lnTo>
                    <a:lnTo>
                      <a:pt x="127" y="177"/>
                    </a:lnTo>
                    <a:lnTo>
                      <a:pt x="127" y="199"/>
                    </a:lnTo>
                    <a:lnTo>
                      <a:pt x="127" y="222"/>
                    </a:lnTo>
                    <a:lnTo>
                      <a:pt x="127" y="242"/>
                    </a:lnTo>
                    <a:lnTo>
                      <a:pt x="127" y="264"/>
                    </a:lnTo>
                    <a:lnTo>
                      <a:pt x="129" y="286"/>
                    </a:lnTo>
                    <a:lnTo>
                      <a:pt x="133" y="305"/>
                    </a:lnTo>
                    <a:lnTo>
                      <a:pt x="137" y="322"/>
                    </a:lnTo>
                    <a:lnTo>
                      <a:pt x="143" y="338"/>
                    </a:lnTo>
                    <a:lnTo>
                      <a:pt x="152" y="353"/>
                    </a:lnTo>
                    <a:lnTo>
                      <a:pt x="165" y="367"/>
                    </a:lnTo>
                    <a:lnTo>
                      <a:pt x="174" y="373"/>
                    </a:lnTo>
                    <a:lnTo>
                      <a:pt x="184" y="379"/>
                    </a:lnTo>
                    <a:lnTo>
                      <a:pt x="188" y="379"/>
                    </a:lnTo>
                    <a:lnTo>
                      <a:pt x="194" y="380"/>
                    </a:lnTo>
                    <a:lnTo>
                      <a:pt x="201" y="380"/>
                    </a:lnTo>
                    <a:lnTo>
                      <a:pt x="207" y="382"/>
                    </a:lnTo>
                    <a:lnTo>
                      <a:pt x="214" y="380"/>
                    </a:lnTo>
                    <a:lnTo>
                      <a:pt x="222" y="380"/>
                    </a:lnTo>
                    <a:lnTo>
                      <a:pt x="230" y="380"/>
                    </a:lnTo>
                    <a:lnTo>
                      <a:pt x="240" y="380"/>
                    </a:lnTo>
                    <a:lnTo>
                      <a:pt x="251" y="379"/>
                    </a:lnTo>
                    <a:lnTo>
                      <a:pt x="262" y="379"/>
                    </a:lnTo>
                    <a:lnTo>
                      <a:pt x="275" y="377"/>
                    </a:lnTo>
                    <a:lnTo>
                      <a:pt x="290" y="377"/>
                    </a:lnTo>
                    <a:lnTo>
                      <a:pt x="291" y="360"/>
                    </a:lnTo>
                    <a:lnTo>
                      <a:pt x="293" y="344"/>
                    </a:lnTo>
                    <a:lnTo>
                      <a:pt x="294" y="328"/>
                    </a:lnTo>
                    <a:lnTo>
                      <a:pt x="297" y="315"/>
                    </a:lnTo>
                    <a:lnTo>
                      <a:pt x="297" y="299"/>
                    </a:lnTo>
                    <a:lnTo>
                      <a:pt x="298" y="286"/>
                    </a:lnTo>
                    <a:lnTo>
                      <a:pt x="300" y="271"/>
                    </a:lnTo>
                    <a:lnTo>
                      <a:pt x="300" y="260"/>
                    </a:lnTo>
                    <a:lnTo>
                      <a:pt x="300" y="245"/>
                    </a:lnTo>
                    <a:lnTo>
                      <a:pt x="303" y="232"/>
                    </a:lnTo>
                    <a:lnTo>
                      <a:pt x="304" y="218"/>
                    </a:lnTo>
                    <a:lnTo>
                      <a:pt x="307" y="205"/>
                    </a:lnTo>
                    <a:lnTo>
                      <a:pt x="310" y="190"/>
                    </a:lnTo>
                    <a:lnTo>
                      <a:pt x="314" y="176"/>
                    </a:lnTo>
                    <a:lnTo>
                      <a:pt x="317" y="161"/>
                    </a:lnTo>
                    <a:lnTo>
                      <a:pt x="325" y="147"/>
                    </a:lnTo>
                    <a:lnTo>
                      <a:pt x="380" y="142"/>
                    </a:lnTo>
                    <a:lnTo>
                      <a:pt x="385" y="154"/>
                    </a:lnTo>
                    <a:lnTo>
                      <a:pt x="391" y="167"/>
                    </a:lnTo>
                    <a:lnTo>
                      <a:pt x="394" y="180"/>
                    </a:lnTo>
                    <a:lnTo>
                      <a:pt x="397" y="193"/>
                    </a:lnTo>
                    <a:lnTo>
                      <a:pt x="397" y="206"/>
                    </a:lnTo>
                    <a:lnTo>
                      <a:pt x="399" y="218"/>
                    </a:lnTo>
                    <a:lnTo>
                      <a:pt x="397" y="231"/>
                    </a:lnTo>
                    <a:lnTo>
                      <a:pt x="397" y="242"/>
                    </a:lnTo>
                    <a:lnTo>
                      <a:pt x="396" y="255"/>
                    </a:lnTo>
                    <a:lnTo>
                      <a:pt x="394" y="267"/>
                    </a:lnTo>
                    <a:lnTo>
                      <a:pt x="393" y="281"/>
                    </a:lnTo>
                    <a:lnTo>
                      <a:pt x="393" y="296"/>
                    </a:lnTo>
                    <a:lnTo>
                      <a:pt x="393" y="310"/>
                    </a:lnTo>
                    <a:lnTo>
                      <a:pt x="394" y="325"/>
                    </a:lnTo>
                    <a:lnTo>
                      <a:pt x="397" y="341"/>
                    </a:lnTo>
                    <a:lnTo>
                      <a:pt x="401" y="360"/>
                    </a:lnTo>
                    <a:lnTo>
                      <a:pt x="407" y="360"/>
                    </a:lnTo>
                    <a:lnTo>
                      <a:pt x="414" y="360"/>
                    </a:lnTo>
                    <a:lnTo>
                      <a:pt x="422" y="360"/>
                    </a:lnTo>
                    <a:lnTo>
                      <a:pt x="430" y="363"/>
                    </a:lnTo>
                    <a:lnTo>
                      <a:pt x="438" y="364"/>
                    </a:lnTo>
                    <a:lnTo>
                      <a:pt x="445" y="366"/>
                    </a:lnTo>
                    <a:lnTo>
                      <a:pt x="455" y="367"/>
                    </a:lnTo>
                    <a:lnTo>
                      <a:pt x="464" y="370"/>
                    </a:lnTo>
                    <a:lnTo>
                      <a:pt x="480" y="348"/>
                    </a:lnTo>
                    <a:lnTo>
                      <a:pt x="493" y="326"/>
                    </a:lnTo>
                    <a:lnTo>
                      <a:pt x="506" y="303"/>
                    </a:lnTo>
                    <a:lnTo>
                      <a:pt x="516" y="281"/>
                    </a:lnTo>
                    <a:lnTo>
                      <a:pt x="526" y="258"/>
                    </a:lnTo>
                    <a:lnTo>
                      <a:pt x="536" y="236"/>
                    </a:lnTo>
                    <a:lnTo>
                      <a:pt x="545" y="213"/>
                    </a:lnTo>
                    <a:lnTo>
                      <a:pt x="555" y="192"/>
                    </a:lnTo>
                    <a:lnTo>
                      <a:pt x="562" y="167"/>
                    </a:lnTo>
                    <a:lnTo>
                      <a:pt x="573" y="145"/>
                    </a:lnTo>
                    <a:lnTo>
                      <a:pt x="581" y="123"/>
                    </a:lnTo>
                    <a:lnTo>
                      <a:pt x="593" y="102"/>
                    </a:lnTo>
                    <a:lnTo>
                      <a:pt x="605" y="80"/>
                    </a:lnTo>
                    <a:lnTo>
                      <a:pt x="619" y="58"/>
                    </a:lnTo>
                    <a:lnTo>
                      <a:pt x="635" y="38"/>
                    </a:lnTo>
                    <a:lnTo>
                      <a:pt x="655" y="19"/>
                    </a:lnTo>
                    <a:lnTo>
                      <a:pt x="660" y="16"/>
                    </a:lnTo>
                    <a:lnTo>
                      <a:pt x="665" y="15"/>
                    </a:lnTo>
                    <a:lnTo>
                      <a:pt x="673" y="15"/>
                    </a:lnTo>
                    <a:lnTo>
                      <a:pt x="679" y="15"/>
                    </a:lnTo>
                    <a:lnTo>
                      <a:pt x="684" y="13"/>
                    </a:lnTo>
                    <a:lnTo>
                      <a:pt x="690" y="12"/>
                    </a:lnTo>
                    <a:lnTo>
                      <a:pt x="697" y="10"/>
                    </a:lnTo>
                    <a:lnTo>
                      <a:pt x="705" y="10"/>
                    </a:lnTo>
                    <a:lnTo>
                      <a:pt x="710" y="26"/>
                    </a:lnTo>
                    <a:lnTo>
                      <a:pt x="713" y="44"/>
                    </a:lnTo>
                    <a:lnTo>
                      <a:pt x="712" y="60"/>
                    </a:lnTo>
                    <a:lnTo>
                      <a:pt x="709" y="77"/>
                    </a:lnTo>
                    <a:lnTo>
                      <a:pt x="703" y="93"/>
                    </a:lnTo>
                    <a:lnTo>
                      <a:pt x="697" y="109"/>
                    </a:lnTo>
                    <a:lnTo>
                      <a:pt x="689" y="125"/>
                    </a:lnTo>
                    <a:lnTo>
                      <a:pt x="680" y="142"/>
                    </a:lnTo>
                    <a:lnTo>
                      <a:pt x="670" y="157"/>
                    </a:lnTo>
                    <a:lnTo>
                      <a:pt x="660" y="173"/>
                    </a:lnTo>
                    <a:lnTo>
                      <a:pt x="650" y="189"/>
                    </a:lnTo>
                    <a:lnTo>
                      <a:pt x="641" y="206"/>
                    </a:lnTo>
                    <a:lnTo>
                      <a:pt x="632" y="221"/>
                    </a:lnTo>
                    <a:lnTo>
                      <a:pt x="626" y="238"/>
                    </a:lnTo>
                    <a:lnTo>
                      <a:pt x="621" y="254"/>
                    </a:lnTo>
                    <a:lnTo>
                      <a:pt x="619" y="273"/>
                    </a:lnTo>
                    <a:lnTo>
                      <a:pt x="612" y="289"/>
                    </a:lnTo>
                    <a:lnTo>
                      <a:pt x="606" y="306"/>
                    </a:lnTo>
                    <a:lnTo>
                      <a:pt x="599" y="325"/>
                    </a:lnTo>
                    <a:lnTo>
                      <a:pt x="593" y="342"/>
                    </a:lnTo>
                    <a:lnTo>
                      <a:pt x="586" y="360"/>
                    </a:lnTo>
                    <a:lnTo>
                      <a:pt x="578" y="379"/>
                    </a:lnTo>
                    <a:lnTo>
                      <a:pt x="570" y="396"/>
                    </a:lnTo>
                    <a:lnTo>
                      <a:pt x="561" y="412"/>
                    </a:lnTo>
                    <a:lnTo>
                      <a:pt x="549" y="427"/>
                    </a:lnTo>
                    <a:lnTo>
                      <a:pt x="538" y="438"/>
                    </a:lnTo>
                    <a:lnTo>
                      <a:pt x="523" y="448"/>
                    </a:lnTo>
                    <a:lnTo>
                      <a:pt x="509" y="457"/>
                    </a:lnTo>
                    <a:lnTo>
                      <a:pt x="490" y="463"/>
                    </a:lnTo>
                    <a:lnTo>
                      <a:pt x="471" y="464"/>
                    </a:lnTo>
                    <a:lnTo>
                      <a:pt x="449" y="463"/>
                    </a:lnTo>
                    <a:lnTo>
                      <a:pt x="425" y="458"/>
                    </a:lnTo>
                    <a:lnTo>
                      <a:pt x="407" y="458"/>
                    </a:lnTo>
                    <a:lnTo>
                      <a:pt x="390" y="458"/>
                    </a:lnTo>
                    <a:lnTo>
                      <a:pt x="371" y="458"/>
                    </a:lnTo>
                    <a:lnTo>
                      <a:pt x="355" y="458"/>
                    </a:lnTo>
                    <a:lnTo>
                      <a:pt x="338" y="458"/>
                    </a:lnTo>
                    <a:lnTo>
                      <a:pt x="320" y="460"/>
                    </a:lnTo>
                    <a:lnTo>
                      <a:pt x="303" y="460"/>
                    </a:lnTo>
                    <a:lnTo>
                      <a:pt x="285" y="460"/>
                    </a:lnTo>
                    <a:lnTo>
                      <a:pt x="268" y="460"/>
                    </a:lnTo>
                    <a:lnTo>
                      <a:pt x="251" y="460"/>
                    </a:lnTo>
                    <a:lnTo>
                      <a:pt x="232" y="460"/>
                    </a:lnTo>
                    <a:lnTo>
                      <a:pt x="216" y="461"/>
                    </a:lnTo>
                    <a:lnTo>
                      <a:pt x="198" y="461"/>
                    </a:lnTo>
                    <a:lnTo>
                      <a:pt x="182" y="463"/>
                    </a:lnTo>
                    <a:lnTo>
                      <a:pt x="165" y="463"/>
                    </a:lnTo>
                    <a:lnTo>
                      <a:pt x="148" y="464"/>
                    </a:lnTo>
                    <a:lnTo>
                      <a:pt x="130" y="456"/>
                    </a:lnTo>
                    <a:lnTo>
                      <a:pt x="116" y="447"/>
                    </a:lnTo>
                    <a:lnTo>
                      <a:pt x="103" y="435"/>
                    </a:lnTo>
                    <a:lnTo>
                      <a:pt x="92" y="424"/>
                    </a:lnTo>
                    <a:lnTo>
                      <a:pt x="82" y="408"/>
                    </a:lnTo>
                    <a:lnTo>
                      <a:pt x="75" y="392"/>
                    </a:lnTo>
                    <a:lnTo>
                      <a:pt x="68" y="374"/>
                    </a:lnTo>
                    <a:lnTo>
                      <a:pt x="63" y="357"/>
                    </a:lnTo>
                    <a:lnTo>
                      <a:pt x="58" y="338"/>
                    </a:lnTo>
                    <a:lnTo>
                      <a:pt x="55" y="319"/>
                    </a:lnTo>
                    <a:lnTo>
                      <a:pt x="50" y="300"/>
                    </a:lnTo>
                    <a:lnTo>
                      <a:pt x="47" y="281"/>
                    </a:lnTo>
                    <a:lnTo>
                      <a:pt x="43" y="264"/>
                    </a:lnTo>
                    <a:lnTo>
                      <a:pt x="40" y="247"/>
                    </a:lnTo>
                    <a:lnTo>
                      <a:pt x="36" y="229"/>
                    </a:lnTo>
                    <a:lnTo>
                      <a:pt x="31" y="215"/>
                    </a:lnTo>
                    <a:lnTo>
                      <a:pt x="27" y="200"/>
                    </a:lnTo>
                    <a:lnTo>
                      <a:pt x="24" y="187"/>
                    </a:lnTo>
                    <a:lnTo>
                      <a:pt x="20" y="174"/>
                    </a:lnTo>
                    <a:lnTo>
                      <a:pt x="17" y="161"/>
                    </a:lnTo>
                    <a:lnTo>
                      <a:pt x="13" y="147"/>
                    </a:lnTo>
                    <a:lnTo>
                      <a:pt x="8" y="132"/>
                    </a:lnTo>
                    <a:lnTo>
                      <a:pt x="5" y="118"/>
                    </a:lnTo>
                    <a:lnTo>
                      <a:pt x="2" y="103"/>
                    </a:lnTo>
                    <a:lnTo>
                      <a:pt x="0" y="90"/>
                    </a:lnTo>
                    <a:lnTo>
                      <a:pt x="0" y="75"/>
                    </a:lnTo>
                    <a:lnTo>
                      <a:pt x="0" y="61"/>
                    </a:lnTo>
                    <a:lnTo>
                      <a:pt x="2" y="48"/>
                    </a:lnTo>
                    <a:lnTo>
                      <a:pt x="5" y="35"/>
                    </a:lnTo>
                    <a:lnTo>
                      <a:pt x="13" y="22"/>
                    </a:lnTo>
                    <a:lnTo>
                      <a:pt x="21" y="10"/>
                    </a:lnTo>
                    <a:lnTo>
                      <a:pt x="33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629000" y="1856160"/>
                <a:ext cx="203400" cy="241560"/>
              </a:xfrm>
              <a:custGeom>
                <a:avLst/>
                <a:gdLst/>
                <a:ahLst/>
                <a:rect l="l" t="t" r="r" b="b"/>
                <a:pathLst>
                  <a:path w="433" h="556">
                    <a:moveTo>
                      <a:pt x="79" y="0"/>
                    </a:moveTo>
                    <a:lnTo>
                      <a:pt x="97" y="1"/>
                    </a:lnTo>
                    <a:lnTo>
                      <a:pt x="114" y="3"/>
                    </a:lnTo>
                    <a:lnTo>
                      <a:pt x="132" y="4"/>
                    </a:lnTo>
                    <a:lnTo>
                      <a:pt x="151" y="6"/>
                    </a:lnTo>
                    <a:lnTo>
                      <a:pt x="168" y="6"/>
                    </a:lnTo>
                    <a:lnTo>
                      <a:pt x="185" y="7"/>
                    </a:lnTo>
                    <a:lnTo>
                      <a:pt x="203" y="7"/>
                    </a:lnTo>
                    <a:lnTo>
                      <a:pt x="220" y="10"/>
                    </a:lnTo>
                    <a:lnTo>
                      <a:pt x="238" y="12"/>
                    </a:lnTo>
                    <a:lnTo>
                      <a:pt x="254" y="15"/>
                    </a:lnTo>
                    <a:lnTo>
                      <a:pt x="269" y="19"/>
                    </a:lnTo>
                    <a:lnTo>
                      <a:pt x="287" y="25"/>
                    </a:lnTo>
                    <a:lnTo>
                      <a:pt x="301" y="32"/>
                    </a:lnTo>
                    <a:lnTo>
                      <a:pt x="317" y="41"/>
                    </a:lnTo>
                    <a:lnTo>
                      <a:pt x="333" y="49"/>
                    </a:lnTo>
                    <a:lnTo>
                      <a:pt x="349" y="64"/>
                    </a:lnTo>
                    <a:lnTo>
                      <a:pt x="351" y="83"/>
                    </a:lnTo>
                    <a:lnTo>
                      <a:pt x="352" y="103"/>
                    </a:lnTo>
                    <a:lnTo>
                      <a:pt x="354" y="122"/>
                    </a:lnTo>
                    <a:lnTo>
                      <a:pt x="355" y="142"/>
                    </a:lnTo>
                    <a:lnTo>
                      <a:pt x="355" y="161"/>
                    </a:lnTo>
                    <a:lnTo>
                      <a:pt x="358" y="181"/>
                    </a:lnTo>
                    <a:lnTo>
                      <a:pt x="359" y="200"/>
                    </a:lnTo>
                    <a:lnTo>
                      <a:pt x="364" y="221"/>
                    </a:lnTo>
                    <a:lnTo>
                      <a:pt x="367" y="238"/>
                    </a:lnTo>
                    <a:lnTo>
                      <a:pt x="371" y="257"/>
                    </a:lnTo>
                    <a:lnTo>
                      <a:pt x="377" y="274"/>
                    </a:lnTo>
                    <a:lnTo>
                      <a:pt x="386" y="293"/>
                    </a:lnTo>
                    <a:lnTo>
                      <a:pt x="393" y="310"/>
                    </a:lnTo>
                    <a:lnTo>
                      <a:pt x="404" y="328"/>
                    </a:lnTo>
                    <a:lnTo>
                      <a:pt x="417" y="345"/>
                    </a:lnTo>
                    <a:lnTo>
                      <a:pt x="433" y="363"/>
                    </a:lnTo>
                    <a:lnTo>
                      <a:pt x="429" y="377"/>
                    </a:lnTo>
                    <a:lnTo>
                      <a:pt x="422" y="395"/>
                    </a:lnTo>
                    <a:lnTo>
                      <a:pt x="415" y="411"/>
                    </a:lnTo>
                    <a:lnTo>
                      <a:pt x="407" y="429"/>
                    </a:lnTo>
                    <a:lnTo>
                      <a:pt x="396" y="447"/>
                    </a:lnTo>
                    <a:lnTo>
                      <a:pt x="384" y="464"/>
                    </a:lnTo>
                    <a:lnTo>
                      <a:pt x="372" y="482"/>
                    </a:lnTo>
                    <a:lnTo>
                      <a:pt x="359" y="499"/>
                    </a:lnTo>
                    <a:lnTo>
                      <a:pt x="343" y="514"/>
                    </a:lnTo>
                    <a:lnTo>
                      <a:pt x="329" y="525"/>
                    </a:lnTo>
                    <a:lnTo>
                      <a:pt x="312" y="537"/>
                    </a:lnTo>
                    <a:lnTo>
                      <a:pt x="296" y="545"/>
                    </a:lnTo>
                    <a:lnTo>
                      <a:pt x="277" y="553"/>
                    </a:lnTo>
                    <a:lnTo>
                      <a:pt x="259" y="556"/>
                    </a:lnTo>
                    <a:lnTo>
                      <a:pt x="240" y="556"/>
                    </a:lnTo>
                    <a:lnTo>
                      <a:pt x="223" y="553"/>
                    </a:lnTo>
                    <a:lnTo>
                      <a:pt x="209" y="548"/>
                    </a:lnTo>
                    <a:lnTo>
                      <a:pt x="194" y="545"/>
                    </a:lnTo>
                    <a:lnTo>
                      <a:pt x="177" y="541"/>
                    </a:lnTo>
                    <a:lnTo>
                      <a:pt x="162" y="541"/>
                    </a:lnTo>
                    <a:lnTo>
                      <a:pt x="145" y="540"/>
                    </a:lnTo>
                    <a:lnTo>
                      <a:pt x="127" y="538"/>
                    </a:lnTo>
                    <a:lnTo>
                      <a:pt x="110" y="538"/>
                    </a:lnTo>
                    <a:lnTo>
                      <a:pt x="95" y="538"/>
                    </a:lnTo>
                    <a:lnTo>
                      <a:pt x="78" y="534"/>
                    </a:lnTo>
                    <a:lnTo>
                      <a:pt x="63" y="532"/>
                    </a:lnTo>
                    <a:lnTo>
                      <a:pt x="49" y="528"/>
                    </a:lnTo>
                    <a:lnTo>
                      <a:pt x="36" y="522"/>
                    </a:lnTo>
                    <a:lnTo>
                      <a:pt x="24" y="514"/>
                    </a:lnTo>
                    <a:lnTo>
                      <a:pt x="14" y="503"/>
                    </a:lnTo>
                    <a:lnTo>
                      <a:pt x="5" y="492"/>
                    </a:lnTo>
                    <a:lnTo>
                      <a:pt x="0" y="476"/>
                    </a:lnTo>
                    <a:lnTo>
                      <a:pt x="3" y="470"/>
                    </a:lnTo>
                    <a:lnTo>
                      <a:pt x="7" y="463"/>
                    </a:lnTo>
                    <a:lnTo>
                      <a:pt x="11" y="458"/>
                    </a:lnTo>
                    <a:lnTo>
                      <a:pt x="17" y="453"/>
                    </a:lnTo>
                    <a:lnTo>
                      <a:pt x="21" y="447"/>
                    </a:lnTo>
                    <a:lnTo>
                      <a:pt x="29" y="442"/>
                    </a:lnTo>
                    <a:lnTo>
                      <a:pt x="34" y="437"/>
                    </a:lnTo>
                    <a:lnTo>
                      <a:pt x="40" y="432"/>
                    </a:lnTo>
                    <a:lnTo>
                      <a:pt x="56" y="434"/>
                    </a:lnTo>
                    <a:lnTo>
                      <a:pt x="74" y="437"/>
                    </a:lnTo>
                    <a:lnTo>
                      <a:pt x="92" y="440"/>
                    </a:lnTo>
                    <a:lnTo>
                      <a:pt x="111" y="445"/>
                    </a:lnTo>
                    <a:lnTo>
                      <a:pt x="130" y="450"/>
                    </a:lnTo>
                    <a:lnTo>
                      <a:pt x="149" y="454"/>
                    </a:lnTo>
                    <a:lnTo>
                      <a:pt x="169" y="458"/>
                    </a:lnTo>
                    <a:lnTo>
                      <a:pt x="188" y="463"/>
                    </a:lnTo>
                    <a:lnTo>
                      <a:pt x="206" y="463"/>
                    </a:lnTo>
                    <a:lnTo>
                      <a:pt x="225" y="463"/>
                    </a:lnTo>
                    <a:lnTo>
                      <a:pt x="242" y="460"/>
                    </a:lnTo>
                    <a:lnTo>
                      <a:pt x="259" y="457"/>
                    </a:lnTo>
                    <a:lnTo>
                      <a:pt x="274" y="450"/>
                    </a:lnTo>
                    <a:lnTo>
                      <a:pt x="290" y="440"/>
                    </a:lnTo>
                    <a:lnTo>
                      <a:pt x="303" y="425"/>
                    </a:lnTo>
                    <a:lnTo>
                      <a:pt x="316" y="409"/>
                    </a:lnTo>
                    <a:lnTo>
                      <a:pt x="309" y="390"/>
                    </a:lnTo>
                    <a:lnTo>
                      <a:pt x="299" y="376"/>
                    </a:lnTo>
                    <a:lnTo>
                      <a:pt x="287" y="364"/>
                    </a:lnTo>
                    <a:lnTo>
                      <a:pt x="277" y="357"/>
                    </a:lnTo>
                    <a:lnTo>
                      <a:pt x="262" y="348"/>
                    </a:lnTo>
                    <a:lnTo>
                      <a:pt x="249" y="342"/>
                    </a:lnTo>
                    <a:lnTo>
                      <a:pt x="235" y="338"/>
                    </a:lnTo>
                    <a:lnTo>
                      <a:pt x="220" y="335"/>
                    </a:lnTo>
                    <a:lnTo>
                      <a:pt x="203" y="331"/>
                    </a:lnTo>
                    <a:lnTo>
                      <a:pt x="188" y="326"/>
                    </a:lnTo>
                    <a:lnTo>
                      <a:pt x="172" y="321"/>
                    </a:lnTo>
                    <a:lnTo>
                      <a:pt x="158" y="316"/>
                    </a:lnTo>
                    <a:lnTo>
                      <a:pt x="142" y="309"/>
                    </a:lnTo>
                    <a:lnTo>
                      <a:pt x="130" y="299"/>
                    </a:lnTo>
                    <a:lnTo>
                      <a:pt x="117" y="287"/>
                    </a:lnTo>
                    <a:lnTo>
                      <a:pt x="106" y="274"/>
                    </a:lnTo>
                    <a:lnTo>
                      <a:pt x="124" y="225"/>
                    </a:lnTo>
                    <a:lnTo>
                      <a:pt x="137" y="221"/>
                    </a:lnTo>
                    <a:lnTo>
                      <a:pt x="149" y="219"/>
                    </a:lnTo>
                    <a:lnTo>
                      <a:pt x="159" y="218"/>
                    </a:lnTo>
                    <a:lnTo>
                      <a:pt x="171" y="221"/>
                    </a:lnTo>
                    <a:lnTo>
                      <a:pt x="181" y="221"/>
                    </a:lnTo>
                    <a:lnTo>
                      <a:pt x="190" y="225"/>
                    </a:lnTo>
                    <a:lnTo>
                      <a:pt x="198" y="228"/>
                    </a:lnTo>
                    <a:lnTo>
                      <a:pt x="209" y="232"/>
                    </a:lnTo>
                    <a:lnTo>
                      <a:pt x="217" y="235"/>
                    </a:lnTo>
                    <a:lnTo>
                      <a:pt x="227" y="239"/>
                    </a:lnTo>
                    <a:lnTo>
                      <a:pt x="236" y="244"/>
                    </a:lnTo>
                    <a:lnTo>
                      <a:pt x="246" y="248"/>
                    </a:lnTo>
                    <a:lnTo>
                      <a:pt x="255" y="250"/>
                    </a:lnTo>
                    <a:lnTo>
                      <a:pt x="267" y="252"/>
                    </a:lnTo>
                    <a:lnTo>
                      <a:pt x="278" y="255"/>
                    </a:lnTo>
                    <a:lnTo>
                      <a:pt x="291" y="257"/>
                    </a:lnTo>
                    <a:lnTo>
                      <a:pt x="288" y="239"/>
                    </a:lnTo>
                    <a:lnTo>
                      <a:pt x="287" y="223"/>
                    </a:lnTo>
                    <a:lnTo>
                      <a:pt x="284" y="209"/>
                    </a:lnTo>
                    <a:lnTo>
                      <a:pt x="284" y="197"/>
                    </a:lnTo>
                    <a:lnTo>
                      <a:pt x="281" y="186"/>
                    </a:lnTo>
                    <a:lnTo>
                      <a:pt x="280" y="174"/>
                    </a:lnTo>
                    <a:lnTo>
                      <a:pt x="280" y="165"/>
                    </a:lnTo>
                    <a:lnTo>
                      <a:pt x="280" y="158"/>
                    </a:lnTo>
                    <a:lnTo>
                      <a:pt x="278" y="149"/>
                    </a:lnTo>
                    <a:lnTo>
                      <a:pt x="277" y="142"/>
                    </a:lnTo>
                    <a:lnTo>
                      <a:pt x="277" y="136"/>
                    </a:lnTo>
                    <a:lnTo>
                      <a:pt x="277" y="132"/>
                    </a:lnTo>
                    <a:lnTo>
                      <a:pt x="277" y="122"/>
                    </a:lnTo>
                    <a:lnTo>
                      <a:pt x="275" y="116"/>
                    </a:lnTo>
                    <a:lnTo>
                      <a:pt x="269" y="107"/>
                    </a:lnTo>
                    <a:lnTo>
                      <a:pt x="261" y="102"/>
                    </a:lnTo>
                    <a:lnTo>
                      <a:pt x="254" y="99"/>
                    </a:lnTo>
                    <a:lnTo>
                      <a:pt x="248" y="97"/>
                    </a:lnTo>
                    <a:lnTo>
                      <a:pt x="239" y="97"/>
                    </a:lnTo>
                    <a:lnTo>
                      <a:pt x="230" y="97"/>
                    </a:lnTo>
                    <a:lnTo>
                      <a:pt x="220" y="96"/>
                    </a:lnTo>
                    <a:lnTo>
                      <a:pt x="209" y="96"/>
                    </a:lnTo>
                    <a:lnTo>
                      <a:pt x="197" y="96"/>
                    </a:lnTo>
                    <a:lnTo>
                      <a:pt x="184" y="97"/>
                    </a:lnTo>
                    <a:lnTo>
                      <a:pt x="168" y="97"/>
                    </a:lnTo>
                    <a:lnTo>
                      <a:pt x="152" y="99"/>
                    </a:lnTo>
                    <a:lnTo>
                      <a:pt x="135" y="99"/>
                    </a:lnTo>
                    <a:lnTo>
                      <a:pt x="117" y="100"/>
                    </a:lnTo>
                    <a:lnTo>
                      <a:pt x="79" y="0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794600" y="1989360"/>
                <a:ext cx="90360" cy="45360"/>
              </a:xfrm>
              <a:custGeom>
                <a:avLst/>
                <a:gdLst/>
                <a:ahLst/>
                <a:rect l="l" t="t" r="r" b="b"/>
                <a:pathLst>
                  <a:path w="193" h="106">
                    <a:moveTo>
                      <a:pt x="158" y="0"/>
                    </a:moveTo>
                    <a:lnTo>
                      <a:pt x="193" y="74"/>
                    </a:lnTo>
                    <a:lnTo>
                      <a:pt x="182" y="76"/>
                    </a:lnTo>
                    <a:lnTo>
                      <a:pt x="170" y="78"/>
                    </a:lnTo>
                    <a:lnTo>
                      <a:pt x="158" y="83"/>
                    </a:lnTo>
                    <a:lnTo>
                      <a:pt x="148" y="86"/>
                    </a:lnTo>
                    <a:lnTo>
                      <a:pt x="135" y="90"/>
                    </a:lnTo>
                    <a:lnTo>
                      <a:pt x="124" y="93"/>
                    </a:lnTo>
                    <a:lnTo>
                      <a:pt x="112" y="96"/>
                    </a:lnTo>
                    <a:lnTo>
                      <a:pt x="100" y="100"/>
                    </a:lnTo>
                    <a:lnTo>
                      <a:pt x="87" y="102"/>
                    </a:lnTo>
                    <a:lnTo>
                      <a:pt x="76" y="105"/>
                    </a:lnTo>
                    <a:lnTo>
                      <a:pt x="63" y="105"/>
                    </a:lnTo>
                    <a:lnTo>
                      <a:pt x="52" y="106"/>
                    </a:lnTo>
                    <a:lnTo>
                      <a:pt x="39" y="105"/>
                    </a:lnTo>
                    <a:lnTo>
                      <a:pt x="28" y="105"/>
                    </a:lnTo>
                    <a:lnTo>
                      <a:pt x="16" y="100"/>
                    </a:lnTo>
                    <a:lnTo>
                      <a:pt x="5" y="97"/>
                    </a:lnTo>
                    <a:lnTo>
                      <a:pt x="0" y="42"/>
                    </a:lnTo>
                    <a:lnTo>
                      <a:pt x="9" y="35"/>
                    </a:lnTo>
                    <a:lnTo>
                      <a:pt x="18" y="29"/>
                    </a:lnTo>
                    <a:lnTo>
                      <a:pt x="28" y="25"/>
                    </a:lnTo>
                    <a:lnTo>
                      <a:pt x="38" y="22"/>
                    </a:lnTo>
                    <a:lnTo>
                      <a:pt x="47" y="19"/>
                    </a:lnTo>
                    <a:lnTo>
                      <a:pt x="57" y="16"/>
                    </a:lnTo>
                    <a:lnTo>
                      <a:pt x="67" y="15"/>
                    </a:lnTo>
                    <a:lnTo>
                      <a:pt x="77" y="13"/>
                    </a:lnTo>
                    <a:lnTo>
                      <a:pt x="87" y="12"/>
                    </a:lnTo>
                    <a:lnTo>
                      <a:pt x="97" y="10"/>
                    </a:lnTo>
                    <a:lnTo>
                      <a:pt x="108" y="7"/>
                    </a:lnTo>
                    <a:lnTo>
                      <a:pt x="118" y="7"/>
                    </a:lnTo>
                    <a:lnTo>
                      <a:pt x="126" y="6"/>
                    </a:lnTo>
                    <a:lnTo>
                      <a:pt x="138" y="4"/>
                    </a:lnTo>
                    <a:lnTo>
                      <a:pt x="148" y="2"/>
                    </a:lnTo>
                    <a:lnTo>
                      <a:pt x="158" y="0"/>
                    </a:lnTo>
                    <a:lnTo>
                      <a:pt x="15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909720" y="2481840"/>
                <a:ext cx="115560" cy="164520"/>
              </a:xfrm>
              <a:custGeom>
                <a:avLst/>
                <a:gdLst/>
                <a:ahLst/>
                <a:rect l="l" t="t" r="r" b="b"/>
                <a:pathLst>
                  <a:path w="247" h="377">
                    <a:moveTo>
                      <a:pt x="196" y="0"/>
                    </a:moveTo>
                    <a:lnTo>
                      <a:pt x="215" y="5"/>
                    </a:lnTo>
                    <a:lnTo>
                      <a:pt x="231" y="14"/>
                    </a:lnTo>
                    <a:lnTo>
                      <a:pt x="240" y="23"/>
                    </a:lnTo>
                    <a:lnTo>
                      <a:pt x="245" y="36"/>
                    </a:lnTo>
                    <a:lnTo>
                      <a:pt x="247" y="48"/>
                    </a:lnTo>
                    <a:lnTo>
                      <a:pt x="245" y="59"/>
                    </a:lnTo>
                    <a:lnTo>
                      <a:pt x="241" y="74"/>
                    </a:lnTo>
                    <a:lnTo>
                      <a:pt x="237" y="87"/>
                    </a:lnTo>
                    <a:lnTo>
                      <a:pt x="228" y="101"/>
                    </a:lnTo>
                    <a:lnTo>
                      <a:pt x="219" y="114"/>
                    </a:lnTo>
                    <a:lnTo>
                      <a:pt x="209" y="127"/>
                    </a:lnTo>
                    <a:lnTo>
                      <a:pt x="199" y="142"/>
                    </a:lnTo>
                    <a:lnTo>
                      <a:pt x="189" y="155"/>
                    </a:lnTo>
                    <a:lnTo>
                      <a:pt x="180" y="168"/>
                    </a:lnTo>
                    <a:lnTo>
                      <a:pt x="173" y="180"/>
                    </a:lnTo>
                    <a:lnTo>
                      <a:pt x="167" y="191"/>
                    </a:lnTo>
                    <a:lnTo>
                      <a:pt x="160" y="203"/>
                    </a:lnTo>
                    <a:lnTo>
                      <a:pt x="154" y="216"/>
                    </a:lnTo>
                    <a:lnTo>
                      <a:pt x="150" y="227"/>
                    </a:lnTo>
                    <a:lnTo>
                      <a:pt x="144" y="240"/>
                    </a:lnTo>
                    <a:lnTo>
                      <a:pt x="138" y="252"/>
                    </a:lnTo>
                    <a:lnTo>
                      <a:pt x="132" y="265"/>
                    </a:lnTo>
                    <a:lnTo>
                      <a:pt x="127" y="277"/>
                    </a:lnTo>
                    <a:lnTo>
                      <a:pt x="121" y="290"/>
                    </a:lnTo>
                    <a:lnTo>
                      <a:pt x="113" y="301"/>
                    </a:lnTo>
                    <a:lnTo>
                      <a:pt x="108" y="312"/>
                    </a:lnTo>
                    <a:lnTo>
                      <a:pt x="99" y="323"/>
                    </a:lnTo>
                    <a:lnTo>
                      <a:pt x="92" y="335"/>
                    </a:lnTo>
                    <a:lnTo>
                      <a:pt x="82" y="345"/>
                    </a:lnTo>
                    <a:lnTo>
                      <a:pt x="71" y="357"/>
                    </a:lnTo>
                    <a:lnTo>
                      <a:pt x="60" y="367"/>
                    </a:lnTo>
                    <a:lnTo>
                      <a:pt x="50" y="377"/>
                    </a:lnTo>
                    <a:lnTo>
                      <a:pt x="0" y="362"/>
                    </a:lnTo>
                    <a:lnTo>
                      <a:pt x="3" y="341"/>
                    </a:lnTo>
                    <a:lnTo>
                      <a:pt x="8" y="320"/>
                    </a:lnTo>
                    <a:lnTo>
                      <a:pt x="13" y="300"/>
                    </a:lnTo>
                    <a:lnTo>
                      <a:pt x="21" y="280"/>
                    </a:lnTo>
                    <a:lnTo>
                      <a:pt x="26" y="259"/>
                    </a:lnTo>
                    <a:lnTo>
                      <a:pt x="35" y="240"/>
                    </a:lnTo>
                    <a:lnTo>
                      <a:pt x="45" y="222"/>
                    </a:lnTo>
                    <a:lnTo>
                      <a:pt x="55" y="203"/>
                    </a:lnTo>
                    <a:lnTo>
                      <a:pt x="64" y="184"/>
                    </a:lnTo>
                    <a:lnTo>
                      <a:pt x="76" y="165"/>
                    </a:lnTo>
                    <a:lnTo>
                      <a:pt x="86" y="146"/>
                    </a:lnTo>
                    <a:lnTo>
                      <a:pt x="99" y="127"/>
                    </a:lnTo>
                    <a:lnTo>
                      <a:pt x="111" y="108"/>
                    </a:lnTo>
                    <a:lnTo>
                      <a:pt x="124" y="91"/>
                    </a:lnTo>
                    <a:lnTo>
                      <a:pt x="135" y="74"/>
                    </a:lnTo>
                    <a:lnTo>
                      <a:pt x="148" y="56"/>
                    </a:lnTo>
                    <a:lnTo>
                      <a:pt x="153" y="48"/>
                    </a:lnTo>
                    <a:lnTo>
                      <a:pt x="158" y="40"/>
                    </a:lnTo>
                    <a:lnTo>
                      <a:pt x="166" y="32"/>
                    </a:lnTo>
                    <a:lnTo>
                      <a:pt x="174" y="23"/>
                    </a:lnTo>
                    <a:lnTo>
                      <a:pt x="180" y="14"/>
                    </a:lnTo>
                    <a:lnTo>
                      <a:pt x="187" y="8"/>
                    </a:lnTo>
                    <a:lnTo>
                      <a:pt x="192" y="3"/>
                    </a:lnTo>
                    <a:lnTo>
                      <a:pt x="196" y="0"/>
                    </a:lnTo>
                    <a:lnTo>
                      <a:pt x="19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898200" y="2004840"/>
                <a:ext cx="1170360" cy="966600"/>
              </a:xfrm>
              <a:custGeom>
                <a:avLst/>
                <a:gdLst/>
                <a:ahLst/>
                <a:rect l="l" t="t" r="r" b="b"/>
                <a:pathLst>
                  <a:path w="2483" h="2221">
                    <a:moveTo>
                      <a:pt x="2081" y="0"/>
                    </a:moveTo>
                    <a:lnTo>
                      <a:pt x="2118" y="26"/>
                    </a:lnTo>
                    <a:lnTo>
                      <a:pt x="2153" y="55"/>
                    </a:lnTo>
                    <a:lnTo>
                      <a:pt x="2185" y="86"/>
                    </a:lnTo>
                    <a:lnTo>
                      <a:pt x="2217" y="119"/>
                    </a:lnTo>
                    <a:lnTo>
                      <a:pt x="2246" y="152"/>
                    </a:lnTo>
                    <a:lnTo>
                      <a:pt x="2274" y="189"/>
                    </a:lnTo>
                    <a:lnTo>
                      <a:pt x="2298" y="226"/>
                    </a:lnTo>
                    <a:lnTo>
                      <a:pt x="2323" y="265"/>
                    </a:lnTo>
                    <a:lnTo>
                      <a:pt x="2343" y="303"/>
                    </a:lnTo>
                    <a:lnTo>
                      <a:pt x="2362" y="344"/>
                    </a:lnTo>
                    <a:lnTo>
                      <a:pt x="2380" y="384"/>
                    </a:lnTo>
                    <a:lnTo>
                      <a:pt x="2395" y="425"/>
                    </a:lnTo>
                    <a:lnTo>
                      <a:pt x="2410" y="466"/>
                    </a:lnTo>
                    <a:lnTo>
                      <a:pt x="2423" y="508"/>
                    </a:lnTo>
                    <a:lnTo>
                      <a:pt x="2435" y="548"/>
                    </a:lnTo>
                    <a:lnTo>
                      <a:pt x="2445" y="589"/>
                    </a:lnTo>
                    <a:lnTo>
                      <a:pt x="2458" y="669"/>
                    </a:lnTo>
                    <a:lnTo>
                      <a:pt x="2468" y="750"/>
                    </a:lnTo>
                    <a:lnTo>
                      <a:pt x="2477" y="831"/>
                    </a:lnTo>
                    <a:lnTo>
                      <a:pt x="2481" y="915"/>
                    </a:lnTo>
                    <a:lnTo>
                      <a:pt x="2483" y="997"/>
                    </a:lnTo>
                    <a:lnTo>
                      <a:pt x="2481" y="1079"/>
                    </a:lnTo>
                    <a:lnTo>
                      <a:pt x="2477" y="1161"/>
                    </a:lnTo>
                    <a:lnTo>
                      <a:pt x="2468" y="1242"/>
                    </a:lnTo>
                    <a:lnTo>
                      <a:pt x="2454" y="1322"/>
                    </a:lnTo>
                    <a:lnTo>
                      <a:pt x="2436" y="1400"/>
                    </a:lnTo>
                    <a:lnTo>
                      <a:pt x="2413" y="1477"/>
                    </a:lnTo>
                    <a:lnTo>
                      <a:pt x="2387" y="1554"/>
                    </a:lnTo>
                    <a:lnTo>
                      <a:pt x="2353" y="1626"/>
                    </a:lnTo>
                    <a:lnTo>
                      <a:pt x="2317" y="1699"/>
                    </a:lnTo>
                    <a:lnTo>
                      <a:pt x="2274" y="1768"/>
                    </a:lnTo>
                    <a:lnTo>
                      <a:pt x="2226" y="1837"/>
                    </a:lnTo>
                    <a:lnTo>
                      <a:pt x="2194" y="1871"/>
                    </a:lnTo>
                    <a:lnTo>
                      <a:pt x="2160" y="1905"/>
                    </a:lnTo>
                    <a:lnTo>
                      <a:pt x="2127" y="1937"/>
                    </a:lnTo>
                    <a:lnTo>
                      <a:pt x="2091" y="1967"/>
                    </a:lnTo>
                    <a:lnTo>
                      <a:pt x="2053" y="1993"/>
                    </a:lnTo>
                    <a:lnTo>
                      <a:pt x="2014" y="2019"/>
                    </a:lnTo>
                    <a:lnTo>
                      <a:pt x="1973" y="2044"/>
                    </a:lnTo>
                    <a:lnTo>
                      <a:pt x="1934" y="2067"/>
                    </a:lnTo>
                    <a:lnTo>
                      <a:pt x="1891" y="2086"/>
                    </a:lnTo>
                    <a:lnTo>
                      <a:pt x="1849" y="2105"/>
                    </a:lnTo>
                    <a:lnTo>
                      <a:pt x="1805" y="2122"/>
                    </a:lnTo>
                    <a:lnTo>
                      <a:pt x="1763" y="2138"/>
                    </a:lnTo>
                    <a:lnTo>
                      <a:pt x="1719" y="2151"/>
                    </a:lnTo>
                    <a:lnTo>
                      <a:pt x="1674" y="2164"/>
                    </a:lnTo>
                    <a:lnTo>
                      <a:pt x="1631" y="2176"/>
                    </a:lnTo>
                    <a:lnTo>
                      <a:pt x="1589" y="2186"/>
                    </a:lnTo>
                    <a:lnTo>
                      <a:pt x="1566" y="2191"/>
                    </a:lnTo>
                    <a:lnTo>
                      <a:pt x="1544" y="2196"/>
                    </a:lnTo>
                    <a:lnTo>
                      <a:pt x="1521" y="2201"/>
                    </a:lnTo>
                    <a:lnTo>
                      <a:pt x="1500" y="2204"/>
                    </a:lnTo>
                    <a:lnTo>
                      <a:pt x="1477" y="2208"/>
                    </a:lnTo>
                    <a:lnTo>
                      <a:pt x="1454" y="2211"/>
                    </a:lnTo>
                    <a:lnTo>
                      <a:pt x="1432" y="2212"/>
                    </a:lnTo>
                    <a:lnTo>
                      <a:pt x="1409" y="2215"/>
                    </a:lnTo>
                    <a:lnTo>
                      <a:pt x="1386" y="2217"/>
                    </a:lnTo>
                    <a:lnTo>
                      <a:pt x="1362" y="2218"/>
                    </a:lnTo>
                    <a:lnTo>
                      <a:pt x="1339" y="2220"/>
                    </a:lnTo>
                    <a:lnTo>
                      <a:pt x="1316" y="2221"/>
                    </a:lnTo>
                    <a:lnTo>
                      <a:pt x="1293" y="2221"/>
                    </a:lnTo>
                    <a:lnTo>
                      <a:pt x="1270" y="2221"/>
                    </a:lnTo>
                    <a:lnTo>
                      <a:pt x="1246" y="2221"/>
                    </a:lnTo>
                    <a:lnTo>
                      <a:pt x="1223" y="2221"/>
                    </a:lnTo>
                    <a:lnTo>
                      <a:pt x="1175" y="2218"/>
                    </a:lnTo>
                    <a:lnTo>
                      <a:pt x="1129" y="2215"/>
                    </a:lnTo>
                    <a:lnTo>
                      <a:pt x="1082" y="2209"/>
                    </a:lnTo>
                    <a:lnTo>
                      <a:pt x="1037" y="2204"/>
                    </a:lnTo>
                    <a:lnTo>
                      <a:pt x="991" y="2193"/>
                    </a:lnTo>
                    <a:lnTo>
                      <a:pt x="948" y="2185"/>
                    </a:lnTo>
                    <a:lnTo>
                      <a:pt x="904" y="2173"/>
                    </a:lnTo>
                    <a:lnTo>
                      <a:pt x="860" y="2162"/>
                    </a:lnTo>
                    <a:lnTo>
                      <a:pt x="818" y="2144"/>
                    </a:lnTo>
                    <a:lnTo>
                      <a:pt x="775" y="2128"/>
                    </a:lnTo>
                    <a:lnTo>
                      <a:pt x="734" y="2109"/>
                    </a:lnTo>
                    <a:lnTo>
                      <a:pt x="694" y="2090"/>
                    </a:lnTo>
                    <a:lnTo>
                      <a:pt x="653" y="2067"/>
                    </a:lnTo>
                    <a:lnTo>
                      <a:pt x="614" y="2044"/>
                    </a:lnTo>
                    <a:lnTo>
                      <a:pt x="575" y="2018"/>
                    </a:lnTo>
                    <a:lnTo>
                      <a:pt x="538" y="1990"/>
                    </a:lnTo>
                    <a:lnTo>
                      <a:pt x="511" y="1971"/>
                    </a:lnTo>
                    <a:lnTo>
                      <a:pt x="479" y="1947"/>
                    </a:lnTo>
                    <a:lnTo>
                      <a:pt x="440" y="1916"/>
                    </a:lnTo>
                    <a:lnTo>
                      <a:pt x="399" y="1883"/>
                    </a:lnTo>
                    <a:lnTo>
                      <a:pt x="353" y="1844"/>
                    </a:lnTo>
                    <a:lnTo>
                      <a:pt x="306" y="1805"/>
                    </a:lnTo>
                    <a:lnTo>
                      <a:pt x="258" y="1760"/>
                    </a:lnTo>
                    <a:lnTo>
                      <a:pt x="212" y="1716"/>
                    </a:lnTo>
                    <a:lnTo>
                      <a:pt x="167" y="1671"/>
                    </a:lnTo>
                    <a:lnTo>
                      <a:pt x="125" y="1626"/>
                    </a:lnTo>
                    <a:lnTo>
                      <a:pt x="87" y="1581"/>
                    </a:lnTo>
                    <a:lnTo>
                      <a:pt x="55" y="1539"/>
                    </a:lnTo>
                    <a:lnTo>
                      <a:pt x="26" y="1499"/>
                    </a:lnTo>
                    <a:lnTo>
                      <a:pt x="9" y="1462"/>
                    </a:lnTo>
                    <a:lnTo>
                      <a:pt x="0" y="1429"/>
                    </a:lnTo>
                    <a:lnTo>
                      <a:pt x="2" y="1401"/>
                    </a:lnTo>
                    <a:lnTo>
                      <a:pt x="83" y="1404"/>
                    </a:lnTo>
                    <a:lnTo>
                      <a:pt x="113" y="1459"/>
                    </a:lnTo>
                    <a:lnTo>
                      <a:pt x="151" y="1513"/>
                    </a:lnTo>
                    <a:lnTo>
                      <a:pt x="190" y="1565"/>
                    </a:lnTo>
                    <a:lnTo>
                      <a:pt x="232" y="1617"/>
                    </a:lnTo>
                    <a:lnTo>
                      <a:pt x="277" y="1665"/>
                    </a:lnTo>
                    <a:lnTo>
                      <a:pt x="325" y="1713"/>
                    </a:lnTo>
                    <a:lnTo>
                      <a:pt x="374" y="1758"/>
                    </a:lnTo>
                    <a:lnTo>
                      <a:pt x="428" y="1803"/>
                    </a:lnTo>
                    <a:lnTo>
                      <a:pt x="480" y="1844"/>
                    </a:lnTo>
                    <a:lnTo>
                      <a:pt x="534" y="1883"/>
                    </a:lnTo>
                    <a:lnTo>
                      <a:pt x="591" y="1919"/>
                    </a:lnTo>
                    <a:lnTo>
                      <a:pt x="647" y="1954"/>
                    </a:lnTo>
                    <a:lnTo>
                      <a:pt x="702" y="1985"/>
                    </a:lnTo>
                    <a:lnTo>
                      <a:pt x="760" y="2015"/>
                    </a:lnTo>
                    <a:lnTo>
                      <a:pt x="817" y="2043"/>
                    </a:lnTo>
                    <a:lnTo>
                      <a:pt x="874" y="2069"/>
                    </a:lnTo>
                    <a:lnTo>
                      <a:pt x="953" y="2089"/>
                    </a:lnTo>
                    <a:lnTo>
                      <a:pt x="1033" y="2105"/>
                    </a:lnTo>
                    <a:lnTo>
                      <a:pt x="1114" y="2118"/>
                    </a:lnTo>
                    <a:lnTo>
                      <a:pt x="1199" y="2125"/>
                    </a:lnTo>
                    <a:lnTo>
                      <a:pt x="1280" y="2128"/>
                    </a:lnTo>
                    <a:lnTo>
                      <a:pt x="1361" y="2127"/>
                    </a:lnTo>
                    <a:lnTo>
                      <a:pt x="1444" y="2119"/>
                    </a:lnTo>
                    <a:lnTo>
                      <a:pt x="1526" y="2109"/>
                    </a:lnTo>
                    <a:lnTo>
                      <a:pt x="1606" y="2092"/>
                    </a:lnTo>
                    <a:lnTo>
                      <a:pt x="1686" y="2070"/>
                    </a:lnTo>
                    <a:lnTo>
                      <a:pt x="1763" y="2043"/>
                    </a:lnTo>
                    <a:lnTo>
                      <a:pt x="1840" y="2011"/>
                    </a:lnTo>
                    <a:lnTo>
                      <a:pt x="1912" y="1971"/>
                    </a:lnTo>
                    <a:lnTo>
                      <a:pt x="1985" y="1926"/>
                    </a:lnTo>
                    <a:lnTo>
                      <a:pt x="2053" y="1877"/>
                    </a:lnTo>
                    <a:lnTo>
                      <a:pt x="2120" y="1822"/>
                    </a:lnTo>
                    <a:lnTo>
                      <a:pt x="2179" y="1741"/>
                    </a:lnTo>
                    <a:lnTo>
                      <a:pt x="2232" y="1655"/>
                    </a:lnTo>
                    <a:lnTo>
                      <a:pt x="2278" y="1565"/>
                    </a:lnTo>
                    <a:lnTo>
                      <a:pt x="2317" y="1474"/>
                    </a:lnTo>
                    <a:lnTo>
                      <a:pt x="2346" y="1378"/>
                    </a:lnTo>
                    <a:lnTo>
                      <a:pt x="2369" y="1282"/>
                    </a:lnTo>
                    <a:lnTo>
                      <a:pt x="2387" y="1184"/>
                    </a:lnTo>
                    <a:lnTo>
                      <a:pt x="2397" y="1085"/>
                    </a:lnTo>
                    <a:lnTo>
                      <a:pt x="2398" y="985"/>
                    </a:lnTo>
                    <a:lnTo>
                      <a:pt x="2395" y="885"/>
                    </a:lnTo>
                    <a:lnTo>
                      <a:pt x="2385" y="785"/>
                    </a:lnTo>
                    <a:lnTo>
                      <a:pt x="2369" y="686"/>
                    </a:lnTo>
                    <a:lnTo>
                      <a:pt x="2348" y="589"/>
                    </a:lnTo>
                    <a:lnTo>
                      <a:pt x="2319" y="496"/>
                    </a:lnTo>
                    <a:lnTo>
                      <a:pt x="2284" y="405"/>
                    </a:lnTo>
                    <a:lnTo>
                      <a:pt x="2246" y="316"/>
                    </a:lnTo>
                    <a:lnTo>
                      <a:pt x="2234" y="296"/>
                    </a:lnTo>
                    <a:lnTo>
                      <a:pt x="2224" y="277"/>
                    </a:lnTo>
                    <a:lnTo>
                      <a:pt x="2210" y="258"/>
                    </a:lnTo>
                    <a:lnTo>
                      <a:pt x="2198" y="241"/>
                    </a:lnTo>
                    <a:lnTo>
                      <a:pt x="2184" y="222"/>
                    </a:lnTo>
                    <a:lnTo>
                      <a:pt x="2169" y="206"/>
                    </a:lnTo>
                    <a:lnTo>
                      <a:pt x="2155" y="189"/>
                    </a:lnTo>
                    <a:lnTo>
                      <a:pt x="2140" y="173"/>
                    </a:lnTo>
                    <a:lnTo>
                      <a:pt x="2124" y="154"/>
                    </a:lnTo>
                    <a:lnTo>
                      <a:pt x="2110" y="138"/>
                    </a:lnTo>
                    <a:lnTo>
                      <a:pt x="2094" y="122"/>
                    </a:lnTo>
                    <a:lnTo>
                      <a:pt x="2079" y="104"/>
                    </a:lnTo>
                    <a:lnTo>
                      <a:pt x="2065" y="87"/>
                    </a:lnTo>
                    <a:lnTo>
                      <a:pt x="2053" y="70"/>
                    </a:lnTo>
                    <a:lnTo>
                      <a:pt x="2040" y="52"/>
                    </a:lnTo>
                    <a:lnTo>
                      <a:pt x="2030" y="36"/>
                    </a:lnTo>
                    <a:lnTo>
                      <a:pt x="2081" y="0"/>
                    </a:lnTo>
                    <a:lnTo>
                      <a:pt x="208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991440" y="2046960"/>
                <a:ext cx="1043640" cy="838080"/>
              </a:xfrm>
              <a:custGeom>
                <a:avLst/>
                <a:gdLst/>
                <a:ahLst/>
                <a:rect l="l" t="t" r="r" b="b"/>
                <a:pathLst>
                  <a:path w="2216" h="1925">
                    <a:moveTo>
                      <a:pt x="1427" y="0"/>
                    </a:moveTo>
                    <a:lnTo>
                      <a:pt x="1485" y="13"/>
                    </a:lnTo>
                    <a:lnTo>
                      <a:pt x="1544" y="33"/>
                    </a:lnTo>
                    <a:lnTo>
                      <a:pt x="1601" y="60"/>
                    </a:lnTo>
                    <a:lnTo>
                      <a:pt x="1656" y="93"/>
                    </a:lnTo>
                    <a:lnTo>
                      <a:pt x="1708" y="129"/>
                    </a:lnTo>
                    <a:lnTo>
                      <a:pt x="1760" y="170"/>
                    </a:lnTo>
                    <a:lnTo>
                      <a:pt x="1808" y="215"/>
                    </a:lnTo>
                    <a:lnTo>
                      <a:pt x="1853" y="264"/>
                    </a:lnTo>
                    <a:lnTo>
                      <a:pt x="1894" y="313"/>
                    </a:lnTo>
                    <a:lnTo>
                      <a:pt x="1932" y="369"/>
                    </a:lnTo>
                    <a:lnTo>
                      <a:pt x="1965" y="424"/>
                    </a:lnTo>
                    <a:lnTo>
                      <a:pt x="1995" y="483"/>
                    </a:lnTo>
                    <a:lnTo>
                      <a:pt x="2017" y="541"/>
                    </a:lnTo>
                    <a:lnTo>
                      <a:pt x="2036" y="601"/>
                    </a:lnTo>
                    <a:lnTo>
                      <a:pt x="2049" y="660"/>
                    </a:lnTo>
                    <a:lnTo>
                      <a:pt x="2056" y="720"/>
                    </a:lnTo>
                    <a:lnTo>
                      <a:pt x="2069" y="746"/>
                    </a:lnTo>
                    <a:lnTo>
                      <a:pt x="2085" y="770"/>
                    </a:lnTo>
                    <a:lnTo>
                      <a:pt x="2100" y="797"/>
                    </a:lnTo>
                    <a:lnTo>
                      <a:pt x="2116" y="823"/>
                    </a:lnTo>
                    <a:lnTo>
                      <a:pt x="2129" y="847"/>
                    </a:lnTo>
                    <a:lnTo>
                      <a:pt x="2143" y="873"/>
                    </a:lnTo>
                    <a:lnTo>
                      <a:pt x="2155" y="898"/>
                    </a:lnTo>
                    <a:lnTo>
                      <a:pt x="2169" y="926"/>
                    </a:lnTo>
                    <a:lnTo>
                      <a:pt x="2180" y="952"/>
                    </a:lnTo>
                    <a:lnTo>
                      <a:pt x="2190" y="978"/>
                    </a:lnTo>
                    <a:lnTo>
                      <a:pt x="2197" y="1005"/>
                    </a:lnTo>
                    <a:lnTo>
                      <a:pt x="2204" y="1034"/>
                    </a:lnTo>
                    <a:lnTo>
                      <a:pt x="2209" y="1064"/>
                    </a:lnTo>
                    <a:lnTo>
                      <a:pt x="2213" y="1094"/>
                    </a:lnTo>
                    <a:lnTo>
                      <a:pt x="2214" y="1124"/>
                    </a:lnTo>
                    <a:lnTo>
                      <a:pt x="2214" y="1158"/>
                    </a:lnTo>
                    <a:lnTo>
                      <a:pt x="2212" y="1172"/>
                    </a:lnTo>
                    <a:lnTo>
                      <a:pt x="2212" y="1188"/>
                    </a:lnTo>
                    <a:lnTo>
                      <a:pt x="2212" y="1206"/>
                    </a:lnTo>
                    <a:lnTo>
                      <a:pt x="2212" y="1223"/>
                    </a:lnTo>
                    <a:lnTo>
                      <a:pt x="2212" y="1240"/>
                    </a:lnTo>
                    <a:lnTo>
                      <a:pt x="2213" y="1258"/>
                    </a:lnTo>
                    <a:lnTo>
                      <a:pt x="2214" y="1277"/>
                    </a:lnTo>
                    <a:lnTo>
                      <a:pt x="2216" y="1294"/>
                    </a:lnTo>
                    <a:lnTo>
                      <a:pt x="2214" y="1312"/>
                    </a:lnTo>
                    <a:lnTo>
                      <a:pt x="2213" y="1329"/>
                    </a:lnTo>
                    <a:lnTo>
                      <a:pt x="2210" y="1346"/>
                    </a:lnTo>
                    <a:lnTo>
                      <a:pt x="2209" y="1364"/>
                    </a:lnTo>
                    <a:lnTo>
                      <a:pt x="2203" y="1380"/>
                    </a:lnTo>
                    <a:lnTo>
                      <a:pt x="2197" y="1396"/>
                    </a:lnTo>
                    <a:lnTo>
                      <a:pt x="2190" y="1410"/>
                    </a:lnTo>
                    <a:lnTo>
                      <a:pt x="2180" y="1426"/>
                    </a:lnTo>
                    <a:lnTo>
                      <a:pt x="2133" y="1406"/>
                    </a:lnTo>
                    <a:lnTo>
                      <a:pt x="2130" y="1373"/>
                    </a:lnTo>
                    <a:lnTo>
                      <a:pt x="2129" y="1341"/>
                    </a:lnTo>
                    <a:lnTo>
                      <a:pt x="2129" y="1307"/>
                    </a:lnTo>
                    <a:lnTo>
                      <a:pt x="2129" y="1274"/>
                    </a:lnTo>
                    <a:lnTo>
                      <a:pt x="2129" y="1240"/>
                    </a:lnTo>
                    <a:lnTo>
                      <a:pt x="2130" y="1206"/>
                    </a:lnTo>
                    <a:lnTo>
                      <a:pt x="2129" y="1172"/>
                    </a:lnTo>
                    <a:lnTo>
                      <a:pt x="2129" y="1139"/>
                    </a:lnTo>
                    <a:lnTo>
                      <a:pt x="2126" y="1106"/>
                    </a:lnTo>
                    <a:lnTo>
                      <a:pt x="2123" y="1074"/>
                    </a:lnTo>
                    <a:lnTo>
                      <a:pt x="2116" y="1040"/>
                    </a:lnTo>
                    <a:lnTo>
                      <a:pt x="2109" y="1010"/>
                    </a:lnTo>
                    <a:lnTo>
                      <a:pt x="2098" y="979"/>
                    </a:lnTo>
                    <a:lnTo>
                      <a:pt x="2085" y="952"/>
                    </a:lnTo>
                    <a:lnTo>
                      <a:pt x="2069" y="924"/>
                    </a:lnTo>
                    <a:lnTo>
                      <a:pt x="2050" y="898"/>
                    </a:lnTo>
                    <a:lnTo>
                      <a:pt x="2048" y="956"/>
                    </a:lnTo>
                    <a:lnTo>
                      <a:pt x="2042" y="1013"/>
                    </a:lnTo>
                    <a:lnTo>
                      <a:pt x="2035" y="1068"/>
                    </a:lnTo>
                    <a:lnTo>
                      <a:pt x="2023" y="1124"/>
                    </a:lnTo>
                    <a:lnTo>
                      <a:pt x="2010" y="1180"/>
                    </a:lnTo>
                    <a:lnTo>
                      <a:pt x="1992" y="1233"/>
                    </a:lnTo>
                    <a:lnTo>
                      <a:pt x="1974" y="1287"/>
                    </a:lnTo>
                    <a:lnTo>
                      <a:pt x="1952" y="1341"/>
                    </a:lnTo>
                    <a:lnTo>
                      <a:pt x="1924" y="1390"/>
                    </a:lnTo>
                    <a:lnTo>
                      <a:pt x="1895" y="1439"/>
                    </a:lnTo>
                    <a:lnTo>
                      <a:pt x="1863" y="1487"/>
                    </a:lnTo>
                    <a:lnTo>
                      <a:pt x="1829" y="1534"/>
                    </a:lnTo>
                    <a:lnTo>
                      <a:pt x="1788" y="1577"/>
                    </a:lnTo>
                    <a:lnTo>
                      <a:pt x="1746" y="1619"/>
                    </a:lnTo>
                    <a:lnTo>
                      <a:pt x="1699" y="1660"/>
                    </a:lnTo>
                    <a:lnTo>
                      <a:pt x="1650" y="1699"/>
                    </a:lnTo>
                    <a:lnTo>
                      <a:pt x="1611" y="1726"/>
                    </a:lnTo>
                    <a:lnTo>
                      <a:pt x="1573" y="1754"/>
                    </a:lnTo>
                    <a:lnTo>
                      <a:pt x="1534" y="1779"/>
                    </a:lnTo>
                    <a:lnTo>
                      <a:pt x="1495" y="1802"/>
                    </a:lnTo>
                    <a:lnTo>
                      <a:pt x="1456" y="1822"/>
                    </a:lnTo>
                    <a:lnTo>
                      <a:pt x="1415" y="1843"/>
                    </a:lnTo>
                    <a:lnTo>
                      <a:pt x="1373" y="1859"/>
                    </a:lnTo>
                    <a:lnTo>
                      <a:pt x="1331" y="1876"/>
                    </a:lnTo>
                    <a:lnTo>
                      <a:pt x="1289" y="1888"/>
                    </a:lnTo>
                    <a:lnTo>
                      <a:pt x="1245" y="1899"/>
                    </a:lnTo>
                    <a:lnTo>
                      <a:pt x="1200" y="1908"/>
                    </a:lnTo>
                    <a:lnTo>
                      <a:pt x="1155" y="1915"/>
                    </a:lnTo>
                    <a:lnTo>
                      <a:pt x="1109" y="1921"/>
                    </a:lnTo>
                    <a:lnTo>
                      <a:pt x="1064" y="1925"/>
                    </a:lnTo>
                    <a:lnTo>
                      <a:pt x="1016" y="1925"/>
                    </a:lnTo>
                    <a:lnTo>
                      <a:pt x="970" y="1925"/>
                    </a:lnTo>
                    <a:lnTo>
                      <a:pt x="929" y="1919"/>
                    </a:lnTo>
                    <a:lnTo>
                      <a:pt x="888" y="1914"/>
                    </a:lnTo>
                    <a:lnTo>
                      <a:pt x="849" y="1905"/>
                    </a:lnTo>
                    <a:lnTo>
                      <a:pt x="811" y="1898"/>
                    </a:lnTo>
                    <a:lnTo>
                      <a:pt x="772" y="1888"/>
                    </a:lnTo>
                    <a:lnTo>
                      <a:pt x="735" y="1877"/>
                    </a:lnTo>
                    <a:lnTo>
                      <a:pt x="697" y="1864"/>
                    </a:lnTo>
                    <a:lnTo>
                      <a:pt x="661" y="1853"/>
                    </a:lnTo>
                    <a:lnTo>
                      <a:pt x="624" y="1837"/>
                    </a:lnTo>
                    <a:lnTo>
                      <a:pt x="588" y="1821"/>
                    </a:lnTo>
                    <a:lnTo>
                      <a:pt x="552" y="1802"/>
                    </a:lnTo>
                    <a:lnTo>
                      <a:pt x="518" y="1783"/>
                    </a:lnTo>
                    <a:lnTo>
                      <a:pt x="484" y="1758"/>
                    </a:lnTo>
                    <a:lnTo>
                      <a:pt x="450" y="1735"/>
                    </a:lnTo>
                    <a:lnTo>
                      <a:pt x="415" y="1708"/>
                    </a:lnTo>
                    <a:lnTo>
                      <a:pt x="385" y="1680"/>
                    </a:lnTo>
                    <a:lnTo>
                      <a:pt x="352" y="1651"/>
                    </a:lnTo>
                    <a:lnTo>
                      <a:pt x="321" y="1621"/>
                    </a:lnTo>
                    <a:lnTo>
                      <a:pt x="292" y="1590"/>
                    </a:lnTo>
                    <a:lnTo>
                      <a:pt x="266" y="1558"/>
                    </a:lnTo>
                    <a:lnTo>
                      <a:pt x="240" y="1526"/>
                    </a:lnTo>
                    <a:lnTo>
                      <a:pt x="215" y="1494"/>
                    </a:lnTo>
                    <a:lnTo>
                      <a:pt x="192" y="1460"/>
                    </a:lnTo>
                    <a:lnTo>
                      <a:pt x="170" y="1426"/>
                    </a:lnTo>
                    <a:lnTo>
                      <a:pt x="150" y="1391"/>
                    </a:lnTo>
                    <a:lnTo>
                      <a:pt x="128" y="1358"/>
                    </a:lnTo>
                    <a:lnTo>
                      <a:pt x="108" y="1323"/>
                    </a:lnTo>
                    <a:lnTo>
                      <a:pt x="89" y="1288"/>
                    </a:lnTo>
                    <a:lnTo>
                      <a:pt x="67" y="1254"/>
                    </a:lnTo>
                    <a:lnTo>
                      <a:pt x="48" y="1219"/>
                    </a:lnTo>
                    <a:lnTo>
                      <a:pt x="28" y="1185"/>
                    </a:lnTo>
                    <a:lnTo>
                      <a:pt x="8" y="1152"/>
                    </a:lnTo>
                    <a:lnTo>
                      <a:pt x="6" y="1146"/>
                    </a:lnTo>
                    <a:lnTo>
                      <a:pt x="5" y="1140"/>
                    </a:lnTo>
                    <a:lnTo>
                      <a:pt x="3" y="1132"/>
                    </a:lnTo>
                    <a:lnTo>
                      <a:pt x="3" y="1124"/>
                    </a:lnTo>
                    <a:lnTo>
                      <a:pt x="3" y="1116"/>
                    </a:lnTo>
                    <a:lnTo>
                      <a:pt x="2" y="1106"/>
                    </a:lnTo>
                    <a:lnTo>
                      <a:pt x="2" y="1095"/>
                    </a:lnTo>
                    <a:lnTo>
                      <a:pt x="2" y="1087"/>
                    </a:lnTo>
                    <a:lnTo>
                      <a:pt x="0" y="1077"/>
                    </a:lnTo>
                    <a:lnTo>
                      <a:pt x="0" y="1066"/>
                    </a:lnTo>
                    <a:lnTo>
                      <a:pt x="0" y="1056"/>
                    </a:lnTo>
                    <a:lnTo>
                      <a:pt x="0" y="1048"/>
                    </a:lnTo>
                    <a:lnTo>
                      <a:pt x="0" y="1037"/>
                    </a:lnTo>
                    <a:lnTo>
                      <a:pt x="0" y="1030"/>
                    </a:lnTo>
                    <a:lnTo>
                      <a:pt x="2" y="1024"/>
                    </a:lnTo>
                    <a:lnTo>
                      <a:pt x="3" y="1020"/>
                    </a:lnTo>
                    <a:lnTo>
                      <a:pt x="13" y="1013"/>
                    </a:lnTo>
                    <a:lnTo>
                      <a:pt x="25" y="1007"/>
                    </a:lnTo>
                    <a:lnTo>
                      <a:pt x="29" y="1004"/>
                    </a:lnTo>
                    <a:lnTo>
                      <a:pt x="35" y="1001"/>
                    </a:lnTo>
                    <a:lnTo>
                      <a:pt x="41" y="998"/>
                    </a:lnTo>
                    <a:lnTo>
                      <a:pt x="47" y="995"/>
                    </a:lnTo>
                    <a:lnTo>
                      <a:pt x="57" y="1010"/>
                    </a:lnTo>
                    <a:lnTo>
                      <a:pt x="67" y="1026"/>
                    </a:lnTo>
                    <a:lnTo>
                      <a:pt x="74" y="1040"/>
                    </a:lnTo>
                    <a:lnTo>
                      <a:pt x="82" y="1059"/>
                    </a:lnTo>
                    <a:lnTo>
                      <a:pt x="86" y="1075"/>
                    </a:lnTo>
                    <a:lnTo>
                      <a:pt x="92" y="1093"/>
                    </a:lnTo>
                    <a:lnTo>
                      <a:pt x="98" y="1108"/>
                    </a:lnTo>
                    <a:lnTo>
                      <a:pt x="103" y="1127"/>
                    </a:lnTo>
                    <a:lnTo>
                      <a:pt x="109" y="1145"/>
                    </a:lnTo>
                    <a:lnTo>
                      <a:pt x="115" y="1162"/>
                    </a:lnTo>
                    <a:lnTo>
                      <a:pt x="121" y="1178"/>
                    </a:lnTo>
                    <a:lnTo>
                      <a:pt x="130" y="1196"/>
                    </a:lnTo>
                    <a:lnTo>
                      <a:pt x="138" y="1211"/>
                    </a:lnTo>
                    <a:lnTo>
                      <a:pt x="150" y="1227"/>
                    </a:lnTo>
                    <a:lnTo>
                      <a:pt x="161" y="1243"/>
                    </a:lnTo>
                    <a:lnTo>
                      <a:pt x="177" y="1259"/>
                    </a:lnTo>
                    <a:lnTo>
                      <a:pt x="199" y="1303"/>
                    </a:lnTo>
                    <a:lnTo>
                      <a:pt x="227" y="1348"/>
                    </a:lnTo>
                    <a:lnTo>
                      <a:pt x="254" y="1391"/>
                    </a:lnTo>
                    <a:lnTo>
                      <a:pt x="286" y="1435"/>
                    </a:lnTo>
                    <a:lnTo>
                      <a:pt x="318" y="1477"/>
                    </a:lnTo>
                    <a:lnTo>
                      <a:pt x="353" y="1519"/>
                    </a:lnTo>
                    <a:lnTo>
                      <a:pt x="391" y="1558"/>
                    </a:lnTo>
                    <a:lnTo>
                      <a:pt x="430" y="1597"/>
                    </a:lnTo>
                    <a:lnTo>
                      <a:pt x="469" y="1631"/>
                    </a:lnTo>
                    <a:lnTo>
                      <a:pt x="511" y="1666"/>
                    </a:lnTo>
                    <a:lnTo>
                      <a:pt x="553" y="1696"/>
                    </a:lnTo>
                    <a:lnTo>
                      <a:pt x="600" y="1724"/>
                    </a:lnTo>
                    <a:lnTo>
                      <a:pt x="645" y="1747"/>
                    </a:lnTo>
                    <a:lnTo>
                      <a:pt x="692" y="1769"/>
                    </a:lnTo>
                    <a:lnTo>
                      <a:pt x="740" y="1786"/>
                    </a:lnTo>
                    <a:lnTo>
                      <a:pt x="790" y="1800"/>
                    </a:lnTo>
                    <a:lnTo>
                      <a:pt x="867" y="1818"/>
                    </a:lnTo>
                    <a:lnTo>
                      <a:pt x="943" y="1832"/>
                    </a:lnTo>
                    <a:lnTo>
                      <a:pt x="1019" y="1835"/>
                    </a:lnTo>
                    <a:lnTo>
                      <a:pt x="1097" y="1832"/>
                    </a:lnTo>
                    <a:lnTo>
                      <a:pt x="1171" y="1822"/>
                    </a:lnTo>
                    <a:lnTo>
                      <a:pt x="1248" y="1805"/>
                    </a:lnTo>
                    <a:lnTo>
                      <a:pt x="1321" y="1782"/>
                    </a:lnTo>
                    <a:lnTo>
                      <a:pt x="1395" y="1751"/>
                    </a:lnTo>
                    <a:lnTo>
                      <a:pt x="1463" y="1715"/>
                    </a:lnTo>
                    <a:lnTo>
                      <a:pt x="1531" y="1673"/>
                    </a:lnTo>
                    <a:lnTo>
                      <a:pt x="1596" y="1626"/>
                    </a:lnTo>
                    <a:lnTo>
                      <a:pt x="1657" y="1576"/>
                    </a:lnTo>
                    <a:lnTo>
                      <a:pt x="1715" y="1519"/>
                    </a:lnTo>
                    <a:lnTo>
                      <a:pt x="1772" y="1458"/>
                    </a:lnTo>
                    <a:lnTo>
                      <a:pt x="1821" y="1394"/>
                    </a:lnTo>
                    <a:lnTo>
                      <a:pt x="1869" y="1326"/>
                    </a:lnTo>
                    <a:lnTo>
                      <a:pt x="1891" y="1258"/>
                    </a:lnTo>
                    <a:lnTo>
                      <a:pt x="1911" y="1188"/>
                    </a:lnTo>
                    <a:lnTo>
                      <a:pt x="1929" y="1116"/>
                    </a:lnTo>
                    <a:lnTo>
                      <a:pt x="1945" y="1045"/>
                    </a:lnTo>
                    <a:lnTo>
                      <a:pt x="1955" y="971"/>
                    </a:lnTo>
                    <a:lnTo>
                      <a:pt x="1962" y="898"/>
                    </a:lnTo>
                    <a:lnTo>
                      <a:pt x="1963" y="824"/>
                    </a:lnTo>
                    <a:lnTo>
                      <a:pt x="1962" y="752"/>
                    </a:lnTo>
                    <a:lnTo>
                      <a:pt x="1952" y="678"/>
                    </a:lnTo>
                    <a:lnTo>
                      <a:pt x="1939" y="608"/>
                    </a:lnTo>
                    <a:lnTo>
                      <a:pt x="1917" y="538"/>
                    </a:lnTo>
                    <a:lnTo>
                      <a:pt x="1888" y="470"/>
                    </a:lnTo>
                    <a:lnTo>
                      <a:pt x="1853" y="406"/>
                    </a:lnTo>
                    <a:lnTo>
                      <a:pt x="1808" y="344"/>
                    </a:lnTo>
                    <a:lnTo>
                      <a:pt x="1756" y="286"/>
                    </a:lnTo>
                    <a:lnTo>
                      <a:pt x="1695" y="232"/>
                    </a:lnTo>
                    <a:lnTo>
                      <a:pt x="1676" y="213"/>
                    </a:lnTo>
                    <a:lnTo>
                      <a:pt x="1659" y="197"/>
                    </a:lnTo>
                    <a:lnTo>
                      <a:pt x="1640" y="183"/>
                    </a:lnTo>
                    <a:lnTo>
                      <a:pt x="1621" y="171"/>
                    </a:lnTo>
                    <a:lnTo>
                      <a:pt x="1601" y="158"/>
                    </a:lnTo>
                    <a:lnTo>
                      <a:pt x="1580" y="148"/>
                    </a:lnTo>
                    <a:lnTo>
                      <a:pt x="1559" y="138"/>
                    </a:lnTo>
                    <a:lnTo>
                      <a:pt x="1538" y="129"/>
                    </a:lnTo>
                    <a:lnTo>
                      <a:pt x="1517" y="121"/>
                    </a:lnTo>
                    <a:lnTo>
                      <a:pt x="1495" y="113"/>
                    </a:lnTo>
                    <a:lnTo>
                      <a:pt x="1474" y="103"/>
                    </a:lnTo>
                    <a:lnTo>
                      <a:pt x="1454" y="96"/>
                    </a:lnTo>
                    <a:lnTo>
                      <a:pt x="1434" y="89"/>
                    </a:lnTo>
                    <a:lnTo>
                      <a:pt x="1414" y="80"/>
                    </a:lnTo>
                    <a:lnTo>
                      <a:pt x="1395" y="71"/>
                    </a:lnTo>
                    <a:lnTo>
                      <a:pt x="1377" y="63"/>
                    </a:lnTo>
                    <a:lnTo>
                      <a:pt x="1379" y="54"/>
                    </a:lnTo>
                    <a:lnTo>
                      <a:pt x="1385" y="44"/>
                    </a:lnTo>
                    <a:lnTo>
                      <a:pt x="1392" y="35"/>
                    </a:lnTo>
                    <a:lnTo>
                      <a:pt x="1402" y="25"/>
                    </a:lnTo>
                    <a:lnTo>
                      <a:pt x="1409" y="16"/>
                    </a:lnTo>
                    <a:lnTo>
                      <a:pt x="1416" y="7"/>
                    </a:lnTo>
                    <a:lnTo>
                      <a:pt x="1424" y="2"/>
                    </a:lnTo>
                    <a:lnTo>
                      <a:pt x="1427" y="0"/>
                    </a:lnTo>
                    <a:lnTo>
                      <a:pt x="14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44560" y="2476440"/>
                <a:ext cx="84600" cy="161640"/>
              </a:xfrm>
              <a:custGeom>
                <a:avLst/>
                <a:gdLst/>
                <a:ahLst/>
                <a:rect l="l" t="t" r="r" b="b"/>
                <a:pathLst>
                  <a:path w="182" h="371">
                    <a:moveTo>
                      <a:pt x="35" y="0"/>
                    </a:moveTo>
                    <a:lnTo>
                      <a:pt x="54" y="10"/>
                    </a:lnTo>
                    <a:lnTo>
                      <a:pt x="70" y="23"/>
                    </a:lnTo>
                    <a:lnTo>
                      <a:pt x="82" y="39"/>
                    </a:lnTo>
                    <a:lnTo>
                      <a:pt x="90" y="58"/>
                    </a:lnTo>
                    <a:lnTo>
                      <a:pt x="95" y="78"/>
                    </a:lnTo>
                    <a:lnTo>
                      <a:pt x="98" y="99"/>
                    </a:lnTo>
                    <a:lnTo>
                      <a:pt x="99" y="120"/>
                    </a:lnTo>
                    <a:lnTo>
                      <a:pt x="102" y="145"/>
                    </a:lnTo>
                    <a:lnTo>
                      <a:pt x="102" y="167"/>
                    </a:lnTo>
                    <a:lnTo>
                      <a:pt x="105" y="189"/>
                    </a:lnTo>
                    <a:lnTo>
                      <a:pt x="109" y="210"/>
                    </a:lnTo>
                    <a:lnTo>
                      <a:pt x="117" y="231"/>
                    </a:lnTo>
                    <a:lnTo>
                      <a:pt x="125" y="250"/>
                    </a:lnTo>
                    <a:lnTo>
                      <a:pt x="138" y="267"/>
                    </a:lnTo>
                    <a:lnTo>
                      <a:pt x="157" y="282"/>
                    </a:lnTo>
                    <a:lnTo>
                      <a:pt x="182" y="292"/>
                    </a:lnTo>
                    <a:lnTo>
                      <a:pt x="156" y="371"/>
                    </a:lnTo>
                    <a:lnTo>
                      <a:pt x="138" y="366"/>
                    </a:lnTo>
                    <a:lnTo>
                      <a:pt x="121" y="360"/>
                    </a:lnTo>
                    <a:lnTo>
                      <a:pt x="103" y="350"/>
                    </a:lnTo>
                    <a:lnTo>
                      <a:pt x="89" y="341"/>
                    </a:lnTo>
                    <a:lnTo>
                      <a:pt x="73" y="329"/>
                    </a:lnTo>
                    <a:lnTo>
                      <a:pt x="58" y="316"/>
                    </a:lnTo>
                    <a:lnTo>
                      <a:pt x="45" y="303"/>
                    </a:lnTo>
                    <a:lnTo>
                      <a:pt x="35" y="290"/>
                    </a:lnTo>
                    <a:lnTo>
                      <a:pt x="25" y="274"/>
                    </a:lnTo>
                    <a:lnTo>
                      <a:pt x="16" y="258"/>
                    </a:lnTo>
                    <a:lnTo>
                      <a:pt x="9" y="241"/>
                    </a:lnTo>
                    <a:lnTo>
                      <a:pt x="5" y="223"/>
                    </a:lnTo>
                    <a:lnTo>
                      <a:pt x="0" y="205"/>
                    </a:lnTo>
                    <a:lnTo>
                      <a:pt x="0" y="186"/>
                    </a:lnTo>
                    <a:lnTo>
                      <a:pt x="2" y="167"/>
                    </a:lnTo>
                    <a:lnTo>
                      <a:pt x="6" y="148"/>
                    </a:lnTo>
                    <a:lnTo>
                      <a:pt x="6" y="138"/>
                    </a:lnTo>
                    <a:lnTo>
                      <a:pt x="6" y="128"/>
                    </a:lnTo>
                    <a:lnTo>
                      <a:pt x="6" y="118"/>
                    </a:lnTo>
                    <a:lnTo>
                      <a:pt x="8" y="109"/>
                    </a:lnTo>
                    <a:lnTo>
                      <a:pt x="6" y="99"/>
                    </a:lnTo>
                    <a:lnTo>
                      <a:pt x="6" y="89"/>
                    </a:lnTo>
                    <a:lnTo>
                      <a:pt x="6" y="78"/>
                    </a:lnTo>
                    <a:lnTo>
                      <a:pt x="8" y="70"/>
                    </a:lnTo>
                    <a:lnTo>
                      <a:pt x="8" y="60"/>
                    </a:lnTo>
                    <a:lnTo>
                      <a:pt x="9" y="49"/>
                    </a:lnTo>
                    <a:lnTo>
                      <a:pt x="11" y="39"/>
                    </a:lnTo>
                    <a:lnTo>
                      <a:pt x="14" y="32"/>
                    </a:lnTo>
                    <a:lnTo>
                      <a:pt x="16" y="22"/>
                    </a:lnTo>
                    <a:lnTo>
                      <a:pt x="21" y="15"/>
                    </a:lnTo>
                    <a:lnTo>
                      <a:pt x="27" y="7"/>
                    </a:lnTo>
                    <a:lnTo>
                      <a:pt x="35" y="0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197720" y="2771640"/>
                <a:ext cx="343440" cy="185040"/>
              </a:xfrm>
              <a:custGeom>
                <a:avLst/>
                <a:gdLst/>
                <a:ahLst/>
                <a:rect l="l" t="t" r="r" b="b"/>
                <a:pathLst>
                  <a:path w="727" h="425">
                    <a:moveTo>
                      <a:pt x="25" y="0"/>
                    </a:moveTo>
                    <a:lnTo>
                      <a:pt x="44" y="5"/>
                    </a:lnTo>
                    <a:lnTo>
                      <a:pt x="61" y="14"/>
                    </a:lnTo>
                    <a:lnTo>
                      <a:pt x="78" y="24"/>
                    </a:lnTo>
                    <a:lnTo>
                      <a:pt x="96" y="36"/>
                    </a:lnTo>
                    <a:lnTo>
                      <a:pt x="113" y="49"/>
                    </a:lnTo>
                    <a:lnTo>
                      <a:pt x="131" y="63"/>
                    </a:lnTo>
                    <a:lnTo>
                      <a:pt x="147" y="78"/>
                    </a:lnTo>
                    <a:lnTo>
                      <a:pt x="164" y="92"/>
                    </a:lnTo>
                    <a:lnTo>
                      <a:pt x="178" y="108"/>
                    </a:lnTo>
                    <a:lnTo>
                      <a:pt x="194" y="124"/>
                    </a:lnTo>
                    <a:lnTo>
                      <a:pt x="210" y="139"/>
                    </a:lnTo>
                    <a:lnTo>
                      <a:pt x="228" y="156"/>
                    </a:lnTo>
                    <a:lnTo>
                      <a:pt x="242" y="171"/>
                    </a:lnTo>
                    <a:lnTo>
                      <a:pt x="260" y="187"/>
                    </a:lnTo>
                    <a:lnTo>
                      <a:pt x="279" y="201"/>
                    </a:lnTo>
                    <a:lnTo>
                      <a:pt x="297" y="216"/>
                    </a:lnTo>
                    <a:lnTo>
                      <a:pt x="319" y="232"/>
                    </a:lnTo>
                    <a:lnTo>
                      <a:pt x="344" y="248"/>
                    </a:lnTo>
                    <a:lnTo>
                      <a:pt x="370" y="262"/>
                    </a:lnTo>
                    <a:lnTo>
                      <a:pt x="395" y="277"/>
                    </a:lnTo>
                    <a:lnTo>
                      <a:pt x="419" y="288"/>
                    </a:lnTo>
                    <a:lnTo>
                      <a:pt x="445" y="298"/>
                    </a:lnTo>
                    <a:lnTo>
                      <a:pt x="472" y="309"/>
                    </a:lnTo>
                    <a:lnTo>
                      <a:pt x="498" y="320"/>
                    </a:lnTo>
                    <a:lnTo>
                      <a:pt x="524" y="327"/>
                    </a:lnTo>
                    <a:lnTo>
                      <a:pt x="550" y="336"/>
                    </a:lnTo>
                    <a:lnTo>
                      <a:pt x="576" y="343"/>
                    </a:lnTo>
                    <a:lnTo>
                      <a:pt x="604" y="351"/>
                    </a:lnTo>
                    <a:lnTo>
                      <a:pt x="631" y="356"/>
                    </a:lnTo>
                    <a:lnTo>
                      <a:pt x="657" y="362"/>
                    </a:lnTo>
                    <a:lnTo>
                      <a:pt x="685" y="369"/>
                    </a:lnTo>
                    <a:lnTo>
                      <a:pt x="712" y="375"/>
                    </a:lnTo>
                    <a:lnTo>
                      <a:pt x="727" y="423"/>
                    </a:lnTo>
                    <a:lnTo>
                      <a:pt x="721" y="423"/>
                    </a:lnTo>
                    <a:lnTo>
                      <a:pt x="715" y="423"/>
                    </a:lnTo>
                    <a:lnTo>
                      <a:pt x="708" y="423"/>
                    </a:lnTo>
                    <a:lnTo>
                      <a:pt x="701" y="425"/>
                    </a:lnTo>
                    <a:lnTo>
                      <a:pt x="692" y="423"/>
                    </a:lnTo>
                    <a:lnTo>
                      <a:pt x="683" y="423"/>
                    </a:lnTo>
                    <a:lnTo>
                      <a:pt x="675" y="423"/>
                    </a:lnTo>
                    <a:lnTo>
                      <a:pt x="665" y="423"/>
                    </a:lnTo>
                    <a:lnTo>
                      <a:pt x="654" y="423"/>
                    </a:lnTo>
                    <a:lnTo>
                      <a:pt x="646" y="423"/>
                    </a:lnTo>
                    <a:lnTo>
                      <a:pt x="635" y="422"/>
                    </a:lnTo>
                    <a:lnTo>
                      <a:pt x="628" y="422"/>
                    </a:lnTo>
                    <a:lnTo>
                      <a:pt x="620" y="422"/>
                    </a:lnTo>
                    <a:lnTo>
                      <a:pt x="614" y="422"/>
                    </a:lnTo>
                    <a:lnTo>
                      <a:pt x="608" y="422"/>
                    </a:lnTo>
                    <a:lnTo>
                      <a:pt x="604" y="422"/>
                    </a:lnTo>
                    <a:lnTo>
                      <a:pt x="572" y="416"/>
                    </a:lnTo>
                    <a:lnTo>
                      <a:pt x="540" y="412"/>
                    </a:lnTo>
                    <a:lnTo>
                      <a:pt x="509" y="404"/>
                    </a:lnTo>
                    <a:lnTo>
                      <a:pt x="480" y="397"/>
                    </a:lnTo>
                    <a:lnTo>
                      <a:pt x="451" y="387"/>
                    </a:lnTo>
                    <a:lnTo>
                      <a:pt x="422" y="377"/>
                    </a:lnTo>
                    <a:lnTo>
                      <a:pt x="395" y="365"/>
                    </a:lnTo>
                    <a:lnTo>
                      <a:pt x="367" y="354"/>
                    </a:lnTo>
                    <a:lnTo>
                      <a:pt x="340" y="338"/>
                    </a:lnTo>
                    <a:lnTo>
                      <a:pt x="312" y="323"/>
                    </a:lnTo>
                    <a:lnTo>
                      <a:pt x="284" y="307"/>
                    </a:lnTo>
                    <a:lnTo>
                      <a:pt x="258" y="291"/>
                    </a:lnTo>
                    <a:lnTo>
                      <a:pt x="231" y="271"/>
                    </a:lnTo>
                    <a:lnTo>
                      <a:pt x="203" y="252"/>
                    </a:lnTo>
                    <a:lnTo>
                      <a:pt x="177" y="232"/>
                    </a:lnTo>
                    <a:lnTo>
                      <a:pt x="149" y="211"/>
                    </a:lnTo>
                    <a:lnTo>
                      <a:pt x="138" y="203"/>
                    </a:lnTo>
                    <a:lnTo>
                      <a:pt x="129" y="193"/>
                    </a:lnTo>
                    <a:lnTo>
                      <a:pt x="120" y="182"/>
                    </a:lnTo>
                    <a:lnTo>
                      <a:pt x="110" y="172"/>
                    </a:lnTo>
                    <a:lnTo>
                      <a:pt x="102" y="161"/>
                    </a:lnTo>
                    <a:lnTo>
                      <a:pt x="93" y="150"/>
                    </a:lnTo>
                    <a:lnTo>
                      <a:pt x="84" y="139"/>
                    </a:lnTo>
                    <a:lnTo>
                      <a:pt x="75" y="129"/>
                    </a:lnTo>
                    <a:lnTo>
                      <a:pt x="67" y="117"/>
                    </a:lnTo>
                    <a:lnTo>
                      <a:pt x="57" y="105"/>
                    </a:lnTo>
                    <a:lnTo>
                      <a:pt x="48" y="95"/>
                    </a:lnTo>
                    <a:lnTo>
                      <a:pt x="39" y="85"/>
                    </a:lnTo>
                    <a:lnTo>
                      <a:pt x="29" y="75"/>
                    </a:lnTo>
                    <a:lnTo>
                      <a:pt x="20" y="66"/>
                    </a:lnTo>
                    <a:lnTo>
                      <a:pt x="10" y="56"/>
                    </a:lnTo>
                    <a:lnTo>
                      <a:pt x="0" y="49"/>
                    </a:lnTo>
                    <a:lnTo>
                      <a:pt x="2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625040" y="1789560"/>
                <a:ext cx="289800" cy="246600"/>
              </a:xfrm>
              <a:custGeom>
                <a:avLst/>
                <a:gdLst/>
                <a:ahLst/>
                <a:rect l="l" t="t" r="r" b="b"/>
                <a:pathLst>
                  <a:path w="614" h="567">
                    <a:moveTo>
                      <a:pt x="0" y="5"/>
                    </a:moveTo>
                    <a:lnTo>
                      <a:pt x="25" y="0"/>
                    </a:lnTo>
                    <a:lnTo>
                      <a:pt x="50" y="0"/>
                    </a:lnTo>
                    <a:lnTo>
                      <a:pt x="76" y="0"/>
                    </a:lnTo>
                    <a:lnTo>
                      <a:pt x="103" y="3"/>
                    </a:lnTo>
                    <a:lnTo>
                      <a:pt x="131" y="6"/>
                    </a:lnTo>
                    <a:lnTo>
                      <a:pt x="157" y="12"/>
                    </a:lnTo>
                    <a:lnTo>
                      <a:pt x="183" y="19"/>
                    </a:lnTo>
                    <a:lnTo>
                      <a:pt x="209" y="28"/>
                    </a:lnTo>
                    <a:lnTo>
                      <a:pt x="234" y="36"/>
                    </a:lnTo>
                    <a:lnTo>
                      <a:pt x="257" y="50"/>
                    </a:lnTo>
                    <a:lnTo>
                      <a:pt x="279" y="61"/>
                    </a:lnTo>
                    <a:lnTo>
                      <a:pt x="301" y="79"/>
                    </a:lnTo>
                    <a:lnTo>
                      <a:pt x="320" y="95"/>
                    </a:lnTo>
                    <a:lnTo>
                      <a:pt x="337" y="115"/>
                    </a:lnTo>
                    <a:lnTo>
                      <a:pt x="351" y="135"/>
                    </a:lnTo>
                    <a:lnTo>
                      <a:pt x="365" y="158"/>
                    </a:lnTo>
                    <a:lnTo>
                      <a:pt x="388" y="176"/>
                    </a:lnTo>
                    <a:lnTo>
                      <a:pt x="410" y="196"/>
                    </a:lnTo>
                    <a:lnTo>
                      <a:pt x="431" y="216"/>
                    </a:lnTo>
                    <a:lnTo>
                      <a:pt x="454" y="238"/>
                    </a:lnTo>
                    <a:lnTo>
                      <a:pt x="473" y="260"/>
                    </a:lnTo>
                    <a:lnTo>
                      <a:pt x="494" y="283"/>
                    </a:lnTo>
                    <a:lnTo>
                      <a:pt x="513" y="306"/>
                    </a:lnTo>
                    <a:lnTo>
                      <a:pt x="531" y="332"/>
                    </a:lnTo>
                    <a:lnTo>
                      <a:pt x="547" y="357"/>
                    </a:lnTo>
                    <a:lnTo>
                      <a:pt x="562" y="383"/>
                    </a:lnTo>
                    <a:lnTo>
                      <a:pt x="575" y="411"/>
                    </a:lnTo>
                    <a:lnTo>
                      <a:pt x="587" y="438"/>
                    </a:lnTo>
                    <a:lnTo>
                      <a:pt x="597" y="466"/>
                    </a:lnTo>
                    <a:lnTo>
                      <a:pt x="604" y="493"/>
                    </a:lnTo>
                    <a:lnTo>
                      <a:pt x="610" y="522"/>
                    </a:lnTo>
                    <a:lnTo>
                      <a:pt x="614" y="553"/>
                    </a:lnTo>
                    <a:lnTo>
                      <a:pt x="568" y="567"/>
                    </a:lnTo>
                    <a:lnTo>
                      <a:pt x="550" y="559"/>
                    </a:lnTo>
                    <a:lnTo>
                      <a:pt x="536" y="549"/>
                    </a:lnTo>
                    <a:lnTo>
                      <a:pt x="524" y="536"/>
                    </a:lnTo>
                    <a:lnTo>
                      <a:pt x="515" y="524"/>
                    </a:lnTo>
                    <a:lnTo>
                      <a:pt x="508" y="507"/>
                    </a:lnTo>
                    <a:lnTo>
                      <a:pt x="502" y="492"/>
                    </a:lnTo>
                    <a:lnTo>
                      <a:pt x="498" y="475"/>
                    </a:lnTo>
                    <a:lnTo>
                      <a:pt x="494" y="457"/>
                    </a:lnTo>
                    <a:lnTo>
                      <a:pt x="488" y="438"/>
                    </a:lnTo>
                    <a:lnTo>
                      <a:pt x="484" y="421"/>
                    </a:lnTo>
                    <a:lnTo>
                      <a:pt x="476" y="404"/>
                    </a:lnTo>
                    <a:lnTo>
                      <a:pt x="472" y="389"/>
                    </a:lnTo>
                    <a:lnTo>
                      <a:pt x="463" y="372"/>
                    </a:lnTo>
                    <a:lnTo>
                      <a:pt x="454" y="357"/>
                    </a:lnTo>
                    <a:lnTo>
                      <a:pt x="443" y="344"/>
                    </a:lnTo>
                    <a:lnTo>
                      <a:pt x="430" y="332"/>
                    </a:lnTo>
                    <a:lnTo>
                      <a:pt x="405" y="311"/>
                    </a:lnTo>
                    <a:lnTo>
                      <a:pt x="380" y="290"/>
                    </a:lnTo>
                    <a:lnTo>
                      <a:pt x="356" y="267"/>
                    </a:lnTo>
                    <a:lnTo>
                      <a:pt x="334" y="245"/>
                    </a:lnTo>
                    <a:lnTo>
                      <a:pt x="312" y="221"/>
                    </a:lnTo>
                    <a:lnTo>
                      <a:pt x="291" y="198"/>
                    </a:lnTo>
                    <a:lnTo>
                      <a:pt x="269" y="176"/>
                    </a:lnTo>
                    <a:lnTo>
                      <a:pt x="247" y="154"/>
                    </a:lnTo>
                    <a:lnTo>
                      <a:pt x="222" y="134"/>
                    </a:lnTo>
                    <a:lnTo>
                      <a:pt x="199" y="116"/>
                    </a:lnTo>
                    <a:lnTo>
                      <a:pt x="174" y="100"/>
                    </a:lnTo>
                    <a:lnTo>
                      <a:pt x="148" y="90"/>
                    </a:lnTo>
                    <a:lnTo>
                      <a:pt x="119" y="80"/>
                    </a:lnTo>
                    <a:lnTo>
                      <a:pt x="90" y="76"/>
                    </a:lnTo>
                    <a:lnTo>
                      <a:pt x="58" y="74"/>
                    </a:lnTo>
                    <a:lnTo>
                      <a:pt x="25" y="79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37280" y="2267640"/>
                <a:ext cx="132480" cy="243720"/>
              </a:xfrm>
              <a:custGeom>
                <a:avLst/>
                <a:gdLst/>
                <a:ahLst/>
                <a:rect l="l" t="t" r="r" b="b"/>
                <a:pathLst>
                  <a:path w="280" h="563">
                    <a:moveTo>
                      <a:pt x="112" y="0"/>
                    </a:moveTo>
                    <a:lnTo>
                      <a:pt x="134" y="11"/>
                    </a:lnTo>
                    <a:lnTo>
                      <a:pt x="148" y="24"/>
                    </a:lnTo>
                    <a:lnTo>
                      <a:pt x="158" y="37"/>
                    </a:lnTo>
                    <a:lnTo>
                      <a:pt x="166" y="53"/>
                    </a:lnTo>
                    <a:lnTo>
                      <a:pt x="166" y="69"/>
                    </a:lnTo>
                    <a:lnTo>
                      <a:pt x="166" y="86"/>
                    </a:lnTo>
                    <a:lnTo>
                      <a:pt x="161" y="103"/>
                    </a:lnTo>
                    <a:lnTo>
                      <a:pt x="154" y="122"/>
                    </a:lnTo>
                    <a:lnTo>
                      <a:pt x="145" y="141"/>
                    </a:lnTo>
                    <a:lnTo>
                      <a:pt x="136" y="160"/>
                    </a:lnTo>
                    <a:lnTo>
                      <a:pt x="126" y="180"/>
                    </a:lnTo>
                    <a:lnTo>
                      <a:pt x="116" y="201"/>
                    </a:lnTo>
                    <a:lnTo>
                      <a:pt x="106" y="221"/>
                    </a:lnTo>
                    <a:lnTo>
                      <a:pt x="99" y="240"/>
                    </a:lnTo>
                    <a:lnTo>
                      <a:pt x="94" y="260"/>
                    </a:lnTo>
                    <a:lnTo>
                      <a:pt x="92" y="279"/>
                    </a:lnTo>
                    <a:lnTo>
                      <a:pt x="90" y="298"/>
                    </a:lnTo>
                    <a:lnTo>
                      <a:pt x="93" y="317"/>
                    </a:lnTo>
                    <a:lnTo>
                      <a:pt x="97" y="334"/>
                    </a:lnTo>
                    <a:lnTo>
                      <a:pt x="105" y="350"/>
                    </a:lnTo>
                    <a:lnTo>
                      <a:pt x="112" y="365"/>
                    </a:lnTo>
                    <a:lnTo>
                      <a:pt x="123" y="379"/>
                    </a:lnTo>
                    <a:lnTo>
                      <a:pt x="135" y="392"/>
                    </a:lnTo>
                    <a:lnTo>
                      <a:pt x="150" y="407"/>
                    </a:lnTo>
                    <a:lnTo>
                      <a:pt x="161" y="417"/>
                    </a:lnTo>
                    <a:lnTo>
                      <a:pt x="177" y="428"/>
                    </a:lnTo>
                    <a:lnTo>
                      <a:pt x="193" y="437"/>
                    </a:lnTo>
                    <a:lnTo>
                      <a:pt x="209" y="446"/>
                    </a:lnTo>
                    <a:lnTo>
                      <a:pt x="225" y="453"/>
                    </a:lnTo>
                    <a:lnTo>
                      <a:pt x="240" y="462"/>
                    </a:lnTo>
                    <a:lnTo>
                      <a:pt x="255" y="469"/>
                    </a:lnTo>
                    <a:lnTo>
                      <a:pt x="271" y="478"/>
                    </a:lnTo>
                    <a:lnTo>
                      <a:pt x="280" y="563"/>
                    </a:lnTo>
                    <a:lnTo>
                      <a:pt x="254" y="562"/>
                    </a:lnTo>
                    <a:lnTo>
                      <a:pt x="226" y="559"/>
                    </a:lnTo>
                    <a:lnTo>
                      <a:pt x="200" y="552"/>
                    </a:lnTo>
                    <a:lnTo>
                      <a:pt x="176" y="543"/>
                    </a:lnTo>
                    <a:lnTo>
                      <a:pt x="148" y="531"/>
                    </a:lnTo>
                    <a:lnTo>
                      <a:pt x="125" y="517"/>
                    </a:lnTo>
                    <a:lnTo>
                      <a:pt x="102" y="499"/>
                    </a:lnTo>
                    <a:lnTo>
                      <a:pt x="80" y="482"/>
                    </a:lnTo>
                    <a:lnTo>
                      <a:pt x="60" y="460"/>
                    </a:lnTo>
                    <a:lnTo>
                      <a:pt x="42" y="440"/>
                    </a:lnTo>
                    <a:lnTo>
                      <a:pt x="28" y="415"/>
                    </a:lnTo>
                    <a:lnTo>
                      <a:pt x="16" y="392"/>
                    </a:lnTo>
                    <a:lnTo>
                      <a:pt x="7" y="365"/>
                    </a:lnTo>
                    <a:lnTo>
                      <a:pt x="2" y="338"/>
                    </a:lnTo>
                    <a:lnTo>
                      <a:pt x="0" y="311"/>
                    </a:lnTo>
                    <a:lnTo>
                      <a:pt x="3" y="283"/>
                    </a:lnTo>
                    <a:lnTo>
                      <a:pt x="6" y="264"/>
                    </a:lnTo>
                    <a:lnTo>
                      <a:pt x="9" y="246"/>
                    </a:lnTo>
                    <a:lnTo>
                      <a:pt x="13" y="225"/>
                    </a:lnTo>
                    <a:lnTo>
                      <a:pt x="19" y="206"/>
                    </a:lnTo>
                    <a:lnTo>
                      <a:pt x="23" y="189"/>
                    </a:lnTo>
                    <a:lnTo>
                      <a:pt x="28" y="170"/>
                    </a:lnTo>
                    <a:lnTo>
                      <a:pt x="33" y="153"/>
                    </a:lnTo>
                    <a:lnTo>
                      <a:pt x="41" y="135"/>
                    </a:lnTo>
                    <a:lnTo>
                      <a:pt x="47" y="116"/>
                    </a:lnTo>
                    <a:lnTo>
                      <a:pt x="52" y="99"/>
                    </a:lnTo>
                    <a:lnTo>
                      <a:pt x="60" y="82"/>
                    </a:lnTo>
                    <a:lnTo>
                      <a:pt x="70" y="64"/>
                    </a:lnTo>
                    <a:lnTo>
                      <a:pt x="78" y="48"/>
                    </a:lnTo>
                    <a:lnTo>
                      <a:pt x="89" y="32"/>
                    </a:lnTo>
                    <a:lnTo>
                      <a:pt x="99" y="16"/>
                    </a:lnTo>
                    <a:lnTo>
                      <a:pt x="112" y="0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053720" y="1866600"/>
                <a:ext cx="185040" cy="180360"/>
              </a:xfrm>
              <a:custGeom>
                <a:avLst/>
                <a:gdLst/>
                <a:ahLst/>
                <a:rect l="l" t="t" r="r" b="b"/>
                <a:pathLst>
                  <a:path w="393" h="413">
                    <a:moveTo>
                      <a:pt x="68" y="0"/>
                    </a:moveTo>
                    <a:lnTo>
                      <a:pt x="0" y="168"/>
                    </a:lnTo>
                    <a:lnTo>
                      <a:pt x="72" y="300"/>
                    </a:lnTo>
                    <a:lnTo>
                      <a:pt x="175" y="413"/>
                    </a:lnTo>
                    <a:lnTo>
                      <a:pt x="177" y="413"/>
                    </a:lnTo>
                    <a:lnTo>
                      <a:pt x="181" y="413"/>
                    </a:lnTo>
                    <a:lnTo>
                      <a:pt x="188" y="413"/>
                    </a:lnTo>
                    <a:lnTo>
                      <a:pt x="199" y="413"/>
                    </a:lnTo>
                    <a:lnTo>
                      <a:pt x="209" y="413"/>
                    </a:lnTo>
                    <a:lnTo>
                      <a:pt x="220" y="413"/>
                    </a:lnTo>
                    <a:lnTo>
                      <a:pt x="235" y="413"/>
                    </a:lnTo>
                    <a:lnTo>
                      <a:pt x="249" y="413"/>
                    </a:lnTo>
                    <a:lnTo>
                      <a:pt x="264" y="413"/>
                    </a:lnTo>
                    <a:lnTo>
                      <a:pt x="278" y="413"/>
                    </a:lnTo>
                    <a:lnTo>
                      <a:pt x="292" y="412"/>
                    </a:lnTo>
                    <a:lnTo>
                      <a:pt x="306" y="412"/>
                    </a:lnTo>
                    <a:lnTo>
                      <a:pt x="316" y="410"/>
                    </a:lnTo>
                    <a:lnTo>
                      <a:pt x="326" y="410"/>
                    </a:lnTo>
                    <a:lnTo>
                      <a:pt x="334" y="409"/>
                    </a:lnTo>
                    <a:lnTo>
                      <a:pt x="339" y="407"/>
                    </a:lnTo>
                    <a:lnTo>
                      <a:pt x="342" y="403"/>
                    </a:lnTo>
                    <a:lnTo>
                      <a:pt x="347" y="394"/>
                    </a:lnTo>
                    <a:lnTo>
                      <a:pt x="350" y="383"/>
                    </a:lnTo>
                    <a:lnTo>
                      <a:pt x="355" y="370"/>
                    </a:lnTo>
                    <a:lnTo>
                      <a:pt x="360" y="352"/>
                    </a:lnTo>
                    <a:lnTo>
                      <a:pt x="364" y="335"/>
                    </a:lnTo>
                    <a:lnTo>
                      <a:pt x="368" y="317"/>
                    </a:lnTo>
                    <a:lnTo>
                      <a:pt x="374" y="299"/>
                    </a:lnTo>
                    <a:lnTo>
                      <a:pt x="377" y="278"/>
                    </a:lnTo>
                    <a:lnTo>
                      <a:pt x="380" y="259"/>
                    </a:lnTo>
                    <a:lnTo>
                      <a:pt x="383" y="242"/>
                    </a:lnTo>
                    <a:lnTo>
                      <a:pt x="387" y="227"/>
                    </a:lnTo>
                    <a:lnTo>
                      <a:pt x="389" y="214"/>
                    </a:lnTo>
                    <a:lnTo>
                      <a:pt x="392" y="206"/>
                    </a:lnTo>
                    <a:lnTo>
                      <a:pt x="392" y="200"/>
                    </a:lnTo>
                    <a:lnTo>
                      <a:pt x="393" y="197"/>
                    </a:lnTo>
                    <a:lnTo>
                      <a:pt x="302" y="24"/>
                    </a:lnTo>
                    <a:lnTo>
                      <a:pt x="68" y="0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ffd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>
              <a:off x="2200320" y="2022480"/>
              <a:ext cx="250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ngagement R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2133720" y="3335400"/>
            <a:ext cx="4188600" cy="1220760"/>
            <a:chOff x="2133720" y="3335400"/>
            <a:chExt cx="4188600" cy="122076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2133720" y="3335400"/>
              <a:ext cx="1904760" cy="122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4253400" y="3546360"/>
              <a:ext cx="206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Wedding R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4038480" y="4724280"/>
            <a:ext cx="3605040" cy="1830600"/>
            <a:chOff x="4038480" y="4724280"/>
            <a:chExt cx="3605040" cy="1830600"/>
          </a:xfrm>
        </p:grpSpPr>
        <p:pic>
          <p:nvPicPr>
            <p:cNvPr id="96" name="" descr=""/>
            <p:cNvPicPr/>
            <p:nvPr/>
          </p:nvPicPr>
          <p:blipFill>
            <a:blip r:embed="rId2"/>
            <a:stretch/>
          </p:blipFill>
          <p:spPr>
            <a:xfrm>
              <a:off x="4038480" y="4724280"/>
              <a:ext cx="1852560" cy="183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6158160" y="5299200"/>
              <a:ext cx="148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SuffeR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3863880" cy="44197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709520" y="879480"/>
            <a:ext cx="4196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last fight was my fa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y wife asked, “What’s on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V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said: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977080" y="449568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UST!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666880" y="1828800"/>
            <a:ext cx="3810240" cy="28735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0" y="304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the beginning, God created earth and rested.  Then God c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 and rested.  Then God created wom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2960" y="533412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nce then, neither God nor man has rest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590920" y="1066680"/>
            <a:ext cx="3620880" cy="44197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983960" y="380880"/>
            <a:ext cx="565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 you know the punishment for bigam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94160" y="594360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wo MOTHER-IN-LAW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057400" y="1600200"/>
            <a:ext cx="4892760" cy="32479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056680" y="762120"/>
            <a:ext cx="485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y do men die before their wiv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543840" y="5105520"/>
            <a:ext cx="19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y want t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905120" y="2057400"/>
            <a:ext cx="5486400" cy="2530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56600" y="380880"/>
            <a:ext cx="835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beggar walked up to a well dressed woman shopping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deo Drive and said: “I haven’t eaten anything in four days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e looked at him and said?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457720" y="4952880"/>
            <a:ext cx="38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wish I had your willpowe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514600" y="990720"/>
            <a:ext cx="4078440" cy="44164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838080" y="152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oung son:  “Dad, I heard that in some parts of Africa a man doesn’t know his wife until he marries her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79040" y="5638680"/>
            <a:ext cx="587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d: “That happens in every country, son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362320" y="2362320"/>
            <a:ext cx="4357440" cy="24066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85800" y="30492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man inserted an ad in the classified: “WIFE WANTED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next day he received a hundred let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y all said the same th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62240" y="5105520"/>
            <a:ext cx="306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ou can have mine!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10:37:19Z</dcterms:created>
  <dc:creator>Adri van Molendorff</dc:creator>
  <dc:description/>
  <dc:language>en-US</dc:language>
  <cp:lastModifiedBy>PetersenD</cp:lastModifiedBy>
  <dcterms:modified xsi:type="dcterms:W3CDTF">2001-04-10T10:15:37Z</dcterms:modified>
  <cp:revision>2</cp:revision>
  <dc:subject/>
  <dc:title>No Slide Title</dc:title>
</cp:coreProperties>
</file>