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6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27.jpeg" ContentType="image/jpeg"/>
  <Override PartName="/ppt/media/image24.png" ContentType="image/png"/>
  <Override PartName="/ppt/media/image23.png" ContentType="image/png"/>
  <Override PartName="/ppt/media/image15.png" ContentType="image/png"/>
  <Override PartName="/ppt/media/image12.gif" ContentType="image/gif"/>
  <Override PartName="/ppt/media/image1.jpeg" ContentType="image/jpeg"/>
  <Override PartName="/ppt/media/image7.gif" ContentType="image/gif"/>
  <Override PartName="/ppt/media/image37.gif" ContentType="image/gif"/>
  <Override PartName="/ppt/media/image4.jpeg" ContentType="image/jpeg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11.gif" ContentType="image/gif"/>
  <Override PartName="/ppt/media/image14.png" ContentType="image/png"/>
  <Override PartName="/ppt/media/image38.gif" ContentType="image/gif"/>
  <Override PartName="/ppt/media/image8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C51-00D4-4863-B0A8-D71C7B9E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E7D-4C9F-4251-8FA8-36DB500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48C-5ACB-4AF0-B343-DCEF24BF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6BC-0093-47B5-A7F5-C3D2811E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6DE8-95BF-467D-B088-03C7EA47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0A8-EB6D-4264-982F-6AB2D838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1247-8BD2-49F9-91C2-AE7E0785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E1DB-56C2-4888-8458-062E785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EFD9-28B6-4EED-8D32-EF1F5F88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594E-D120-4DF4-84D4-AFEC9828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8238-4FE6-499F-B31D-92E97F2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668-6AA5-4CF6-A68D-202EF82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F37D-D730-4A99-8BFD-1F05FB1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744-9230-41D1-9B10-02DF8CA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F8E5-8965-4310-AFFE-16F6C6C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B014-7E6A-4D48-AECA-7A3CE48A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EF11-6251-40CE-B8E7-09B1B388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DB0-AB8A-416B-96E2-D6F6D0C7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CB3-B2F1-48D0-86FF-89E2697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CFF-9809-45D8-92C3-6DC3EB76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A67-591B-455C-AF1D-F7515B0A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324-A422-4B84-8FCF-3AFB662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769-C9B6-4734-91E7-ECABEE31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2EA-7C5A-4D70-A4FD-446F834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06BA-ACB8-4E17-9546-2AB1CD5F4CF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5AC3-63CA-4509-8715-BF644C5A699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slide" Target="slide17.xml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8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9.xml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4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6.gif"/><Relationship Id="rId6" Type="http://schemas.openxmlformats.org/officeDocument/2006/relationships/image" Target="../media/image38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6plinc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93432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838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en-US" sz="4800" spc="-1" strike="noStrike">
                <a:solidFill>
                  <a:srgbClr val="ff6600"/>
                </a:solidFill>
                <a:latin typeface="Arial Black"/>
              </a:rPr>
              <a:t>Abraham Lincol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523880"/>
            <a:ext cx="8686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7. What do the Americans think of Abraham Lincoln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y consider him to be a good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They think him to be a nice man bu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not a good presid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They think he had too little education 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e fit for his po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133720"/>
            <a:ext cx="6172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. They think highly of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62120" y="762120"/>
          <a:ext cx="8076960" cy="5715000"/>
        </p:xfrm>
        <a:graphic>
          <a:graphicData uri="http://schemas.openxmlformats.org/drawingml/2006/table">
            <a:tbl>
              <a:tblPr/>
              <a:tblGrid>
                <a:gridCol w="1794600"/>
                <a:gridCol w="4263120"/>
                <a:gridCol w="20192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s a chil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______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born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 hard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pent  ___________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  year in all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s mother died and he had a kind____________ later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Kentuck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their ______farm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school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38080" y="2743200"/>
            <a:ext cx="8001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495680"/>
            <a:ext cx="80769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ebruary 12</a:t>
            </a:r>
            <a:r>
              <a:rPr b="1" i="1" lang="en-US" sz="2800" spc="-1" strike="noStrike" baseline="30000">
                <a:solidFill>
                  <a:srgbClr val="ff33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,1809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morn th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352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181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epmoth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09480" y="1066680"/>
          <a:ext cx="7925040" cy="5166000"/>
        </p:xfrm>
        <a:graphic>
          <a:graphicData uri="http://schemas.openxmlformats.org/drawingml/2006/table">
            <a:tbl>
              <a:tblPr/>
              <a:tblGrid>
                <a:gridCol w="2081160"/>
                <a:gridCol w="3481560"/>
                <a:gridCol w="23623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orked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a _____and a __________ 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studied ______in his spare time and became a 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became interested in ________ and was against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838080" y="2666880"/>
            <a:ext cx="1600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057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st off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267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wy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90280" y="5149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181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lit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562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57200" y="685800"/>
            <a:ext cx="8229240" cy="5509800"/>
            <a:chOff x="457200" y="685800"/>
            <a:chExt cx="8229240" cy="5509800"/>
          </a:xfrm>
        </p:grpSpPr>
        <p:grpSp>
          <p:nvGrpSpPr>
            <p:cNvPr id="141" name=""/>
            <p:cNvGrpSpPr/>
            <p:nvPr/>
          </p:nvGrpSpPr>
          <p:grpSpPr>
            <a:xfrm>
              <a:off x="463680" y="694440"/>
              <a:ext cx="8214840" cy="5490360"/>
              <a:chOff x="463680" y="694440"/>
              <a:chExt cx="8214840" cy="54903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463680" y="694440"/>
                <a:ext cx="2062800" cy="5490360"/>
                <a:chOff x="463680" y="694440"/>
                <a:chExt cx="2062800" cy="5490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60160" y="694440"/>
                  <a:ext cx="1870200" cy="54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ncoln’s 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Political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lif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3680" y="694440"/>
                  <a:ext cx="2062800" cy="549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526840" y="694440"/>
                <a:ext cx="1482840" cy="1155240"/>
                <a:chOff x="2526840" y="694440"/>
                <a:chExt cx="1482840" cy="1155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623320" y="694440"/>
                  <a:ext cx="128988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TIME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26840" y="694440"/>
                  <a:ext cx="148284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010400" y="694440"/>
                <a:ext cx="4668120" cy="1155240"/>
                <a:chOff x="4010400" y="694440"/>
                <a:chExt cx="4668120" cy="1155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106160" y="694440"/>
                  <a:ext cx="447624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CTIVITY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10400" y="694440"/>
                  <a:ext cx="4668120" cy="115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26840" y="1850040"/>
                <a:ext cx="1482840" cy="1444680"/>
                <a:chOff x="2526840" y="1850040"/>
                <a:chExt cx="1482840" cy="14446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623320" y="1850040"/>
                  <a:ext cx="128988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5b5249"/>
                      </a:solidFill>
                      <a:latin typeface="Times New Roman"/>
                    </a:rPr>
                    <a:t>1860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26840" y="1850040"/>
                  <a:ext cx="148284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010400" y="1850040"/>
                <a:ext cx="4668120" cy="1444680"/>
                <a:chOff x="4010400" y="1850040"/>
                <a:chExt cx="4668120" cy="1444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06160" y="1850040"/>
                  <a:ext cx="4476240" cy="14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He became ____________ and worked harder for the ________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b5249"/>
                      </a:solidFill>
                      <a:latin typeface="Times New Roman"/>
                    </a:rPr>
                    <a:t>________________ .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010400" y="1850040"/>
                  <a:ext cx="4668120" cy="14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526840" y="3295080"/>
                <a:ext cx="1482840" cy="2889360"/>
                <a:chOff x="2526840" y="3295080"/>
                <a:chExt cx="1482840" cy="288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23320" y="3295080"/>
                  <a:ext cx="1289880" cy="28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b5249"/>
                      </a:solidFill>
                      <a:latin typeface="Times New Roman"/>
                    </a:rPr>
                    <a:t>After the Civil War broke out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26840" y="3295080"/>
                  <a:ext cx="148284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010400" y="3295080"/>
                <a:ext cx="4668120" cy="2889360"/>
                <a:chOff x="4010400" y="3295080"/>
                <a:chExt cx="4668120" cy="288936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106160" y="3295080"/>
                  <a:ext cx="4475880" cy="2555280"/>
                  <a:chOff x="4106160" y="3295080"/>
                  <a:chExt cx="4475880" cy="25552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4106160" y="3295080"/>
                    <a:ext cx="4473360" cy="228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He said it was ___________for the ________ to break away from the Union and led the _________ in the fighting against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____________________ .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106160" y="5024880"/>
                    <a:ext cx="447588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5b5249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4010400" y="3295080"/>
                  <a:ext cx="4668120" cy="288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457200" y="685800"/>
              <a:ext cx="8229240" cy="550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095880" y="1752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2133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reed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438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the sla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t r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581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ou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64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lave own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33520" y="457200"/>
          <a:ext cx="8153280" cy="6045120"/>
        </p:xfrm>
        <a:graphic>
          <a:graphicData uri="http://schemas.openxmlformats.org/drawingml/2006/table">
            <a:tbl>
              <a:tblPr/>
              <a:tblGrid>
                <a:gridCol w="1785960"/>
                <a:gridCol w="1519200"/>
                <a:gridCol w="2638440"/>
                <a:gridCol w="2209680"/>
              </a:tblGrid>
              <a:tr h="1170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ncoln’s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olitical      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if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65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fter the war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the end the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 won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Northern and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outhern states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◆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he slaves were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___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 1864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ecame ________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or the _____time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0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n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pril 14,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86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was shot at a _________ 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ashington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.C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419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rt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oined u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fre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n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at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3880" y="1371600"/>
          <a:ext cx="6705720" cy="3665520"/>
        </p:xfrm>
        <a:graphic>
          <a:graphicData uri="http://schemas.openxmlformats.org/drawingml/2006/table">
            <a:tbl>
              <a:tblPr/>
              <a:tblGrid>
                <a:gridCol w="2286000"/>
                <a:gridCol w="44197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87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2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872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e is ________________as one of the _________of all American Presidents.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98108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048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onside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greate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76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152424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48006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00600" y="0"/>
          <a:ext cx="43434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4343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800600" y="3505320"/>
          <a:ext cx="434340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05320"/>
                    <a:ext cx="4343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3429000"/>
          <a:ext cx="4800600" cy="34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429000"/>
                    <a:ext cx="480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0"/>
            <a:ext cx="0" cy="685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85840" y="324000"/>
          <a:ext cx="857412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324000"/>
                    <a:ext cx="857412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838080"/>
            <a:ext cx="7259760" cy="4408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62120" y="5638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helped his father on the farm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762120"/>
            <a:ext cx="7470720" cy="4267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omic Sans MS"/>
              </a:rPr>
              <a:t>His mother died in 1818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533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GAME 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gr3" descr=""/>
          <p:cNvPicPr/>
          <p:nvPr/>
        </p:nvPicPr>
        <p:blipFill>
          <a:blip r:embed="rId1"/>
          <a:stretch/>
        </p:blipFill>
        <p:spPr>
          <a:xfrm flipH="1">
            <a:off x="4647960" y="152388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gr1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gr2" descr=""/>
          <p:cNvPicPr/>
          <p:nvPr/>
        </p:nvPicPr>
        <p:blipFill>
          <a:blip r:embed="rId3"/>
          <a:stretch/>
        </p:blipFill>
        <p:spPr>
          <a:xfrm>
            <a:off x="2819520" y="19810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gr2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gr3" descr=""/>
          <p:cNvPicPr/>
          <p:nvPr/>
        </p:nvPicPr>
        <p:blipFill>
          <a:blip r:embed="rId5"/>
          <a:stretch/>
        </p:blipFill>
        <p:spPr>
          <a:xfrm flipH="1">
            <a:off x="2743200" y="44197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838080"/>
            <a:ext cx="792468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562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His father’s second wife was kind to h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95280" y="1066680"/>
          <a:ext cx="6553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066680"/>
                    <a:ext cx="6553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4300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Slaves are working on the far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914400"/>
            <a:ext cx="670860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09480" y="5410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Lincoln became interested in politic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The Civil War broke out in 1861.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1" descr="">
            <a:hlinkClick r:id="rId1" action="ppaction://hlinksldjump"/>
          </p:cNvPr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114800" y="914400"/>
            <a:ext cx="3962520" cy="5194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38080" y="1295280"/>
            <a:ext cx="2590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cam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esident </a:t>
            </a:r>
            <a:r>
              <a:rPr b="1" lang="en-US" sz="3600" spc="-1" strike="noStrike">
                <a:solidFill>
                  <a:srgbClr val="0099f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1864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762120"/>
            <a:ext cx="7313760" cy="4300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76520" y="533412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</a:rPr>
              <a:t>shot on April 14th, 1865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26" descr="">
            <a:hlinkClick r:id="rId1" action="ppaction://hlinksldjump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838080" y="9144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5486400"/>
            <a:ext cx="5029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rd’s Theatr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762120"/>
          <a:ext cx="83818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762120"/>
                    <a:ext cx="83818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09680" y="5562720"/>
          <a:ext cx="45720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5562720"/>
                    <a:ext cx="4572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14400" y="838080"/>
          <a:ext cx="73152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15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5120" y="182880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9900"/>
                </a:solidFill>
                <a:latin typeface="Monotype Corsiva"/>
              </a:rPr>
              <a:t>Listening :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cks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358164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14400" y="838080"/>
          <a:ext cx="7620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20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990720" y="838080"/>
          <a:ext cx="70866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86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181480" y="1066680"/>
            <a:ext cx="342900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838080"/>
          <a:ext cx="7848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838080" y="1066680"/>
          <a:ext cx="776304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7630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8080" y="1828800"/>
            <a:ext cx="79250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y is he  considered as one of the greatest of all American Presidents? What can we learn from him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160bf1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Who do you admire(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崇拜</a:t>
            </a:r>
            <a:r>
              <a:rPr b="1" lang="zh-CN" sz="4400" spc="-1" strike="noStrike">
                <a:solidFill>
                  <a:srgbClr val="160bf1"/>
                </a:solidFill>
                <a:latin typeface="Monotype Corsiva"/>
              </a:rPr>
              <a:t>) most? Why?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380880"/>
            <a:ext cx="2895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DISCUSSIONS 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santa8" descr=""/>
          <p:cNvPicPr/>
          <p:nvPr/>
        </p:nvPicPr>
        <p:blipFill>
          <a:blip r:embed="rId1"/>
          <a:stretch/>
        </p:blipFill>
        <p:spPr>
          <a:xfrm>
            <a:off x="4724280" y="5105520"/>
            <a:ext cx="1268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santa9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6" name="sd2-4" descr=""/>
          <p:cNvPicPr/>
          <p:nvPr/>
        </p:nvPicPr>
        <p:blipFill>
          <a:blip r:embed="rId3"/>
          <a:stretch/>
        </p:blipFill>
        <p:spPr>
          <a:xfrm>
            <a:off x="32004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sd2-4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santa9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118908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santa" descr=""/>
          <p:cNvPicPr/>
          <p:nvPr/>
        </p:nvPicPr>
        <p:blipFill>
          <a:blip r:embed="rId6"/>
          <a:stretch/>
        </p:blipFill>
        <p:spPr>
          <a:xfrm>
            <a:off x="762120" y="1295280"/>
            <a:ext cx="4381560" cy="914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0574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Comic Sans MS"/>
              </a:rPr>
              <a:t>MERRY CHRISTMAS !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santa8" descr=""/>
          <p:cNvPicPr/>
          <p:nvPr/>
        </p:nvPicPr>
        <p:blipFill>
          <a:blip r:embed="rId7"/>
          <a:stretch/>
        </p:blipFill>
        <p:spPr>
          <a:xfrm>
            <a:off x="7162920" y="2362320"/>
            <a:ext cx="1268280" cy="13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75248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The text is about Abraham Lincoln’s ___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A. early life in Kentucky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B. life as a politicia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D. life as a lawy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32004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. whole lif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60948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400040"/>
            <a:ext cx="8001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Which is the best description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描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about Lincoln’s childhood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童年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 He was  born in a winter in Kentuck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 He was born in a poor family and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worked hard on their small far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 His dear mother died when he was  very young and luckily he has a kind   stepmother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继母）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lat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457200"/>
            <a:ext cx="2581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867280"/>
            <a:ext cx="32004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 All abov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3716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Although Abraham Lincoln liked rea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ery much, he had received 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. much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. no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D. good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962520"/>
            <a:ext cx="35053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 little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" name="AN02479_" descr=""/>
          <p:cNvPicPr/>
          <p:nvPr/>
        </p:nvPicPr>
        <p:blipFill>
          <a:blip r:embed="rId1"/>
          <a:stretch/>
        </p:blipFill>
        <p:spPr>
          <a:xfrm>
            <a:off x="6705720" y="3124080"/>
            <a:ext cx="1752480" cy="22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295280"/>
            <a:ext cx="80769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 Which sentence is not right about Lincoln’s yout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s a young man he worked in a store and later in a post offic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studied law in his spare time and became a lawy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became very interested in politic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5b5249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181480"/>
            <a:ext cx="5029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 He was against thos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295280"/>
            <a:ext cx="845820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 Which sentence carries the main idea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third paragrap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The North defeated the South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The North and the South began t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ve a figh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fter Lincoln became President, he work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In the end the North w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038480"/>
            <a:ext cx="7543800" cy="99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fter Lincoln became President, he worke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rder for the freedom of  the sla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371600"/>
            <a:ext cx="8077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6. In Lincoln’s whole life, he fought for the  right of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. black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. white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D. white and black peo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962520"/>
            <a:ext cx="4114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. all the peopl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304920"/>
            <a:ext cx="2581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ADING :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16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654200" cy="171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01:29:31Z</dcterms:created>
  <dc:creator>姜宁</dc:creator>
  <dc:description/>
  <dc:language>en-US</dc:language>
  <cp:lastModifiedBy>yz106</cp:lastModifiedBy>
  <dcterms:modified xsi:type="dcterms:W3CDTF">2002-05-23T02:40:30Z</dcterms:modified>
  <cp:revision>111</cp:revision>
  <dc:subject>Abraham Lincoin</dc:subject>
  <dc:title>LESSON 50</dc:title>
</cp:coreProperties>
</file>