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2.jpeg" ContentType="image/jpeg"/>
  <Override PartName="/ppt/media/image21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022E-7A46-476B-8262-418054A71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8D88-E571-46AC-A7DC-6F62599CF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FEC3-D622-41C2-B51B-73DA87B45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5D03-2C5A-4264-826D-88D4EEFA0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24BE2-5CB2-4904-985E-63CC757BE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B5C63-FE0C-4E43-BDC8-35D40ED82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D89DF-D27A-464B-B538-9C77DBAA2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92BDC-5DA8-44D6-9CB2-CD6B9FC3C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5C757-20F7-4332-9EC8-39AE7BA24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582A6-C220-494D-BF76-6F95FFADD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AB293-A32C-41CB-A36C-97012C78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E518-AF56-448A-827D-755F46F65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54CF0-6A9A-4548-A8FF-4701D756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FFF60-0D80-4724-867F-D70E2385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B7275-2399-4753-80D6-32E0928A5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10C82-6A01-4287-8AA9-79140DA1A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49A70-C293-4CEF-ABE6-FD41A32A9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D80B-6395-476A-8E3C-58960B9D9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9448-D8CC-47B3-A71A-DC87C7B29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A04C-BE96-47A8-B549-B5F834DEC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F3B0-0EEE-413B-B959-F87A3EAD8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0C35-3BB9-4299-B744-6F1646F7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B1BC-27B7-4709-85AD-1103D77F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A46F-B9B9-4DA4-BE8B-DAB74D98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49617-93C9-42BC-AC95-33DFE95FE5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5CF6D-D990-44C6-AE0A-7B67D2A89A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5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8.jpeg"/><Relationship Id="rId9" Type="http://schemas.openxmlformats.org/officeDocument/2006/relationships/image" Target="../media/image28.jpe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29.jpeg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8.xm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" Target="slide18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" Target="slide18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" Target="slide18.xm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" Target="slide18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" Target="slide18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" Target="slide18.xm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18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" Target="slide18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267080" y="2590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90" name="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677240" y="1447920"/>
            <a:ext cx="5538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Times New Roman"/>
              </a:rPr>
              <a:t>English Poetry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2" descr=""/>
          <p:cNvPicPr/>
          <p:nvPr/>
        </p:nvPicPr>
        <p:blipFill>
          <a:blip r:embed="rId3"/>
          <a:stretch/>
        </p:blipFill>
        <p:spPr>
          <a:xfrm>
            <a:off x="3657600" y="3200400"/>
            <a:ext cx="1981080" cy="3048120"/>
          </a:xfrm>
          <a:prstGeom prst="rect">
            <a:avLst/>
          </a:prstGeom>
          <a:ln w="0">
            <a:noFill/>
          </a:ln>
        </p:spPr>
      </p:pic>
      <p:pic>
        <p:nvPicPr>
          <p:cNvPr id="93" name="6" descr=""/>
          <p:cNvPicPr/>
          <p:nvPr/>
        </p:nvPicPr>
        <p:blipFill>
          <a:blip r:embed="rId4"/>
          <a:stretch/>
        </p:blipFill>
        <p:spPr>
          <a:xfrm>
            <a:off x="5638680" y="3200400"/>
            <a:ext cx="1828800" cy="3048120"/>
          </a:xfrm>
          <a:prstGeom prst="rect">
            <a:avLst/>
          </a:prstGeom>
          <a:ln w="0">
            <a:noFill/>
          </a:ln>
        </p:spPr>
      </p:pic>
      <p:pic>
        <p:nvPicPr>
          <p:cNvPr id="94" name="3" descr=""/>
          <p:cNvPicPr/>
          <p:nvPr/>
        </p:nvPicPr>
        <p:blipFill>
          <a:blip r:embed="rId5"/>
          <a:stretch/>
        </p:blipFill>
        <p:spPr>
          <a:xfrm>
            <a:off x="0" y="3200400"/>
            <a:ext cx="1752480" cy="3048120"/>
          </a:xfrm>
          <a:prstGeom prst="rect">
            <a:avLst/>
          </a:prstGeom>
          <a:ln w="0">
            <a:noFill/>
          </a:ln>
        </p:spPr>
      </p:pic>
      <p:pic>
        <p:nvPicPr>
          <p:cNvPr id="95" name="15" descr=""/>
          <p:cNvPicPr/>
          <p:nvPr/>
        </p:nvPicPr>
        <p:blipFill>
          <a:blip r:embed="rId6"/>
          <a:stretch/>
        </p:blipFill>
        <p:spPr>
          <a:xfrm>
            <a:off x="7467480" y="3200400"/>
            <a:ext cx="1676520" cy="3048120"/>
          </a:xfrm>
          <a:prstGeom prst="rect">
            <a:avLst/>
          </a:prstGeom>
          <a:ln w="0">
            <a:noFill/>
          </a:ln>
        </p:spPr>
      </p:pic>
      <p:pic>
        <p:nvPicPr>
          <p:cNvPr id="96" name="7" descr=""/>
          <p:cNvPicPr/>
          <p:nvPr/>
        </p:nvPicPr>
        <p:blipFill>
          <a:blip r:embed="rId7"/>
          <a:stretch/>
        </p:blipFill>
        <p:spPr>
          <a:xfrm>
            <a:off x="1752480" y="3200400"/>
            <a:ext cx="1905120" cy="3048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640080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inshui No.2 Middle School     Huang  Lan  Oct. 16, 200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066680" y="60948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To say that “ poems and literature can be bridges” is an image . What other images could you use to express the same idea 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43000" y="2514600"/>
            <a:ext cx="7620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o say that poems and literature can be bridges means that they can bring people closer to each other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wo other images to express that idea , found in the text are 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1. Poetry opens doors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2. We can embrace each other in poetry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442520" y="609480"/>
            <a:ext cx="634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xplain the short poem by Mu Dan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729440" y="1530360"/>
            <a:ext cx="5926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Times New Roman"/>
              </a:rPr>
              <a:t>Quietly , we embrac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Times New Roman"/>
              </a:rPr>
              <a:t>In a world lit up by words 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95280" y="2971800"/>
            <a:ext cx="7391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Our life is like the night . The words used in poetry are like lamps that light up , and in this light , we can meet and embrace other people , whom we would not have seen in the dark 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896560" y="533520"/>
            <a:ext cx="347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Homework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26400" y="2819520"/>
            <a:ext cx="577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Do Ex.3 and Ex.4 on P29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ef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 flipH="1">
            <a:off x="4267080" y="3276720"/>
            <a:ext cx="152640" cy="152280"/>
          </a:xfrm>
          <a:prstGeom prst="rect">
            <a:avLst/>
          </a:prstGeom>
          <a:ln w="0">
            <a:noFill/>
          </a:ln>
        </p:spPr>
      </p:pic>
      <p:sp>
        <p:nvSpPr>
          <p:cNvPr id="170" name="">
            <a:hlinkClick r:id="" action="ppaction://hlinkshowjump?jump=firstslide"/>
            <a:hlinkClick r:id="rId2"/>
          </p:cNvPr>
          <p:cNvSpPr/>
          <p:nvPr/>
        </p:nvSpPr>
        <p:spPr>
          <a:xfrm>
            <a:off x="6172200" y="4800600"/>
            <a:ext cx="2971800" cy="1219320"/>
          </a:xfrm>
          <a:custGeom>
            <a:avLst/>
            <a:gdLst>
              <a:gd name="textAreaLeft" fmla="*/ 78840 w 2971800"/>
              <a:gd name="textAreaRight" fmla="*/ 2892960 w 297180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52636" h="21600">
                <a:moveTo>
                  <a:pt x="0" y="0"/>
                </a:moveTo>
                <a:lnTo>
                  <a:pt x="52636" y="0"/>
                </a:lnTo>
                <a:lnTo>
                  <a:pt x="52636" y="21600"/>
                </a:lnTo>
                <a:lnTo>
                  <a:pt x="0" y="21600"/>
                </a:lnTo>
                <a:close/>
              </a:path>
              <a:path fill="lightenLess" w="52636" h="21600">
                <a:moveTo>
                  <a:pt x="0" y="0"/>
                </a:moveTo>
                <a:lnTo>
                  <a:pt x="52636" y="0"/>
                </a:lnTo>
                <a:lnTo>
                  <a:pt x="51236" y="1400"/>
                </a:lnTo>
                <a:lnTo>
                  <a:pt x="1400" y="1400"/>
                </a:lnTo>
                <a:close/>
              </a:path>
              <a:path fill="darken" w="52636" h="21600">
                <a:moveTo>
                  <a:pt x="52636" y="0"/>
                </a:moveTo>
                <a:lnTo>
                  <a:pt x="52636" y="21600"/>
                </a:lnTo>
                <a:lnTo>
                  <a:pt x="51236" y="20200"/>
                </a:lnTo>
                <a:lnTo>
                  <a:pt x="51236" y="1400"/>
                </a:lnTo>
                <a:close/>
              </a:path>
              <a:path fill="darkenLess" w="52636" h="21600">
                <a:moveTo>
                  <a:pt x="52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236" y="20200"/>
                </a:lnTo>
                <a:close/>
              </a:path>
              <a:path fill="lighten" w="52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1717a3"/>
                </a:solidFill>
                <a:latin typeface="华文行楷"/>
                <a:ea typeface="华文行楷"/>
              </a:rPr>
              <a:t>End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638680" y="1066680"/>
            <a:ext cx="3505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da0e35"/>
                </a:solidFill>
                <a:latin typeface="华文行楷"/>
                <a:ea typeface="华文行楷"/>
              </a:rPr>
              <a:t>Thank you 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3" descr=""/>
          <p:cNvPicPr/>
          <p:nvPr/>
        </p:nvPicPr>
        <p:blipFill>
          <a:blip r:embed="rId3"/>
          <a:stretch/>
        </p:blipFill>
        <p:spPr>
          <a:xfrm>
            <a:off x="0" y="0"/>
            <a:ext cx="624852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679040" y="502920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Qu Yu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屈2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2438280" cy="3048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4574520" y="50292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Du F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17120" y="685800"/>
            <a:ext cx="45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</a:rPr>
              <a:t>Chinese Ancient Poet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李白1" descr=""/>
          <p:cNvPicPr/>
          <p:nvPr/>
        </p:nvPicPr>
        <p:blipFill>
          <a:blip r:embed="rId2"/>
          <a:stretch/>
        </p:blipFill>
        <p:spPr>
          <a:xfrm>
            <a:off x="6553080" y="1752480"/>
            <a:ext cx="2133720" cy="30481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7239240" y="502920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Li B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2" descr=""/>
          <p:cNvPicPr/>
          <p:nvPr/>
        </p:nvPicPr>
        <p:blipFill>
          <a:blip r:embed="rId3"/>
          <a:stretch/>
        </p:blipFill>
        <p:spPr>
          <a:xfrm>
            <a:off x="3886200" y="1752480"/>
            <a:ext cx="24382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苏东坡" descr=""/>
          <p:cNvPicPr/>
          <p:nvPr/>
        </p:nvPicPr>
        <p:blipFill>
          <a:blip r:embed="rId1"/>
          <a:stretch/>
        </p:blipFill>
        <p:spPr>
          <a:xfrm>
            <a:off x="6400800" y="1828800"/>
            <a:ext cx="2214720" cy="31240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784200" y="510552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u Dongp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17120" y="685800"/>
            <a:ext cx="45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</a:rPr>
              <a:t>Chinese Ancient Poet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白居易" descr=""/>
          <p:cNvPicPr/>
          <p:nvPr/>
        </p:nvPicPr>
        <p:blipFill>
          <a:blip r:embed="rId2"/>
          <a:stretch/>
        </p:blipFill>
        <p:spPr>
          <a:xfrm>
            <a:off x="3962520" y="1828800"/>
            <a:ext cx="2209680" cy="31240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4648680" y="510552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Bai Juy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王2" descr=""/>
          <p:cNvPicPr/>
          <p:nvPr/>
        </p:nvPicPr>
        <p:blipFill>
          <a:blip r:embed="rId3"/>
          <a:stretch/>
        </p:blipFill>
        <p:spPr>
          <a:xfrm>
            <a:off x="1219320" y="1828800"/>
            <a:ext cx="2514600" cy="31240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828440" y="5105520"/>
            <a:ext cx="15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Wang We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516040" y="685800"/>
            <a:ext cx="456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</a:rPr>
              <a:t>Chinese Modern Poet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郭2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2438640" cy="29718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526040" y="5029200"/>
            <a:ext cx="16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Guo Moru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25160" y="54864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凤凰涅槃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192200" y="502920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Wen Yidu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739760" y="54864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死水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9800" y="50292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i Q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330680" y="55627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《大堰河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8" descr=""/>
          <p:cNvPicPr/>
          <p:nvPr/>
        </p:nvPicPr>
        <p:blipFill>
          <a:blip r:embed="rId2"/>
          <a:stretch/>
        </p:blipFill>
        <p:spPr>
          <a:xfrm>
            <a:off x="3733920" y="1828800"/>
            <a:ext cx="2438280" cy="2971800"/>
          </a:xfrm>
          <a:prstGeom prst="rect">
            <a:avLst/>
          </a:prstGeom>
          <a:ln w="0">
            <a:noFill/>
          </a:ln>
        </p:spPr>
      </p:pic>
      <p:pic>
        <p:nvPicPr>
          <p:cNvPr id="196" name="5" descr=""/>
          <p:cNvPicPr/>
          <p:nvPr/>
        </p:nvPicPr>
        <p:blipFill>
          <a:blip r:embed="rId3"/>
          <a:stretch/>
        </p:blipFill>
        <p:spPr>
          <a:xfrm>
            <a:off x="6400800" y="1828800"/>
            <a:ext cx="22287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徐1" descr=""/>
          <p:cNvPicPr/>
          <p:nvPr/>
        </p:nvPicPr>
        <p:blipFill>
          <a:blip r:embed="rId1"/>
          <a:stretch/>
        </p:blipFill>
        <p:spPr>
          <a:xfrm>
            <a:off x="3733920" y="1828800"/>
            <a:ext cx="2487600" cy="29718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4344480" y="50292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Xu Zhi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087680" y="502920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u 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516040" y="685800"/>
            <a:ext cx="456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</a:rPr>
              <a:t>Chinese Modern Poet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892400" y="54864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再别康桥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482960" y="54864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致橡树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08760" y="499428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Dai Wangs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072880" y="54864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《雨巷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5" descr=""/>
          <p:cNvPicPr/>
          <p:nvPr/>
        </p:nvPicPr>
        <p:blipFill>
          <a:blip r:embed="rId2"/>
          <a:stretch/>
        </p:blipFill>
        <p:spPr>
          <a:xfrm>
            <a:off x="1219320" y="1828800"/>
            <a:ext cx="2286000" cy="2971800"/>
          </a:xfrm>
          <a:prstGeom prst="rect">
            <a:avLst/>
          </a:prstGeom>
          <a:ln w="0">
            <a:noFill/>
          </a:ln>
        </p:spPr>
      </p:pic>
      <p:pic>
        <p:nvPicPr>
          <p:cNvPr id="206" name="1" descr=""/>
          <p:cNvPicPr/>
          <p:nvPr/>
        </p:nvPicPr>
        <p:blipFill>
          <a:blip r:embed="rId3"/>
          <a:stretch/>
        </p:blipFill>
        <p:spPr>
          <a:xfrm>
            <a:off x="6400800" y="1828800"/>
            <a:ext cx="2286000" cy="29718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7391520" y="838080"/>
            <a:ext cx="357120" cy="43344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433440"/>
              <a:gd name="textAreaBottom" fmla="*/ 410400 h 433440"/>
            </a:gdLst>
            <a:ahLst/>
            <a:rect l="textAreaLeft" t="textAreaTop" r="textAreaRight" b="textAreaBottom"/>
            <a:pathLst>
              <a:path w="21600" h="26211">
                <a:moveTo>
                  <a:pt x="0" y="0"/>
                </a:moveTo>
                <a:lnTo>
                  <a:pt x="21600" y="0"/>
                </a:lnTo>
                <a:lnTo>
                  <a:pt x="21600" y="26211"/>
                </a:lnTo>
                <a:lnTo>
                  <a:pt x="0" y="26211"/>
                </a:lnTo>
                <a:close/>
              </a:path>
              <a:path fill="lightenLess" w="21600" h="262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211">
                <a:moveTo>
                  <a:pt x="21600" y="0"/>
                </a:moveTo>
                <a:lnTo>
                  <a:pt x="21600" y="26211"/>
                </a:lnTo>
                <a:lnTo>
                  <a:pt x="20200" y="24811"/>
                </a:lnTo>
                <a:lnTo>
                  <a:pt x="20200" y="1400"/>
                </a:lnTo>
                <a:close/>
              </a:path>
              <a:path fill="darkenLess" w="21600" h="26211">
                <a:moveTo>
                  <a:pt x="21600" y="26211"/>
                </a:moveTo>
                <a:lnTo>
                  <a:pt x="0" y="26211"/>
                </a:lnTo>
                <a:lnTo>
                  <a:pt x="1400" y="24811"/>
                </a:lnTo>
                <a:lnTo>
                  <a:pt x="20200" y="24811"/>
                </a:lnTo>
                <a:close/>
              </a:path>
              <a:path fill="lighten" w="21600" h="26211">
                <a:moveTo>
                  <a:pt x="0" y="262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4811"/>
                </a:lnTo>
                <a:close/>
              </a:path>
              <a:path fill="darken" w="21600" h="26211">
                <a:moveTo>
                  <a:pt x="7301" y="13106"/>
                </a:moveTo>
                <a:lnTo>
                  <a:pt x="17806" y="6099"/>
                </a:lnTo>
                <a:lnTo>
                  <a:pt x="17806" y="20112"/>
                </a:lnTo>
                <a:close/>
              </a:path>
              <a:path fill="darken" w="21600" h="26211">
                <a:moveTo>
                  <a:pt x="3794" y="6099"/>
                </a:moveTo>
                <a:lnTo>
                  <a:pt x="5456" y="6099"/>
                </a:lnTo>
                <a:lnTo>
                  <a:pt x="5456" y="20112"/>
                </a:lnTo>
                <a:lnTo>
                  <a:pt x="3794" y="20112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66680" y="228600"/>
            <a:ext cx="2117880" cy="2590920"/>
          </a:xfrm>
          <a:prstGeom prst="rect">
            <a:avLst/>
          </a:prstGeom>
          <a:ln w="0">
            <a:noFill/>
          </a:ln>
        </p:spPr>
      </p:pic>
      <p:pic>
        <p:nvPicPr>
          <p:cNvPr id="209" name="5" descr=""/>
          <p:cNvPicPr/>
          <p:nvPr/>
        </p:nvPicPr>
        <p:blipFill>
          <a:blip r:embed="rId3"/>
          <a:stretch/>
        </p:blipFill>
        <p:spPr>
          <a:xfrm>
            <a:off x="5105520" y="228600"/>
            <a:ext cx="1752480" cy="2590920"/>
          </a:xfrm>
          <a:prstGeom prst="rect">
            <a:avLst/>
          </a:prstGeom>
          <a:ln w="0">
            <a:noFill/>
          </a:ln>
        </p:spPr>
      </p:pic>
      <p:pic>
        <p:nvPicPr>
          <p:cNvPr id="210" name="4" descr=""/>
          <p:cNvPicPr/>
          <p:nvPr/>
        </p:nvPicPr>
        <p:blipFill>
          <a:blip r:embed="rId4"/>
          <a:stretch/>
        </p:blipFill>
        <p:spPr>
          <a:xfrm>
            <a:off x="6934320" y="228600"/>
            <a:ext cx="1888920" cy="2590920"/>
          </a:xfrm>
          <a:prstGeom prst="rect">
            <a:avLst/>
          </a:prstGeom>
          <a:ln w="0">
            <a:noFill/>
          </a:ln>
        </p:spPr>
      </p:pic>
      <p:pic>
        <p:nvPicPr>
          <p:cNvPr id="211" name="wordsworth1" descr=""/>
          <p:cNvPicPr/>
          <p:nvPr/>
        </p:nvPicPr>
        <p:blipFill>
          <a:blip r:embed="rId5"/>
          <a:stretch/>
        </p:blipFill>
        <p:spPr>
          <a:xfrm>
            <a:off x="1066680" y="3505320"/>
            <a:ext cx="1981440" cy="2361960"/>
          </a:xfrm>
          <a:prstGeom prst="rect">
            <a:avLst/>
          </a:prstGeom>
          <a:ln w="0">
            <a:noFill/>
          </a:ln>
        </p:spPr>
      </p:pic>
      <p:pic>
        <p:nvPicPr>
          <p:cNvPr id="212" name="12" descr=""/>
          <p:cNvPicPr/>
          <p:nvPr/>
        </p:nvPicPr>
        <p:blipFill>
          <a:blip r:embed="rId6"/>
          <a:stretch/>
        </p:blipFill>
        <p:spPr>
          <a:xfrm>
            <a:off x="3124080" y="3505320"/>
            <a:ext cx="1905120" cy="2361960"/>
          </a:xfrm>
          <a:prstGeom prst="rect">
            <a:avLst/>
          </a:prstGeom>
          <a:ln w="0">
            <a:noFill/>
          </a:ln>
        </p:spPr>
      </p:pic>
      <p:pic>
        <p:nvPicPr>
          <p:cNvPr id="213" name="3" descr=""/>
          <p:cNvPicPr/>
          <p:nvPr/>
        </p:nvPicPr>
        <p:blipFill>
          <a:blip r:embed="rId7"/>
          <a:stretch/>
        </p:blipFill>
        <p:spPr>
          <a:xfrm>
            <a:off x="5105520" y="3505320"/>
            <a:ext cx="1752480" cy="2361960"/>
          </a:xfrm>
          <a:prstGeom prst="rect">
            <a:avLst/>
          </a:prstGeom>
          <a:ln w="0">
            <a:noFill/>
          </a:ln>
        </p:spPr>
      </p:pic>
      <p:pic>
        <p:nvPicPr>
          <p:cNvPr id="214" name="15" descr=""/>
          <p:cNvPicPr/>
          <p:nvPr/>
        </p:nvPicPr>
        <p:blipFill>
          <a:blip r:embed="rId8"/>
          <a:stretch/>
        </p:blipFill>
        <p:spPr>
          <a:xfrm>
            <a:off x="6934320" y="3505320"/>
            <a:ext cx="1900080" cy="23619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143000" y="28954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kespe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78520" y="289548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 Don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81480" y="2895480"/>
            <a:ext cx="16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 Mil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82560" y="5943600"/>
            <a:ext cx="15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 Ke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20040" y="594360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dswor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583080" y="594360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r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392600" y="5943600"/>
            <a:ext cx="8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69280" y="289548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p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381880" y="6019920"/>
            <a:ext cx="357480" cy="43344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433440"/>
              <a:gd name="textAreaBottom" fmla="*/ 410400 h 433440"/>
            </a:gdLst>
            <a:ahLst/>
            <a:rect l="textAreaLeft" t="textAreaTop" r="textAreaRight" b="textAreaBottom"/>
            <a:pathLst>
              <a:path w="21600" h="26185">
                <a:moveTo>
                  <a:pt x="0" y="0"/>
                </a:moveTo>
                <a:lnTo>
                  <a:pt x="21600" y="0"/>
                </a:lnTo>
                <a:lnTo>
                  <a:pt x="21600" y="26185"/>
                </a:lnTo>
                <a:lnTo>
                  <a:pt x="0" y="26185"/>
                </a:lnTo>
                <a:close/>
              </a:path>
              <a:path fill="lightenLess" w="21600" h="2618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185">
                <a:moveTo>
                  <a:pt x="21600" y="0"/>
                </a:moveTo>
                <a:lnTo>
                  <a:pt x="21600" y="26185"/>
                </a:lnTo>
                <a:lnTo>
                  <a:pt x="20200" y="24785"/>
                </a:lnTo>
                <a:lnTo>
                  <a:pt x="20200" y="1400"/>
                </a:lnTo>
                <a:close/>
              </a:path>
              <a:path fill="darkenLess" w="21600" h="26185">
                <a:moveTo>
                  <a:pt x="21600" y="26185"/>
                </a:moveTo>
                <a:lnTo>
                  <a:pt x="0" y="26185"/>
                </a:lnTo>
                <a:lnTo>
                  <a:pt x="1400" y="24785"/>
                </a:lnTo>
                <a:lnTo>
                  <a:pt x="20200" y="24785"/>
                </a:lnTo>
                <a:close/>
              </a:path>
              <a:path fill="lighten" w="21600" h="26185">
                <a:moveTo>
                  <a:pt x="0" y="26185"/>
                </a:moveTo>
                <a:lnTo>
                  <a:pt x="0" y="0"/>
                </a:lnTo>
                <a:lnTo>
                  <a:pt x="1400" y="1400"/>
                </a:lnTo>
                <a:lnTo>
                  <a:pt x="1400" y="24785"/>
                </a:lnTo>
                <a:close/>
              </a:path>
              <a:path fill="darken" w="21600" h="26185">
                <a:moveTo>
                  <a:pt x="7301" y="13093"/>
                </a:moveTo>
                <a:lnTo>
                  <a:pt x="17806" y="6086"/>
                </a:lnTo>
                <a:lnTo>
                  <a:pt x="17806" y="20099"/>
                </a:lnTo>
                <a:close/>
              </a:path>
              <a:path fill="darken" w="21600" h="26185">
                <a:moveTo>
                  <a:pt x="3794" y="6086"/>
                </a:moveTo>
                <a:lnTo>
                  <a:pt x="5456" y="6086"/>
                </a:lnTo>
                <a:lnTo>
                  <a:pt x="5456" y="20099"/>
                </a:lnTo>
                <a:lnTo>
                  <a:pt x="3794" y="20099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1" descr=""/>
          <p:cNvPicPr/>
          <p:nvPr/>
        </p:nvPicPr>
        <p:blipFill>
          <a:blip r:embed="rId9"/>
          <a:stretch/>
        </p:blipFill>
        <p:spPr>
          <a:xfrm>
            <a:off x="3200400" y="228600"/>
            <a:ext cx="18288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shakespeare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295280" y="2057400"/>
            <a:ext cx="3264120" cy="38098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356120" y="685800"/>
            <a:ext cx="692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William Shakespeare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(1564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61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258880" y="2057400"/>
            <a:ext cx="240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154 sonne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492600" y="44197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维纳斯与阿多尼斯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877640" y="3581280"/>
            <a:ext cx="36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Venus and Adon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>
            <a:hlinkClick r:id="rId3" action="ppaction://hlinksldjump"/>
          </p:cNvPr>
          <p:cNvSpPr/>
          <p:nvPr/>
        </p:nvSpPr>
        <p:spPr>
          <a:xfrm>
            <a:off x="6477120" y="5257800"/>
            <a:ext cx="509400" cy="50976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3794" y="10808"/>
                </a:moveTo>
                <a:lnTo>
                  <a:pt x="17806" y="3801"/>
                </a:lnTo>
                <a:lnTo>
                  <a:pt x="17806" y="17814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>
            <a:hlinkClick r:id="rId1" action="ppaction://hlinksldjump"/>
          </p:cNvPr>
          <p:cNvSpPr/>
          <p:nvPr/>
        </p:nvSpPr>
        <p:spPr>
          <a:xfrm>
            <a:off x="1371600" y="1523880"/>
            <a:ext cx="6708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1. Can you name some famou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Chinese poets 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1288800" y="2438280"/>
            <a:ext cx="640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2.  Do you know any English poets 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81800" y="457200"/>
            <a:ext cx="5538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Times New Roman"/>
              </a:rPr>
              <a:t>English Poetry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297180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3. Whose poetry reminds Chinese reade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of Du Fu or Li Bai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12840" y="3962520"/>
            <a:ext cx="546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4. Why do people read poetry 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4495680"/>
            <a:ext cx="694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5. What makes poetry difficult to write 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but very interesting to read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19320" y="5410080"/>
            <a:ext cx="7026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6. What are some of the features that al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good poetry has in common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2177640" y="730080"/>
            <a:ext cx="527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John Donne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(1572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63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07680" y="2438280"/>
            <a:ext cx="200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The Fle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559280" y="25909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跳蚤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16280" y="44956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海上风暴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1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3343320" cy="39625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5183280" y="3733920"/>
            <a:ext cx="278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Storm At Se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rId2" action="ppaction://hlinksldjump"/>
          </p:cNvPr>
          <p:cNvSpPr/>
          <p:nvPr/>
        </p:nvSpPr>
        <p:spPr>
          <a:xfrm>
            <a:off x="6477120" y="5257800"/>
            <a:ext cx="509400" cy="50976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3794" y="10808"/>
                </a:moveTo>
                <a:lnTo>
                  <a:pt x="17806" y="3801"/>
                </a:lnTo>
                <a:lnTo>
                  <a:pt x="17806" y="17814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117880" y="609480"/>
            <a:ext cx="52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John Milto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(1608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67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82760" y="26668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《失乐园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726440" y="1981080"/>
            <a:ext cx="287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Paradise Los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959080" y="40384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《复乐园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187680" y="55627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《力士参孙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03120" y="3352680"/>
            <a:ext cx="38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Paradise Regaine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801680" y="4724280"/>
            <a:ext cx="362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Samson Agonis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8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2776680" cy="3594240"/>
          </a:xfrm>
          <a:prstGeom prst="rect">
            <a:avLst/>
          </a:prstGeom>
          <a:ln w="0">
            <a:noFill/>
          </a:ln>
        </p:spPr>
      </p:pic>
      <p:sp>
        <p:nvSpPr>
          <p:cNvPr id="246" name="">
            <a:hlinkClick r:id="rId2" action="ppaction://hlinksldjump"/>
          </p:cNvPr>
          <p:cNvSpPr/>
          <p:nvPr/>
        </p:nvSpPr>
        <p:spPr>
          <a:xfrm>
            <a:off x="7543800" y="5562720"/>
            <a:ext cx="509760" cy="50940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10800"/>
                </a:moveTo>
                <a:lnTo>
                  <a:pt x="17814" y="3794"/>
                </a:lnTo>
                <a:lnTo>
                  <a:pt x="17814" y="17806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737720" y="838080"/>
            <a:ext cx="593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Alexander Pope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(1688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74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559280" y="33526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《批评论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416280" y="50292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《致阿勃斯诺特医生书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035400" y="26668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人论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420080" y="1981080"/>
            <a:ext cx="366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An Essay on Ma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4" descr=""/>
          <p:cNvPicPr/>
          <p:nvPr/>
        </p:nvPicPr>
        <p:blipFill>
          <a:blip r:embed="rId1"/>
          <a:stretch/>
        </p:blipFill>
        <p:spPr>
          <a:xfrm>
            <a:off x="1523880" y="2133720"/>
            <a:ext cx="2492640" cy="372096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4345560" y="3200400"/>
            <a:ext cx="26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On Critic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345920" y="4267080"/>
            <a:ext cx="429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To Doctor Abothnot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>
            <a:hlinkClick r:id="rId2" action="ppaction://hlinksldjump"/>
          </p:cNvPr>
          <p:cNvSpPr/>
          <p:nvPr/>
        </p:nvSpPr>
        <p:spPr>
          <a:xfrm>
            <a:off x="6477120" y="5715000"/>
            <a:ext cx="509400" cy="50976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3794" y="10808"/>
                </a:moveTo>
                <a:lnTo>
                  <a:pt x="17806" y="3801"/>
                </a:lnTo>
                <a:lnTo>
                  <a:pt x="17806" y="17814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449360" y="533520"/>
            <a:ext cx="70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</a:rPr>
              <a:t>William Wordsworth</a:t>
            </a:r>
            <a:r>
              <a:rPr b="1" i="1" lang="en-US" sz="36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(1770—1850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wordsworth1" descr=""/>
          <p:cNvPicPr/>
          <p:nvPr/>
        </p:nvPicPr>
        <p:blipFill>
          <a:blip r:embed="rId1"/>
          <a:stretch/>
        </p:blipFill>
        <p:spPr>
          <a:xfrm>
            <a:off x="1143000" y="2209680"/>
            <a:ext cx="3139920" cy="352116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6035400" y="35812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黄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漫步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497480" y="2743200"/>
            <a:ext cx="364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An Evening Walk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04920" y="3314880"/>
            <a:ext cx="6732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407000" y="47242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序曲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498200" y="4572000"/>
            <a:ext cx="261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The Prelud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>
            <a:hlinkClick r:id="rId2" action="ppaction://hlinksldjump"/>
          </p:cNvPr>
          <p:cNvSpPr/>
          <p:nvPr/>
        </p:nvSpPr>
        <p:spPr>
          <a:xfrm>
            <a:off x="5943600" y="5562720"/>
            <a:ext cx="509760" cy="50940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10800"/>
                </a:moveTo>
                <a:lnTo>
                  <a:pt x="17814" y="3794"/>
                </a:lnTo>
                <a:lnTo>
                  <a:pt x="17814" y="17806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2345760" y="609480"/>
            <a:ext cx="504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John Keats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(1795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82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102080" y="22860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《伊萨贝拉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497480" y="2133720"/>
            <a:ext cx="179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Isabell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111360" y="40384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《夜莺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421880" y="335268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Ode to a Nightinga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330680" y="48769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《秋颂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421160" y="4724280"/>
            <a:ext cx="235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To Autum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keat4" descr=""/>
          <p:cNvPicPr/>
          <p:nvPr/>
        </p:nvPicPr>
        <p:blipFill>
          <a:blip r:embed="rId1"/>
          <a:stretch/>
        </p:blipFill>
        <p:spPr>
          <a:xfrm>
            <a:off x="1295280" y="2057400"/>
            <a:ext cx="2803680" cy="3581280"/>
          </a:xfrm>
          <a:prstGeom prst="rect">
            <a:avLst/>
          </a:prstGeom>
          <a:ln w="0">
            <a:noFill/>
          </a:ln>
        </p:spPr>
      </p:pic>
      <p:sp>
        <p:nvSpPr>
          <p:cNvPr id="273" name="">
            <a:hlinkClick r:id="rId2" action="ppaction://hlinksldjump"/>
          </p:cNvPr>
          <p:cNvSpPr/>
          <p:nvPr/>
        </p:nvSpPr>
        <p:spPr>
          <a:xfrm>
            <a:off x="6095880" y="5638680"/>
            <a:ext cx="509760" cy="50976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43360" y="533520"/>
            <a:ext cx="721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</a:rPr>
              <a:t>George Gordon Byro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(1788—1824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419720" y="2286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恰尔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哈罗尔德游记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721200" y="39625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唐璜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034880" y="2743200"/>
            <a:ext cx="452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The Vision of Judge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029200" y="3352680"/>
            <a:ext cx="24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审判的幻景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115520" y="3809880"/>
            <a:ext cx="207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Don Ju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034160" y="1752480"/>
            <a:ext cx="484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Childe Harold’s Pilgrim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12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2895480" cy="3810240"/>
          </a:xfrm>
          <a:prstGeom prst="rect">
            <a:avLst/>
          </a:prstGeom>
          <a:ln w="0">
            <a:noFill/>
          </a:ln>
        </p:spPr>
      </p:pic>
      <p:sp>
        <p:nvSpPr>
          <p:cNvPr id="282" name="">
            <a:hlinkClick r:id="rId2" action="ppaction://hlinksldjump"/>
          </p:cNvPr>
          <p:cNvSpPr/>
          <p:nvPr/>
        </p:nvSpPr>
        <p:spPr>
          <a:xfrm>
            <a:off x="7086600" y="5257800"/>
            <a:ext cx="509760" cy="50976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116600" y="4572000"/>
            <a:ext cx="308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Isles of Greec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724280" y="51814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哀希腊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4267080" y="4343400"/>
            <a:ext cx="4419720" cy="825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宋体"/>
              </a:rPr>
              <a:t>西风哟，如果冬天已经来到，春天还会遥远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  <a:ea typeface="宋体"/>
              </a:rPr>
              <a:t>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433160" y="685800"/>
            <a:ext cx="690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Percy Bysshe Shelley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(1792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82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800600" y="3048120"/>
            <a:ext cx="35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解放了的普罗米修斯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344120" y="2209680"/>
            <a:ext cx="433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Prometheus Unbou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63640" y="44956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西风颂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268880" y="3733920"/>
            <a:ext cx="426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Ode to the West Wi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711560" y="54864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《致云雀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345200" y="5334120"/>
            <a:ext cx="289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To a Sky-La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2" descr=""/>
          <p:cNvPicPr/>
          <p:nvPr/>
        </p:nvPicPr>
        <p:blipFill>
          <a:blip r:embed="rId1"/>
          <a:stretch/>
        </p:blipFill>
        <p:spPr>
          <a:xfrm>
            <a:off x="1295280" y="2286000"/>
            <a:ext cx="2867040" cy="3657600"/>
          </a:xfrm>
          <a:prstGeom prst="rect">
            <a:avLst/>
          </a:prstGeom>
          <a:ln w="0">
            <a:noFill/>
          </a:ln>
        </p:spPr>
      </p:pic>
      <p:sp>
        <p:nvSpPr>
          <p:cNvPr id="295" name="">
            <a:hlinkClick r:id="rId2" action="ppaction://hlinksldjump"/>
          </p:cNvPr>
          <p:cNvSpPr/>
          <p:nvPr/>
        </p:nvSpPr>
        <p:spPr>
          <a:xfrm>
            <a:off x="6172200" y="5943600"/>
            <a:ext cx="509760" cy="50976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2346120" y="609480"/>
            <a:ext cx="543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Robert Frost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(1874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96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806800" y="35053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波士顿以北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724280" y="2362320"/>
            <a:ext cx="260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少年的意志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730480" y="45720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山间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111360" y="57913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西去的溪流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269240" y="1676520"/>
            <a:ext cx="26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A Boy’s Wil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344480" y="2819520"/>
            <a:ext cx="334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North of Bost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267800" y="5105520"/>
            <a:ext cx="432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West-Running Brook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268520" y="3886200"/>
            <a:ext cx="375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Mountain Interv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frost1" descr=""/>
          <p:cNvPicPr/>
          <p:nvPr/>
        </p:nvPicPr>
        <p:blipFill>
          <a:blip r:embed="rId1"/>
          <a:stretch/>
        </p:blipFill>
        <p:spPr>
          <a:xfrm>
            <a:off x="1219320" y="2133720"/>
            <a:ext cx="2984400" cy="3657600"/>
          </a:xfrm>
          <a:prstGeom prst="rect">
            <a:avLst/>
          </a:prstGeom>
          <a:ln w="0">
            <a:noFill/>
          </a:ln>
        </p:spPr>
      </p:pic>
      <p:sp>
        <p:nvSpPr>
          <p:cNvPr id="306" name="">
            <a:hlinkClick r:id="rId2" action="ppaction://hlinksldjump"/>
          </p:cNvPr>
          <p:cNvSpPr/>
          <p:nvPr/>
        </p:nvSpPr>
        <p:spPr>
          <a:xfrm>
            <a:off x="7620120" y="5791320"/>
            <a:ext cx="509400" cy="50940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907640" y="685800"/>
            <a:ext cx="564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nswers to Question 3– 6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1676520"/>
            <a:ext cx="6873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3. William Wordsworth’s , Georg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Gordon Byron’s , John Keats’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274320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4. Reading poetry brings people fro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different places and different tim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together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4267080"/>
            <a:ext cx="6873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5. Poetry plays with sounds , words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grammar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43000" y="533412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6. The form is very important :the numb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     … </a:t>
            </a: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line . Poetry … rhythm and rhyme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772400" y="8380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9103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7257" y="3794"/>
                </a:lnTo>
                <a:lnTo>
                  <a:pt x="7257" y="17806"/>
                </a:lnTo>
                <a:lnTo>
                  <a:pt x="5595" y="17806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1066680" y="228600"/>
          <a:ext cx="7772400" cy="6278400"/>
        </p:xfrm>
        <a:graphic>
          <a:graphicData uri="http://schemas.openxmlformats.org/drawingml/2006/table">
            <a:tbl>
              <a:tblPr/>
              <a:tblGrid>
                <a:gridCol w="1905120"/>
                <a:gridCol w="2514600"/>
                <a:gridCol w="335268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Period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Famous Poet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Style of Poet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The 17</a:t>
                      </a:r>
                      <a:r>
                        <a:rPr b="1" i="1" lang="en-US" sz="2800" spc="-1" strike="noStrike" baseline="30000">
                          <a:solidFill>
                            <a:srgbClr val="990000"/>
                          </a:solidFill>
                          <a:latin typeface="Times New Roman"/>
                        </a:rPr>
                        <a:t>th</a:t>
                      </a:r>
                      <a:r>
                        <a:rPr b="1" i="1" lang="en-US" sz="2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 Centu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The 18</a:t>
                      </a:r>
                      <a:r>
                        <a:rPr b="1" i="1" lang="en-US" sz="2800" spc="-1" strike="noStrike" baseline="30000">
                          <a:solidFill>
                            <a:srgbClr val="990000"/>
                          </a:solidFill>
                          <a:latin typeface="Times New Roman"/>
                        </a:rPr>
                        <a:t>th</a:t>
                      </a:r>
                      <a:r>
                        <a:rPr b="1" i="1" lang="en-US" sz="2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 Centur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The 19</a:t>
                      </a:r>
                      <a:r>
                        <a:rPr b="1" i="1" lang="en-US" sz="2800" spc="-1" strike="noStrike" baseline="30000">
                          <a:solidFill>
                            <a:srgbClr val="990000"/>
                          </a:solidFill>
                          <a:latin typeface="Times New Roman"/>
                        </a:rPr>
                        <a:t>th</a:t>
                      </a:r>
                      <a:r>
                        <a:rPr b="1" i="1" lang="en-US" sz="2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 Centur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The 20</a:t>
                      </a:r>
                      <a:r>
                        <a:rPr b="1" i="1" lang="en-US" sz="2800" spc="-1" strike="noStrike" baseline="30000">
                          <a:solidFill>
                            <a:srgbClr val="990000"/>
                          </a:solidFill>
                          <a:latin typeface="Times New Roman"/>
                        </a:rPr>
                        <a:t>th</a:t>
                      </a:r>
                      <a:r>
                        <a:rPr b="1" i="1" lang="en-US" sz="2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 Centu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>
            <a:off x="3048120" y="914400"/>
            <a:ext cx="2225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Shakespeare , John Donne , John Milton 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973240" y="2743200"/>
            <a:ext cx="260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Alexander Po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71800" y="3657600"/>
            <a:ext cx="2514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Wordsworth , George Byron , John Keat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8480" y="548640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Robert Fro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803160"/>
            <a:ext cx="327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onnets , surprising images, absence of rhyme at the end of each li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62720" y="3657600"/>
            <a:ext cx="335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omantic poetry , nature poems , sonnets , long po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486400" y="5105520"/>
            <a:ext cx="3429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odern poetry , close to us both in the language and imag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259092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he finest poetry in Eng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755360" y="380880"/>
            <a:ext cx="550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Choose the best answer 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1143000"/>
            <a:ext cx="80773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1. Modern English came into being from about the end of the ________ century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. 16th        B. 17th        C. 18th        D. 19th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2. The poetry of John Donne reminds Chinese readers of the poems by ___________ 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. Du Fu      B. Li Bai    C. Su Dongpo  D. Guo Moru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3. Byron’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sles of Greece (1824)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is an example of ______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. a sonnet                    B. romantic poetry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C. nature poetry            D. modern poet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4. Which group of poets did not come from the same countr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. Li Bai , Wang Wei , and Su Dongpo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B. William Wordsworth , Robert Frost and Shakespeare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C. John Keats , John Donne , and John Milton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D. George Gordon Byron , Shakespeare and John Keats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2286000"/>
            <a:ext cx="1066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95280" y="5562720"/>
            <a:ext cx="7162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343400" y="4114800"/>
            <a:ext cx="2590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0" y="3352680"/>
            <a:ext cx="1828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" action="ppaction://hlinkshowjump?jump=nextslide"/>
          </p:cNvPr>
          <p:cNvSpPr/>
          <p:nvPr/>
        </p:nvSpPr>
        <p:spPr>
          <a:xfrm>
            <a:off x="7467480" y="5335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3794"/>
                </a:moveTo>
                <a:lnTo>
                  <a:pt x="20896" y="10800"/>
                </a:lnTo>
                <a:lnTo>
                  <a:pt x="6883" y="17806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990720" y="228600"/>
            <a:ext cx="81532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5. Whose poems do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have rhyme at the end of each line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. Wang Wei’s               B. Shakespeare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C. Su Dongpo’s              D. John Milton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6. Which is the correct order of time about the follow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English poets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. Shakespeare         Alexander Pope           John Don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B. John Donne          Alexander Pope            John Keats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C. William Wordsworth               George Gordon Byr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               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John Milt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D. John Milton                        Robert Frost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George Gordon By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7. The introduction of English poetry to China began _____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. at the start of the 20th centu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B. in the late 1930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C. at the end of the 19th centu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D. between 1910 and the 1930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76720" y="2362320"/>
            <a:ext cx="6858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5880" y="2362320"/>
            <a:ext cx="83844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2666880"/>
            <a:ext cx="6858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5880" y="2666880"/>
            <a:ext cx="9144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419720" y="3048120"/>
            <a:ext cx="10666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52480" y="3352680"/>
            <a:ext cx="106704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0" y="3809880"/>
            <a:ext cx="16002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52680" y="3809880"/>
            <a:ext cx="175284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71600" y="2819520"/>
            <a:ext cx="7086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23880" y="5715000"/>
            <a:ext cx="3962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724280" y="1371600"/>
            <a:ext cx="2286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" action="ppaction://hlinkshowjump?jump=nextslide"/>
          </p:cNvPr>
          <p:cNvSpPr/>
          <p:nvPr/>
        </p:nvSpPr>
        <p:spPr>
          <a:xfrm>
            <a:off x="7010280" y="5410080"/>
            <a:ext cx="609840" cy="6098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" action="ppaction://hlinkshowjump?jump=previousslide"/>
          </p:cNvPr>
          <p:cNvSpPr/>
          <p:nvPr/>
        </p:nvSpPr>
        <p:spPr>
          <a:xfrm>
            <a:off x="6324480" y="5410080"/>
            <a:ext cx="662040" cy="609840"/>
          </a:xfrm>
          <a:custGeom>
            <a:avLst/>
            <a:gdLst>
              <a:gd name="textAreaLeft" fmla="*/ 39240 w 662040"/>
              <a:gd name="textAreaRight" fmla="*/ 622800 w 6620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3448" h="21600">
                <a:moveTo>
                  <a:pt x="0" y="0"/>
                </a:moveTo>
                <a:lnTo>
                  <a:pt x="23448" y="0"/>
                </a:lnTo>
                <a:lnTo>
                  <a:pt x="23448" y="21600"/>
                </a:lnTo>
                <a:lnTo>
                  <a:pt x="0" y="21600"/>
                </a:lnTo>
                <a:close/>
              </a:path>
              <a:path fill="lightenLess" w="23448" h="21600">
                <a:moveTo>
                  <a:pt x="0" y="0"/>
                </a:moveTo>
                <a:lnTo>
                  <a:pt x="23448" y="0"/>
                </a:lnTo>
                <a:lnTo>
                  <a:pt x="22048" y="1400"/>
                </a:lnTo>
                <a:lnTo>
                  <a:pt x="1400" y="1400"/>
                </a:lnTo>
                <a:close/>
              </a:path>
              <a:path fill="darken" w="23448" h="21600">
                <a:moveTo>
                  <a:pt x="23448" y="0"/>
                </a:moveTo>
                <a:lnTo>
                  <a:pt x="23448" y="21600"/>
                </a:lnTo>
                <a:lnTo>
                  <a:pt x="22048" y="20200"/>
                </a:lnTo>
                <a:lnTo>
                  <a:pt x="22048" y="1400"/>
                </a:lnTo>
                <a:close/>
              </a:path>
              <a:path fill="darkenLess" w="23448" h="21600">
                <a:moveTo>
                  <a:pt x="234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48" y="20200"/>
                </a:lnTo>
                <a:close/>
              </a:path>
              <a:path fill="lighten" w="234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48" h="21600">
                <a:moveTo>
                  <a:pt x="4717" y="10800"/>
                </a:moveTo>
                <a:lnTo>
                  <a:pt x="18730" y="3794"/>
                </a:lnTo>
                <a:lnTo>
                  <a:pt x="18730" y="17806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914400" y="380880"/>
            <a:ext cx="8229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8. The wider public in China discovered English poetry at th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beginning of the ________ century 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. 17th          B. 18th         C. 19th          D. 20th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9. The advantage of reading English poetry in Chinese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translation is ______________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. that you have more choic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B. that something of the spirit is l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C. that you understand it bet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D. that you learn how to express yourself in new way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10. How is an English poem different from its Chine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translatio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. It will become more difficult to understand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B. Some of the information in the original poem is miss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C. The Chinese translation will offer readers much l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choice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D. Something of the spirit of the original poem will be lost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53080" y="1523880"/>
            <a:ext cx="10670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00200" y="3352680"/>
            <a:ext cx="3962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47920" y="6248520"/>
            <a:ext cx="72388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" action="ppaction://hlinkshowjump?jump=previousslide"/>
          </p:cNvPr>
          <p:cNvSpPr/>
          <p:nvPr/>
        </p:nvSpPr>
        <p:spPr>
          <a:xfrm>
            <a:off x="7162920" y="2438280"/>
            <a:ext cx="662040" cy="609840"/>
          </a:xfrm>
          <a:custGeom>
            <a:avLst/>
            <a:gdLst>
              <a:gd name="textAreaLeft" fmla="*/ 39240 w 662040"/>
              <a:gd name="textAreaRight" fmla="*/ 622800 w 6620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3448" h="21600">
                <a:moveTo>
                  <a:pt x="0" y="0"/>
                </a:moveTo>
                <a:lnTo>
                  <a:pt x="23448" y="0"/>
                </a:lnTo>
                <a:lnTo>
                  <a:pt x="23448" y="21600"/>
                </a:lnTo>
                <a:lnTo>
                  <a:pt x="0" y="21600"/>
                </a:lnTo>
                <a:close/>
              </a:path>
              <a:path fill="lightenLess" w="23448" h="21600">
                <a:moveTo>
                  <a:pt x="0" y="0"/>
                </a:moveTo>
                <a:lnTo>
                  <a:pt x="23448" y="0"/>
                </a:lnTo>
                <a:lnTo>
                  <a:pt x="22048" y="1400"/>
                </a:lnTo>
                <a:lnTo>
                  <a:pt x="1400" y="1400"/>
                </a:lnTo>
                <a:close/>
              </a:path>
              <a:path fill="darken" w="23448" h="21600">
                <a:moveTo>
                  <a:pt x="23448" y="0"/>
                </a:moveTo>
                <a:lnTo>
                  <a:pt x="23448" y="21600"/>
                </a:lnTo>
                <a:lnTo>
                  <a:pt x="22048" y="20200"/>
                </a:lnTo>
                <a:lnTo>
                  <a:pt x="22048" y="1400"/>
                </a:lnTo>
                <a:close/>
              </a:path>
              <a:path fill="darkenLess" w="23448" h="21600">
                <a:moveTo>
                  <a:pt x="234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48" y="20200"/>
                </a:lnTo>
                <a:close/>
              </a:path>
              <a:path fill="lighten" w="234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48" h="21600">
                <a:moveTo>
                  <a:pt x="4717" y="10800"/>
                </a:moveTo>
                <a:lnTo>
                  <a:pt x="18730" y="3794"/>
                </a:lnTo>
                <a:lnTo>
                  <a:pt x="18730" y="17806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679040" y="609480"/>
            <a:ext cx="66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Times New Roman"/>
              </a:rPr>
              <a:t>Main Idea of Each Paragraph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44440" y="1676520"/>
            <a:ext cx="1819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Para 1 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Para 2 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Para 3 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Para 4 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Para 5 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Para 6 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Para 7 :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19880" y="1828800"/>
            <a:ext cx="28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hy we read poetry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19520" y="2362320"/>
            <a:ext cx="35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hinese poets and poetry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19520" y="2895480"/>
            <a:ext cx="28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arly English poets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19160" y="3429000"/>
            <a:ext cx="42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 19th century English poets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20240" y="3962520"/>
            <a:ext cx="31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odern English poets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17720" y="4572000"/>
            <a:ext cx="584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 introduction of English poetry to Chins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19520" y="510552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hy more people are interested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nglish poetry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670760" y="762120"/>
            <a:ext cx="63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hat do the words in bold refer to 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0480" y="1676520"/>
            <a:ext cx="27165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That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i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their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they (Para 5 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they (Para 7 )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5640" y="1752480"/>
            <a:ext cx="60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oetry plays with sounds, words and gramm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79640" y="2743200"/>
            <a:ext cx="383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 history of English poet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363760" y="3733920"/>
            <a:ext cx="46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rdsworth’s , Byron’s and Keats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10960" y="4648320"/>
            <a:ext cx="197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odern poe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732480" y="5715000"/>
            <a:ext cx="28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oems and literat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09:15:15Z</dcterms:created>
  <dc:creator>huanglan</dc:creator>
  <dc:description/>
  <dc:language>en-US</dc:language>
  <cp:lastModifiedBy>huanglan</cp:lastModifiedBy>
  <dcterms:modified xsi:type="dcterms:W3CDTF">2004-10-19T04:28:14Z</dcterms:modified>
  <cp:revision>18</cp:revision>
  <dc:subject/>
  <dc:title>PowerPoint 演示文稿</dc:title>
</cp:coreProperties>
</file>