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APPLAUSE.WAV" ContentType="audio/x-wav"/>
  <Override PartName="/ppt/media/image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CLAP.WAV" ContentType="audio/x-wav"/>
  <Override PartName="/ppt/media/image2.png" ContentType="image/png"/>
  <Override PartName="/ppt/media/image1.png" ContentType="image/png"/>
  <Override PartName="/ppt/media/image7.png" ContentType="image/png"/>
  <Override PartName="/ppt/media/DRUMROLL.WAV" ContentType="audio/x-wav"/>
  <Override PartName="/ppt/media/image11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TIMBALES.WAV" ContentType="audio/x-wav"/>
  <Override PartName="/ppt/media/ISRAELFL.WAV" ContentType="audio/x-wav"/>
  <Override PartName="/ppt/media/image13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DBE7-243F-49D3-A2CE-CF1873C7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012-7BAE-439F-B825-B72EF224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2D5D-2F8A-43E3-AAEC-0D85EB2D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753B-4371-46DB-A8C4-82A678D8B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B85E-34A1-4AB6-A7ED-7062829A4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955E-CEF8-450A-AE78-9C65E495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321C-03D1-4ECA-970B-1777AE3A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2B78-F81D-48DF-ADA2-6F3044A6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A901-EEDD-4879-B38E-E69B70B8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A60A-9550-45CB-9DD7-3B93C9C5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1855-2391-4A86-8895-97673B5C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16F-A004-407E-BA14-E470CF61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8AB4-F0E7-4D19-BDCE-EE4F46E5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2F08-0345-48DC-AA61-1BA12178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3604-CABD-4205-919A-63803B60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2361-FFEA-486A-9A15-C81ACE0E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91CC-C22F-4724-BB8E-44AE2AE2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D9A-1B53-4FAD-8711-C6F6E5F1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668-0FB9-4578-9721-BC88A13C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6D8-06EF-4579-A1BB-D06AF6E6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DF3-0D7C-43F5-B28B-D8CB6752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F2C0-9B26-49D9-BA40-C513E8A9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D5E-FB20-45C4-84E4-2DDB2CBA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0D3-BBFA-451E-AEBC-5475A05C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2898-7A7D-487F-97CF-A1AB171E862F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999E-2065-4DD0-B9DE-363DFBC73427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audio" Target="../media/TIMBAL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audio" Target="../media/TIMBAL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../media/ISRAELFL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371600" y="9907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Gymnastic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81280" y="3808440"/>
            <a:ext cx="41911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Men’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00400" y="608796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幻灯片编辑制作   范文林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1828800" y="835200"/>
          <a:ext cx="6321600" cy="52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5200"/>
                    <a:ext cx="6321600" cy="52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11360" y="1930320"/>
            <a:ext cx="82296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gymnast performs swing, handstand and other movements on the parallel bars. He also does holding positions which require him to remain motionless for one or two second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508200" y="0"/>
          <a:ext cx="247032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0"/>
                    <a:ext cx="247032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1908000" y="1063800"/>
          <a:ext cx="5943600" cy="50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063800"/>
                    <a:ext cx="5943600" cy="50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219320" y="2208240"/>
            <a:ext cx="73911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the horizontal upper bar, the gymnast must perform acrobatic moves without coming to a stop.  The exercise ends with a dismount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508200" y="57240"/>
          <a:ext cx="2206800" cy="18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57240"/>
                    <a:ext cx="220680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371600" y="9907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Gymnastics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3808440"/>
            <a:ext cx="274320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Times New Roman"/>
              </a:rPr>
              <a:t>Women’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978200" y="1063800"/>
          <a:ext cx="5873400" cy="50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8200" y="1063800"/>
                    <a:ext cx="587340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TIMBAL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295280" y="213516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women’s vault uses the same equipment as the men’s vault.  However, women gymnasts vault across the horses width rather than its length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578400" y="46080"/>
          <a:ext cx="198720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8400" y="46080"/>
                    <a:ext cx="198720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828800" y="993600"/>
          <a:ext cx="6022800" cy="51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3600"/>
                    <a:ext cx="6022800" cy="51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TIMBAL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19320" y="2514600"/>
            <a:ext cx="70866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uneven parallel bars event requires the gymnast to execute difficult maneuvers on both bars while in constant motion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581280" y="50760"/>
          <a:ext cx="205740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0760"/>
                    <a:ext cx="205740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828800" y="1143000"/>
          <a:ext cx="6093000" cy="50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43000"/>
                    <a:ext cx="609300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1600200" y="685800"/>
          <a:ext cx="6480000" cy="563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685800"/>
                    <a:ext cx="6480000" cy="56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3000" y="2235240"/>
            <a:ext cx="7391520" cy="35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On the balance beam, the gymnast tries to use the entire length of the beam.  The advanced gymnast may perform somersaults, backhandswheel or cartwheel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63360"/>
          <a:ext cx="198144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63360"/>
                    <a:ext cx="198144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908000" y="1143000"/>
          <a:ext cx="6013800" cy="499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143000"/>
                    <a:ext cx="601380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447920" y="2665440"/>
            <a:ext cx="70866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In the floor exercise, the gymnast demonstrates her skills of acrobatics, tumbling and dancing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657600" y="0"/>
          <a:ext cx="2133720" cy="19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0"/>
                    <a:ext cx="213372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"/>
          <p:cNvGraphicFramePr/>
          <p:nvPr/>
        </p:nvGraphicFramePr>
        <p:xfrm>
          <a:off x="1828800" y="1063800"/>
          <a:ext cx="6093000" cy="52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3800"/>
                    <a:ext cx="6093000" cy="52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APPLAUS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219320" y="220968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Rhythmic gymnasts are judged on the grace and difficulty of various maneuvers performed with equipment such as a ribbon, clubs or a hoop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3886200" y="0"/>
          <a:ext cx="205740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0"/>
                    <a:ext cx="205740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ISRAELFL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666880" y="2592360"/>
            <a:ext cx="426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8000" spc="-1" strike="noStrike">
                <a:solidFill>
                  <a:srgbClr val="003366"/>
                </a:solidFill>
                <a:latin typeface="Times New Roman"/>
              </a:rPr>
              <a:t>The End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52680" y="6172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Times New Roman"/>
              </a:rPr>
              <a:t>幻灯片编辑制作   范文林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143000" y="2268360"/>
            <a:ext cx="739152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i="1" lang="zh-CN" sz="4800" spc="-1" strike="noStrike">
                <a:solidFill>
                  <a:srgbClr val="003366"/>
                </a:solidFill>
                <a:latin typeface="Times New Roman"/>
              </a:rPr>
              <a:t>In a floor exercise a gymnast must perform continuous series movements that require flexibility, balance and strength.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657600" y="22320"/>
          <a:ext cx="217188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2320"/>
                    <a:ext cx="21718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1679400" y="914400"/>
          <a:ext cx="6046920" cy="521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914400"/>
                    <a:ext cx="6046920" cy="52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066680" y="1981080"/>
            <a:ext cx="762012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 a pommel horse,  the gymnast must support his weight entirely with his hands while performing a series of swing maneuvers.  This maneuver is known as the scissors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736800" y="11160"/>
          <a:ext cx="2195640" cy="189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6800" y="11160"/>
                    <a:ext cx="2195640" cy="18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1600200" y="835200"/>
          <a:ext cx="6321600" cy="51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835200"/>
                    <a:ext cx="632160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295280" y="2208240"/>
            <a:ext cx="731520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On  the ring exercise, the gymnast must try to keep the rings motionless, while he executes a number of difficult maneuvers with his body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508200" y="0"/>
          <a:ext cx="2514600" cy="19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8200" y="0"/>
                    <a:ext cx="2514600" cy="19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1828800" y="993600"/>
          <a:ext cx="6411960" cy="521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93600"/>
                    <a:ext cx="6411960" cy="52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CLAP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295280" y="2208240"/>
            <a:ext cx="693432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4800" spc="-1" strike="noStrike">
                <a:solidFill>
                  <a:srgbClr val="003366"/>
                </a:solidFill>
                <a:latin typeface="Times New Roman"/>
              </a:rPr>
              <a:t>The man’s vault uses the same equipment as the women’s vault.  However, men gymnasts vault across the horse’s length rather than its width.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578400" y="0"/>
          <a:ext cx="2215800" cy="19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8400" y="0"/>
                    <a:ext cx="22158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  <p:sndAc>
      <p:stSnd>
        <p:snd r:embed="rId3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9:36:30Z</dcterms:created>
  <dc:creator>ll</dc:creator>
  <dc:description/>
  <dc:language>en-US</dc:language>
  <cp:lastModifiedBy>fan</cp:lastModifiedBy>
  <dcterms:modified xsi:type="dcterms:W3CDTF">2001-03-19T11:01:59Z</dcterms:modified>
  <cp:revision>123</cp:revision>
  <dc:subject/>
  <dc:title>Gymnastics</dc:title>
</cp:coreProperties>
</file>