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EBB-CFDD-4CE4-BF38-BABA0D5D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B35-E16D-4652-A6D6-DBC65A02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B4D-68AD-4AA0-A2F9-39A2D67A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DB0-1141-469A-90FB-0B2AAF54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B7F8-3803-4130-909F-2F0B54E1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540E-7F3E-4063-9BFD-E085C2C1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27B6-05D9-4BAD-A252-A64D0DD6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2183-E120-4EA5-B74B-2C75C3A5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9900-CF9F-4BA7-94A7-3AC7F935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90BC-11C5-4C66-99A5-C1DE76BB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416A-EF1C-4772-AACD-997BAA98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AA0-5DEF-47BC-8DB2-D288638F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8AA6-1260-4379-BAE6-A944160E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2A80-8FA0-4565-8134-83DE1453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217E-7763-452F-B0DD-173ECCC4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FE90-2DD9-4BA9-B415-59674A90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77E8-CB77-4501-B42D-C92A3949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525-829E-47EC-A50B-A3CED479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9DC-396D-403C-90C1-ECC450BC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62A-8568-46BD-9CEA-6DCC7911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380-7D8B-4948-8BA7-4EFBA01A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01C-F5EA-483F-9C8F-E96629EE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CD7-55D3-4BCB-BF51-BA7D32E4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E69-605C-4BED-982B-E1818B84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3399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9C02-DAE5-49AA-B81B-9F277B7B56D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3399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6672-C247-456F-8FDF-D811D168F79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1BU21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Karl  Marx   (B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7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二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凌蕙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123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341360"/>
            <a:ext cx="7696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before long (Par.2—L3) ;  s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hospital will be set up in my home town before lo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378936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这本书很快就要写完了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724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ook will be finished before lo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105264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 keep on doing (Par.4—L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eep on trying, and you’ll make greater progres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33577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ff"/>
                </a:solidFill>
                <a:latin typeface="宋体"/>
              </a:rPr>
              <a:t>他在会上一言不发，只是一个劲地抽烟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00536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didn't say anything at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eeting but kept on smokin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4842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. in one’s fifties (Par.5—L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Both my parents are in their seventies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382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四十多岁时当上了校长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443700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became the headmistress in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ti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44792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 be sure of /about (Par.3—L1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sure of /about the dat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3141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我说不准他的电话号码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9264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not sure of his telephone numb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4479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 translate…into…(Par.6—L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late the following sent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o English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6878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的书已经被译成了好几种语言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4365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r book has been translated into several languag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句型：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3280" y="1052640"/>
            <a:ext cx="7238880" cy="1477080"/>
            <a:chOff x="1403280" y="1052640"/>
            <a:chExt cx="7238880" cy="1477080"/>
          </a:xfrm>
        </p:grpSpPr>
        <p:sp>
          <p:nvSpPr>
            <p:cNvPr id="187" name=""/>
            <p:cNvSpPr/>
            <p:nvPr/>
          </p:nvSpPr>
          <p:spPr>
            <a:xfrm>
              <a:off x="1479600" y="1052640"/>
              <a:ext cx="71625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find sth.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Times New Roman"/>
                </a:rPr>
                <a:t>adj.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  (dialogue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find it + </a:t>
              </a:r>
              <a:r>
                <a:rPr b="1" i="1" lang="zh-CN" sz="3600" spc="-1" strike="noStrike">
                  <a:solidFill>
                    <a:srgbClr val="ffffff"/>
                  </a:solidFill>
                  <a:latin typeface="Times New Roman"/>
                </a:rPr>
                <a:t>adj.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 + to do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3280" y="13572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900000" y="270828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ind listening really difficult for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ind English idioms har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emb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句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find sth.+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(dialogu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find it +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+ to 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fin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i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interesting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lk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eigners in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think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necessar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ell h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tru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184464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句型：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26920" y="1052640"/>
            <a:ext cx="7620120" cy="1384200"/>
            <a:chOff x="826920" y="1052640"/>
            <a:chExt cx="7620120" cy="1384200"/>
          </a:xfrm>
        </p:grpSpPr>
        <p:sp>
          <p:nvSpPr>
            <p:cNvPr id="195" name=""/>
            <p:cNvSpPr/>
            <p:nvPr/>
          </p:nvSpPr>
          <p:spPr>
            <a:xfrm>
              <a:off x="903240" y="1052640"/>
              <a:ext cx="75438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o…+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adj./adv.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+ that…   (Par.2—L3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uch…+ 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n.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+ that…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6920" y="135720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00000" y="2852640"/>
            <a:ext cx="7620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book is so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goo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I w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read it ag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such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 good boo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I want to read it agai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765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她起得太晚了结果没赶上校车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4842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got up so late that she miss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chool b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3141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他是个非常马虎的人，经常丢钥匙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39337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is such a careless person 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often loses his key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00000" y="907920"/>
            <a:ext cx="7925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变化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is is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 good a book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at I want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ad it ag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意：如果没有冠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则不能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变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0" y="1474920"/>
            <a:ext cx="62485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Unit 21   Karl  Mar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二讲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71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例：与“多少”连用时，只能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 + many / much / little / few +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ere were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 many peopl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on the bu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that I could hardly m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155736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Was the job difficul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No, I found it quite ___to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easily     B. hard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easy       D. hard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84720" y="23493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1197000"/>
            <a:ext cx="754380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Which of the following wo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another way of say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use ... freely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get                 B. master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understand    D. cat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5334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16280"/>
            <a:ext cx="7467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He began to work as a doctor in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the twenty    B. the twenty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his twenty     D. his twen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2666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1197000"/>
            <a:ext cx="7620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He has made _____ that we are al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rpris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such great progres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such a great prog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o great progress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so great a progres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1197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733400"/>
            <a:ext cx="7467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Could you give me some advi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 how to impro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wri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of     B. on     C. in     D. f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219320" y="501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巩固性练习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557360"/>
            <a:ext cx="8076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 ----Did you see Jack at the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No, he___ by the time I___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had left; got         B. left; had got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was leaving; g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had left; had g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916360" y="2349360"/>
            <a:ext cx="3961800" cy="642600"/>
            <a:chOff x="2916360" y="2349360"/>
            <a:chExt cx="3961800" cy="642600"/>
          </a:xfrm>
        </p:grpSpPr>
        <p:sp>
          <p:nvSpPr>
            <p:cNvPr id="222" name=""/>
            <p:cNvSpPr/>
            <p:nvPr/>
          </p:nvSpPr>
          <p:spPr>
            <a:xfrm>
              <a:off x="2916360" y="2349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45000" y="23493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333360"/>
            <a:ext cx="883944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What do you find hardest i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English?          (listening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Why do you think it is hard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 speak fast, can’t understan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Have you ever got high gr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n    listening test?      (never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692280"/>
            <a:ext cx="8839080" cy="55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How would you like to improve it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listen to some English tape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ch English program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n TV, practice you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wn pronunciat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写作入门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do you think of the      result of   your effort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4130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have a talk with (P25--L1);  talk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a rest = res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ke a walk = walk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y a visit = vis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4653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/ May I have a talk with you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76520" y="1371600"/>
            <a:ext cx="655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28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0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1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8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268280"/>
            <a:ext cx="761976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come across (P25--L1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et with; happen to meet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et by accid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reading the story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came across the word many tim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短语： 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前两天我在车上遇到我以前的一个同学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other day I came across a former classmate of mine on the bus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844640"/>
            <a:ext cx="762012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force somebody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 d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th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Par.1—L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ake sb.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 didn’t want to go, but they forc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me to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10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短语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他不愿意做就不要强迫他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force him to do it if he doesn'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 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e sb. d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, but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b. be made to d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was made to work overtime by his boss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193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短语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815328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make progress (Par.2—L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progres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可数，不用冠词，但可加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容词修饰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good/great/much progres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429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短语：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give advice on (Par.6—L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dvic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可数，不用冠词，但可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饰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My parents often gave me some ad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n how to get along with other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8:04:24Z</dcterms:created>
  <dc:creator>User</dc:creator>
  <dc:description/>
  <dc:language>en-US</dc:language>
  <cp:lastModifiedBy>Zhang Lingdi</cp:lastModifiedBy>
  <dcterms:modified xsi:type="dcterms:W3CDTF">2003-06-10T14:21:17Z</dcterms:modified>
  <cp:revision>70</cp:revision>
  <dc:subject/>
  <dc:title>PowerPoint 演示文稿</dc:title>
</cp:coreProperties>
</file>