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2632-0778-4BB3-AEC1-C4C8950C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5A44-DE74-4305-B4EE-BE32055E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87FF-505F-4A4E-AB39-D7838386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5ED8-02B7-4A78-969C-CFDDCD1A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19DF-E7D9-4C39-8123-4DBFE94F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C681-04F1-46F0-ACB6-FB7EEFCE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A54B-D585-439C-AE7B-89DF8555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42BE-19B0-4430-879D-D306F88C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A2E7-B7B4-4817-B0CD-6CCBE9F6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16E9-BCAE-4572-AC27-72A59940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1FBC-28F3-4D78-9C72-F4A5E26C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FB01-C3CA-4CAA-A5AF-92A60659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8A7E-AF5E-4061-8EB1-56587C19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8AE1-4D08-40AB-973E-DB165AA4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5EFF-7AAA-4928-B03A-7F817ED9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16DF-7280-47F8-A357-159E9A24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6BF4-2DAC-4A86-A882-78609E4B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59FA-95CC-4722-8217-A7295641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00DE-9B75-470F-82A8-120A589D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3497-AAC6-4D09-BB8F-0D5632FD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93D3-1CEA-4302-ACD4-D19B3787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005A-2059-43DB-BA25-10504B0B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6CC9-3A88-45C0-80D9-1CB3D65C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8B07-BD2D-4B1E-9E77-A41D2A23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23DF-DED5-446D-985F-D069D48958A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9331-BB00-449E-B19D-2E988BE351B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ids.alms.cz/aids/english/facts_2.htm#sex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aids.alms.cz/aids/english/facts_2.htm#blood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aids.alms.cz/aids/english/facts_2.htm#needle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aids.alms.cz/aids/english/facts_2.htm#mother" TargetMode="External"/><Relationship Id="rId9" Type="http://schemas.openxmlformats.org/officeDocument/2006/relationships/hyperlink" Target="http://aids.alms.cz/aids/english/facts_2.htm#mother" TargetMode="External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Arial"/>
              </a:rPr>
              <a:t>我的故事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深圳首位艾滋患者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: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一次好奇失去一切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HIV can be transmitted through unprotected sexual intercourse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3453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How HIV is transmitt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date, there are only four primary methods of transmiss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sexual intercourse (anal and vaginal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contaminated blood and blood products, tissues and organ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contaminated needles, syringes and other piercing instruments;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8"/>
              </a:rPr>
              <a:t>mother-to-child transmission (MTCT).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9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971640" y="266760"/>
            <a:ext cx="633708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How HIV is not transmitt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mily, friends and co-workers should not fear becoming infected with HIV through casual contact with an HIV-infected person at home, at work, or social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activities will not transmit the vir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shaking hands, hugging or kissing 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2782800" y="1916280"/>
            <a:ext cx="38959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coughing or sneezing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835280" y="2019240"/>
            <a:ext cx="62658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getting a mosquito or insect bite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258920" y="1481040"/>
            <a:ext cx="532908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sharing food, eating or drinking utensils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454120" y="1557360"/>
            <a:ext cx="4354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using drinking fountain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2519280" y="1628640"/>
            <a:ext cx="4356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using toilets or shower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2519280" y="1628640"/>
            <a:ext cx="455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他出生在湖南一个偏僻的农村山沟，家里祖祖辈辈才培养出他这么一个研究生，方圆几十里都曾以他为荣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然而，人生中仅有的一次“好奇”冒险，仅有的一次国外红灯区的性生活经历，他就染上了艾滋病。从此，他失去了工作，失去了家庭，失去了儿子，失去了住所，失去了亲朋好友，失去了他所拥有的一切。 </a:t>
            </a:r>
            <a:br>
              <a:rPr sz="4000"/>
            </a:b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dfdef6"/>
                </a:solidFill>
                <a:latin typeface="Arial"/>
              </a:rPr>
              <a:t>年前发现感染去年发病 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using a public phone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454120" y="1557360"/>
            <a:ext cx="46850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using public swimming pool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387520" y="1484280"/>
            <a:ext cx="4751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opening a door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387520" y="1484280"/>
            <a:ext cx="4751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他是深圳市第一个被发现感染艾滋病毒的患者，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992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年出国学习时在红灯区染病，去年开始发病。记者面前的李意辉（化名）懊悔万分，艾滋病毁掉了他的前程，毁掉了他的一切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77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Arial"/>
              </a:rPr>
              <a:t>山沟里出的名牌大学研究生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记者在东湖医院病房见到他时，李意辉看上去挺年轻，憨厚朴实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李意辉告诉记者，自己出生在湖南一个非常偏僻的农村，他靠着勤奋考上大学，又接着考上一所名牌大学读研究生，当时他是村里的骄傲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990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年，研究生毕业以后，李意辉来到了深圳。 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914400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Arial"/>
              </a:rPr>
              <a:t>赴英培训在红灯区染上艾滋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992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年初，李意辉被派赴英国学习一年。到了英国，对艾滋病并没有深刻认识、又是第一次出国的他，对什么都充满新奇。就因为好奇，李意辉走进了一家并不高档的高危红灯区经营场所，搭讪了一个非常诱人的金发碧眼的姑娘，可他却没有意识到她的危险，没有采取任何保护措施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李意辉说，就是这一次，他倒霉地感染上了艾滋。 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查出艾滋病毒后失去工作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家搬了一次又一次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忍痛离开妻儿一个人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曾在小岛生活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记者手记：他是一个好人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395280" y="446040"/>
            <a:ext cx="82803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1723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24000" y="247680"/>
            <a:ext cx="835164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</cp:lastModifiedBy>
  <dcterms:modified xsi:type="dcterms:W3CDTF">2004-10-02T03:34:54Z</dcterms:modified>
  <cp:revision>2</cp:revision>
  <dc:subject/>
  <dc:title>PowerPoint Presentation</dc:title>
</cp:coreProperties>
</file>