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2A5-6D18-40E8-B357-97D907A6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B4D-5051-4443-91A8-5CD6E66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D6C-4814-4563-893D-A3487A53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D9E-3E04-41D7-BB61-B01FAF74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FDCC-B9C7-4B77-A2C0-91A3D425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283F-7721-4CCF-955D-D6BFC75F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1C36-911B-43F8-A16D-2AE38A34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4BC8-9056-4FB1-AF40-06C4161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C4A9-29BD-4F3C-A368-1AC95690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93C-E4C6-41C9-A7E3-E93E48F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348D-223A-43C4-BABE-39E21E4B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9AA-A71E-4277-B5EB-8A274C15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EA92-2B58-4A56-A057-77E5D2E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1AD4-899C-4AB3-AE99-331881D7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0DEE-4D4E-4744-BF88-34C34338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377D-3231-4962-8153-E6BADF22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3FD0-6C9F-4E51-9F8F-2C796CD4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7F7-C92E-45BC-8275-9DE99416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C7A-3668-4781-904A-2C960601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C94-88D7-45E8-9763-B985385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954-852F-4860-917B-50E3EFCB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203-D4EC-4E79-B191-2630A99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5C4-645B-4ABB-99C0-9E781F4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5B8-B403-4348-A174-000BBDA8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7E81-E4BE-4E58-94D9-1F67C438D27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3464-3E82-493A-95B0-D859C85431B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pag41" descr=""/>
          <p:cNvPicPr/>
          <p:nvPr/>
        </p:nvPicPr>
        <p:blipFill>
          <a:blip r:embed="rId1"/>
          <a:stretch/>
        </p:blipFill>
        <p:spPr>
          <a:xfrm>
            <a:off x="1590840" y="1030320"/>
            <a:ext cx="5962320" cy="47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4800" spc="-1" strike="noStrike">
                <a:solidFill>
                  <a:srgbClr val="ffcc66"/>
                </a:solidFill>
                <a:latin typeface="Monotype Corsiva"/>
              </a:rPr>
              <a:t>That is all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thank you!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34920" y="249192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chen  long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Tai Shan Foreign   Language Sch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Guess : who is he or sh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e is an excellent </a:t>
            </a:r>
            <a:r>
              <a:rPr b="1" lang="zh-CN" sz="2800" spc="-1" strike="noStrike" u="sng">
                <a:solidFill>
                  <a:srgbClr val="ff1045"/>
                </a:solidFill>
                <a:uFillTx/>
                <a:latin typeface="Times New Roman"/>
              </a:rPr>
              <a:t>gymnast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won three golden Olympic Games medals, and now he works in International </a:t>
            </a:r>
            <a:r>
              <a:rPr b="1" i="1" lang="zh-CN" sz="3200" spc="-1" strike="noStrike" u="sng">
                <a:solidFill>
                  <a:srgbClr val="ff1045"/>
                </a:solidFill>
                <a:uFillTx/>
                <a:latin typeface="Times New Roman"/>
              </a:rPr>
              <a:t>Gymnastics</a:t>
            </a:r>
            <a:r>
              <a:rPr b="1" i="1" lang="zh-CN" sz="3200" spc="-1" strike="noStrike">
                <a:solidFill>
                  <a:srgbClr val="ff1045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Union . He runs a firm selling shoes and T-shirts and so 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李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In 1998, a young and beautiful Chinese girl was doing exercises on a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am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in the US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hen sh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lande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unfortunately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she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ell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over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hurt badly. Now she is a disabled on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桑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you like doing spor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If you hurt yourself, what will do at onc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see the doctor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use  special medicine 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rub down , put hot and cold cloth on the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damaged par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(hot-cloth-and –frozen-pea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The temperatures makes the blood move a,the damaged part begin to repai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66"/>
                </a:solidFill>
                <a:latin typeface="Ravie"/>
              </a:rPr>
              <a:t>isten and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1,What is the matter with Sharon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2,What does the doctor tell her to 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1  is that she has hurt her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隶书"/>
                <a:ea typeface="隶书"/>
              </a:rPr>
              <a:t>shoul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2  is that the doctor tells her to use a special treatment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o the questions with your partn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is Shar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id she hurt her shou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was she very   fortunate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es the doctor advise her to u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us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often does she must tak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think it is effecti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ymn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o exercises, high-and low bar, land,fell forward, too close,knocked into,fell ov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othing seriou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ut hot wet cloth one minute,frozen peas for one minute again and a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wice a day for a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You were sharon,tell th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 </a:t>
            </a: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practise with your partner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one to be sharon and one to be doc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ake (have )a look at s.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ave a walk/re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to do s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for s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8320" y="3504960"/>
            <a:ext cx="3048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AN02122_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601720" cy="26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If you were a patient at doctor’s ,and make  a dialogue with your friend.(</a:t>
            </a:r>
            <a:r>
              <a:rPr b="0" i="1" lang="en-US" sz="2800" spc="-1" strike="noStrike">
                <a:solidFill>
                  <a:srgbClr val="ffcc66"/>
                </a:solidFill>
                <a:latin typeface="Tw Cen MT Condensed Extra Bold"/>
              </a:rPr>
              <a:t>headache </a:t>
            </a: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…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E02716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772080" cy="35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DFPhonetic"/>
                <a:ea typeface="MingLiU"/>
              </a:rPr>
              <a:t>exercises to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ercises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c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1480" y="12949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14:11Z</dcterms:created>
  <dc:creator>陈金钱</dc:creator>
  <dc:description/>
  <dc:language>en-US</dc:language>
  <cp:lastModifiedBy>User</cp:lastModifiedBy>
  <dcterms:modified xsi:type="dcterms:W3CDTF">2004-03-15T14:44:52Z</dcterms:modified>
  <cp:revision>7</cp:revision>
  <dc:subject/>
  <dc:title>    Guess : who is he or she</dc:title>
</cp:coreProperties>
</file>