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4.png" ContentType="image/pn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3841-C1B2-4271-B8C0-DA7B26C5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F9A9-AD76-4DBC-99BC-C0C506B3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2D7-BA34-4304-8016-7C6C4CE0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A114-3DEA-4D59-A9F5-01F2E92E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897-1A9F-44F8-A33B-21CDD1C1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3A4-65DA-4722-8EC3-B9043861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7CA-C0FD-42E0-AD64-B6E2D135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DFEB-118F-4684-9C46-C7ABA47A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A329-6FD1-4661-9F39-EE4A8F1C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28C-163E-47F0-B4BE-E6F8548D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817C-9FC3-4F97-86AA-B1598C23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6D8-F081-490D-B203-637C79A4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9F6DD-0F16-4939-B189-138DB20C34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1257400">
            <a:off x="3635280" y="529704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创作者</a:t>
            </a:r>
            <a:r>
              <a:rPr b="0" lang="zh-CN" sz="4000" spc="-1" strike="noStrike">
                <a:solidFill>
                  <a:srgbClr val="3366ff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rot="21409200">
            <a:off x="5724000" y="4436640"/>
            <a:ext cx="173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 Black"/>
                <a:ea typeface="华文行楷"/>
              </a:rPr>
              <a:t>毕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 rot="20542200">
            <a:off x="2050920" y="9810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Welcome to our class !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 rot="1506600">
            <a:off x="931680" y="4776840"/>
            <a:ext cx="210960" cy="328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2050200">
            <a:off x="1371600" y="3398760"/>
            <a:ext cx="5000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20875800">
            <a:off x="1733040" y="546120"/>
            <a:ext cx="7439040" cy="28749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67200">
            <a:off x="1143000" y="4191120"/>
            <a:ext cx="22860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42920" y="5894280"/>
            <a:ext cx="73080" cy="7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4581360"/>
            <a:ext cx="1258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7925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187280" y="1413000"/>
            <a:ext cx="6480360" cy="4537080"/>
            <a:chOff x="1187280" y="1413000"/>
            <a:chExt cx="6480360" cy="4537080"/>
          </a:xfrm>
        </p:grpSpPr>
        <p:sp>
          <p:nvSpPr>
            <p:cNvPr id="110" name=""/>
            <p:cNvSpPr/>
            <p:nvPr/>
          </p:nvSpPr>
          <p:spPr>
            <a:xfrm>
              <a:off x="1187280" y="141300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627280" y="2924280"/>
              <a:ext cx="3816360" cy="120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Salt Lake Desert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0" y="0"/>
            <a:ext cx="4356000" cy="2951280"/>
            <a:chOff x="0" y="0"/>
            <a:chExt cx="4356000" cy="295128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4356000" cy="2951280"/>
            </a:xfrm>
            <a:prstGeom prst="cloudCallout">
              <a:avLst>
                <a:gd name="adj1" fmla="val 6634"/>
                <a:gd name="adj2" fmla="val 6909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684360" y="1506600"/>
              <a:ext cx="27622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Lost their way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564000" y="4581360"/>
            <a:ext cx="5400720" cy="2159280"/>
            <a:chOff x="3564000" y="4581360"/>
            <a:chExt cx="5400720" cy="2159280"/>
          </a:xfrm>
        </p:grpSpPr>
        <p:sp>
          <p:nvSpPr>
            <p:cNvPr id="116" name=""/>
            <p:cNvSpPr/>
            <p:nvPr/>
          </p:nvSpPr>
          <p:spPr>
            <a:xfrm>
              <a:off x="3672000" y="4581360"/>
              <a:ext cx="5292720" cy="2159280"/>
            </a:xfrm>
            <a:prstGeom prst="wedgeRoundRectCallout">
              <a:avLst>
                <a:gd name="adj1" fmla="val -35032"/>
                <a:gd name="adj2" fmla="val 93115"/>
                <a:gd name="adj3" fmla="val 16667"/>
              </a:avLst>
            </a:prstGeom>
            <a:blipFill rotWithShape="0">
              <a:blip r:embed="rId3"/>
              <a:srcRect/>
              <a:stretch/>
            </a:blipFill>
            <a:ln cap="rnd" w="9360">
              <a:solidFill>
                <a:srgbClr val="ffcc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3564000" y="5168880"/>
              <a:ext cx="5400720" cy="124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without water ,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grass for animal 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 </a:t>
              </a: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新魏"/>
                </a:rPr>
                <a:t>dry and barren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  <a:ea typeface="华文新魏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2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042920" y="0"/>
            <a:ext cx="6480360" cy="4537080"/>
            <a:chOff x="1042920" y="0"/>
            <a:chExt cx="6480360" cy="4537080"/>
          </a:xfrm>
        </p:grpSpPr>
        <p:sp>
          <p:nvSpPr>
            <p:cNvPr id="119" name=""/>
            <p:cNvSpPr/>
            <p:nvPr/>
          </p:nvSpPr>
          <p:spPr>
            <a:xfrm>
              <a:off x="1042920" y="0"/>
              <a:ext cx="6480360" cy="4537080"/>
            </a:xfrm>
            <a:prstGeom prst="irregularSeal1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772000" y="1655640"/>
              <a:ext cx="28573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隶书"/>
                </a:rPr>
                <a:t>Death Valley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  <a:ea typeface="隶书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26920" y="3429000"/>
            <a:ext cx="7200720" cy="3095280"/>
            <a:chOff x="826920" y="3429000"/>
            <a:chExt cx="7200720" cy="3095280"/>
          </a:xfrm>
        </p:grpSpPr>
        <p:sp>
          <p:nvSpPr>
            <p:cNvPr id="122" name=""/>
            <p:cNvSpPr/>
            <p:nvPr/>
          </p:nvSpPr>
          <p:spPr>
            <a:xfrm>
              <a:off x="826920" y="3429000"/>
              <a:ext cx="7200720" cy="3095280"/>
            </a:xfrm>
            <a:prstGeom prst="wedgeRoundRectCallout">
              <a:avLst>
                <a:gd name="adj1" fmla="val -28893"/>
                <a:gd name="adj2" fmla="val 41583"/>
                <a:gd name="adj3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535400" y="3917880"/>
              <a:ext cx="5806800" cy="206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ead animal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Abandoned things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Such as …</a:t>
              </a:r>
              <a:endPara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26920" y="2349360"/>
            <a:ext cx="748836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What can you learn from the text?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411280" y="119700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kimm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03640" y="306864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20108400">
            <a:off x="2271960" y="18756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9578000">
            <a:off x="1304640" y="2565000"/>
            <a:ext cx="81900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9578000">
            <a:off x="2556000" y="2492280"/>
            <a:ext cx="287280" cy="57636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340000" y="549360"/>
            <a:ext cx="4680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Language Studie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242100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1.Discuss any problems which    you meet with in the tex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00000" y="4292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2.Let’s discuss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260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1.It was not easy to decide what to take and what to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eave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1970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ve behind</a:t>
            </a: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84464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觉得我把信用卡落在餐馆里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6920" y="227664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think I ______ my credit card  __________at the restaura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很快我就被远远抛在了后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22100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_______________ far behi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54450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4954680"/>
            <a:ext cx="144720" cy="1498680"/>
          </a:xfrm>
          <a:custGeom>
            <a:avLst/>
            <a:gdLst>
              <a:gd name="textAreaLeft" fmla="*/ 92520 w 144720"/>
              <a:gd name="textAreaRight" fmla="*/ 145080 w 144720"/>
              <a:gd name="textAreaTop" fmla="*/ 38880 h 1498680"/>
              <a:gd name="textAreaBottom" fmla="*/ 1459800 h 14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32000" y="4869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4450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32000" y="6021360"/>
            <a:ext cx="28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l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16360" y="551664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35640" y="5084640"/>
            <a:ext cx="504720" cy="1584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501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595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33800" y="2244600"/>
            <a:ext cx="102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51600" y="289260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7440" y="4221000"/>
            <a:ext cx="349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as soon lef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1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609480"/>
            <a:ext cx="7772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.The animals dragged their legs,too weak to pull their </a:t>
            </a:r>
            <a:r>
              <a:rPr b="1" lang="en-US" sz="3600" spc="-1" strike="noStrike" u="sng">
                <a:solidFill>
                  <a:srgbClr val="0066ff"/>
                </a:solidFill>
                <a:uFillTx/>
                <a:latin typeface="Times New Roman"/>
              </a:rPr>
              <a:t>bu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3200" y="182880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19051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负担；责任；重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5146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1)Eleph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car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8360" y="23623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urd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2004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The old man doesn’t want to _______ ____   __________ to his children and always to do what he can by him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5812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be      a      bur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6720" y="522612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0720" y="476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burd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84360" y="620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V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某人自已肩负（重担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134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urden sb /oneself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f I were you , I wouldn’t ________ ______ _____ other people’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1891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是我，我绝不像你那样为别人的问题而操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98952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想让我的问题困扰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7214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don’t want to ________ _____ _______ my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3640" y="453852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 you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84080" y="2666880"/>
            <a:ext cx="468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burden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755640" y="3333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For many weeks w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had been accustomed to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seeing horses and oxen suffering from heat, thirst and starv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191628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be accustomed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5640" y="2060640"/>
            <a:ext cx="216000" cy="100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00000" y="2565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accustom oneself to sth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000" y="328464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不习惯这么早起进行晨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5640" y="378936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I am not accustomed to __________ ______so early to do morning exerci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560" y="554688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2)It’ll take me some tim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</a:rPr>
              <a:t>___________ ________ ____ the cha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03640" y="357336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getting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6920" y="50133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需要花很时间来适应这些变化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3680" y="6095880"/>
            <a:ext cx="474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accustom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myself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755640" y="401796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On hearing the bad news, he got up quickly, _______ the lunch unfinish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3320" y="501012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le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67280" y="508176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58920" y="5586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to le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64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ea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88620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85800" y="4292640"/>
            <a:ext cx="62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429000"/>
            <a:ext cx="727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55736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1.We take our skin  for granted until it is burned ______repa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46040" y="2705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. bey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39640" y="2705040"/>
            <a:ext cx="20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B. with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24080" y="3354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68440" y="3354480"/>
            <a:ext cx="15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18129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627280" y="582480"/>
            <a:ext cx="3191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RACTIS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916440" cy="3313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900000" y="4508640"/>
            <a:ext cx="21592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oday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3280" y="1197000"/>
            <a:ext cx="40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ingLiU"/>
              </a:rPr>
              <a:t>modernized</a:t>
            </a:r>
            <a:endParaRPr b="1" lang="en-US" sz="4800" spc="1" strike="noStrike">
              <a:ln w="19080">
                <a:solidFill>
                  <a:srgbClr val="3333cc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ingLiU"/>
              <a:ea typeface="MingLiU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2637000"/>
            <a:ext cx="3743280" cy="3889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148360" y="2565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cover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05264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1.The little cart is squeaking (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吱吱响）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</a:rPr>
              <a:t>under the heavy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206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go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212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.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6708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.bu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21286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.l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95480" y="134136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78136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2.When considering how to settle the problem,the most important factor—weather, he had 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4437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24280" y="4505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5084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5084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357336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32000" y="62064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2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25" name=""/>
          <p:cNvSpPr/>
          <p:nvPr/>
        </p:nvSpPr>
        <p:spPr>
          <a:xfrm>
            <a:off x="646200" y="2492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Lucida Sans Unicode"/>
              </a:rPr>
              <a:t>1.Finish  Language stud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3573360"/>
            <a:ext cx="8915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2.Finsh the gramm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 rot="21114600">
            <a:off x="2743200" y="1905120"/>
            <a:ext cx="3355920" cy="180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Goodbye 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24000" y="620640"/>
            <a:ext cx="6624720" cy="5532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6" name=""/>
          <p:cNvSpPr txBox="1"/>
          <p:nvPr/>
        </p:nvSpPr>
        <p:spPr>
          <a:xfrm>
            <a:off x="1371600" y="2438280"/>
            <a:ext cx="45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in the 1840's</a:t>
            </a:r>
            <a:endParaRPr b="1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295280"/>
            <a:ext cx="1752840" cy="3357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435600">
            <a:off x="1763640" y="2060280"/>
            <a:ext cx="4797360" cy="225360"/>
          </a:xfrm>
          <a:prstGeom prst="leftArrow">
            <a:avLst>
              <a:gd name="adj1" fmla="val 50000"/>
              <a:gd name="adj2" fmla="val 532188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3284640"/>
            <a:ext cx="4572000" cy="228600"/>
          </a:xfrm>
          <a:prstGeom prst="leftArrow">
            <a:avLst>
              <a:gd name="adj1" fmla="val 50000"/>
              <a:gd name="adj2" fmla="val 50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87280" y="1890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91720" y="620640"/>
            <a:ext cx="363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otum"/>
                <a:ea typeface="Dotum"/>
              </a:rPr>
              <a:t>GOING W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4751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READ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36360" y="44280"/>
            <a:ext cx="9396360" cy="688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952880" y="3124080"/>
            <a:ext cx="43200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961600">
            <a:off x="1547280" y="188640"/>
            <a:ext cx="1738440" cy="4248000"/>
          </a:xfrm>
          <a:custGeom>
            <a:avLst/>
            <a:gdLst/>
            <a:ahLst/>
            <a:rect l="l" t="t" r="r" b="b"/>
            <a:pathLst>
              <a:path w="1095" h="2660">
                <a:moveTo>
                  <a:pt x="45" y="30"/>
                </a:moveTo>
                <a:cubicBezTo>
                  <a:pt x="0" y="60"/>
                  <a:pt x="83" y="211"/>
                  <a:pt x="91" y="302"/>
                </a:cubicBezTo>
                <a:cubicBezTo>
                  <a:pt x="99" y="393"/>
                  <a:pt x="68" y="514"/>
                  <a:pt x="91" y="574"/>
                </a:cubicBezTo>
                <a:cubicBezTo>
                  <a:pt x="114" y="634"/>
                  <a:pt x="182" y="650"/>
                  <a:pt x="227" y="665"/>
                </a:cubicBezTo>
                <a:cubicBezTo>
                  <a:pt x="272" y="680"/>
                  <a:pt x="333" y="635"/>
                  <a:pt x="363" y="665"/>
                </a:cubicBezTo>
                <a:cubicBezTo>
                  <a:pt x="393" y="695"/>
                  <a:pt x="401" y="763"/>
                  <a:pt x="408" y="846"/>
                </a:cubicBezTo>
                <a:cubicBezTo>
                  <a:pt x="415" y="929"/>
                  <a:pt x="401" y="1088"/>
                  <a:pt x="408" y="1164"/>
                </a:cubicBezTo>
                <a:cubicBezTo>
                  <a:pt x="415" y="1240"/>
                  <a:pt x="400" y="1262"/>
                  <a:pt x="453" y="1300"/>
                </a:cubicBezTo>
                <a:cubicBezTo>
                  <a:pt x="506" y="1338"/>
                  <a:pt x="673" y="1330"/>
                  <a:pt x="726" y="1390"/>
                </a:cubicBezTo>
                <a:cubicBezTo>
                  <a:pt x="779" y="1450"/>
                  <a:pt x="756" y="1602"/>
                  <a:pt x="771" y="1662"/>
                </a:cubicBezTo>
                <a:cubicBezTo>
                  <a:pt x="786" y="1722"/>
                  <a:pt x="816" y="1708"/>
                  <a:pt x="816" y="1753"/>
                </a:cubicBezTo>
                <a:cubicBezTo>
                  <a:pt x="816" y="1798"/>
                  <a:pt x="786" y="1867"/>
                  <a:pt x="771" y="1935"/>
                </a:cubicBezTo>
                <a:cubicBezTo>
                  <a:pt x="756" y="2003"/>
                  <a:pt x="711" y="2101"/>
                  <a:pt x="726" y="2161"/>
                </a:cubicBezTo>
                <a:cubicBezTo>
                  <a:pt x="741" y="2221"/>
                  <a:pt x="809" y="2215"/>
                  <a:pt x="862" y="2298"/>
                </a:cubicBezTo>
                <a:cubicBezTo>
                  <a:pt x="915" y="2381"/>
                  <a:pt x="1005" y="2660"/>
                  <a:pt x="1043" y="2660"/>
                </a:cubicBezTo>
                <a:cubicBezTo>
                  <a:pt x="1081" y="2660"/>
                  <a:pt x="1088" y="2449"/>
                  <a:pt x="1088" y="2298"/>
                </a:cubicBezTo>
                <a:cubicBezTo>
                  <a:pt x="1088" y="2147"/>
                  <a:pt x="1043" y="1897"/>
                  <a:pt x="1043" y="1753"/>
                </a:cubicBezTo>
                <a:cubicBezTo>
                  <a:pt x="1043" y="1609"/>
                  <a:pt x="1095" y="1519"/>
                  <a:pt x="1088" y="1436"/>
                </a:cubicBezTo>
                <a:cubicBezTo>
                  <a:pt x="1081" y="1353"/>
                  <a:pt x="1028" y="1322"/>
                  <a:pt x="998" y="1254"/>
                </a:cubicBezTo>
                <a:cubicBezTo>
                  <a:pt x="968" y="1186"/>
                  <a:pt x="952" y="1102"/>
                  <a:pt x="907" y="1027"/>
                </a:cubicBezTo>
                <a:cubicBezTo>
                  <a:pt x="862" y="952"/>
                  <a:pt x="771" y="899"/>
                  <a:pt x="726" y="801"/>
                </a:cubicBezTo>
                <a:cubicBezTo>
                  <a:pt x="681" y="703"/>
                  <a:pt x="688" y="544"/>
                  <a:pt x="635" y="438"/>
                </a:cubicBezTo>
                <a:cubicBezTo>
                  <a:pt x="582" y="332"/>
                  <a:pt x="453" y="219"/>
                  <a:pt x="408" y="166"/>
                </a:cubicBezTo>
                <a:cubicBezTo>
                  <a:pt x="363" y="113"/>
                  <a:pt x="416" y="143"/>
                  <a:pt x="363" y="120"/>
                </a:cubicBezTo>
                <a:cubicBezTo>
                  <a:pt x="310" y="97"/>
                  <a:pt x="90" y="0"/>
                  <a:pt x="45" y="30"/>
                </a:cubicBezTo>
                <a:close/>
              </a:path>
            </a:pathLst>
          </a:cu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183200">
            <a:off x="4565160" y="3141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83200">
            <a:off x="4066920" y="292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735600">
            <a:off x="3634920" y="27795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20108400">
            <a:off x="2365920" y="303480"/>
            <a:ext cx="7898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ocky  moun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9578000">
            <a:off x="1225080" y="2587320"/>
            <a:ext cx="905040" cy="93672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735600">
            <a:off x="3203280" y="2636640"/>
            <a:ext cx="431640" cy="72720"/>
          </a:xfrm>
          <a:prstGeom prst="leftArrow">
            <a:avLst>
              <a:gd name="adj1" fmla="val 50000"/>
              <a:gd name="adj2" fmla="val 1483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735600">
            <a:off x="2771280" y="256392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20581200">
            <a:off x="2268360" y="256536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0676600">
            <a:off x="1763640" y="2852640"/>
            <a:ext cx="432000" cy="73080"/>
          </a:xfrm>
          <a:prstGeom prst="leftArrow">
            <a:avLst>
              <a:gd name="adj1" fmla="val 50000"/>
              <a:gd name="adj2" fmla="val 14778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68360" y="2708280"/>
            <a:ext cx="142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578000">
            <a:off x="2457360" y="2572920"/>
            <a:ext cx="381240" cy="528840"/>
          </a:xfrm>
          <a:custGeom>
            <a:avLst/>
            <a:gdLst/>
            <a:ahLst/>
            <a:rect l="l" t="t" r="r" b="b"/>
            <a:pathLst>
              <a:path w="380" h="428">
                <a:moveTo>
                  <a:pt x="11" y="31"/>
                </a:moveTo>
                <a:cubicBezTo>
                  <a:pt x="31" y="129"/>
                  <a:pt x="38" y="164"/>
                  <a:pt x="95" y="240"/>
                </a:cubicBezTo>
                <a:cubicBezTo>
                  <a:pt x="102" y="250"/>
                  <a:pt x="140" y="312"/>
                  <a:pt x="147" y="314"/>
                </a:cubicBezTo>
                <a:cubicBezTo>
                  <a:pt x="198" y="328"/>
                  <a:pt x="252" y="321"/>
                  <a:pt x="304" y="324"/>
                </a:cubicBezTo>
                <a:cubicBezTo>
                  <a:pt x="315" y="331"/>
                  <a:pt x="328" y="335"/>
                  <a:pt x="336" y="345"/>
                </a:cubicBezTo>
                <a:cubicBezTo>
                  <a:pt x="350" y="361"/>
                  <a:pt x="371" y="428"/>
                  <a:pt x="346" y="355"/>
                </a:cubicBezTo>
                <a:cubicBezTo>
                  <a:pt x="350" y="320"/>
                  <a:pt x="349" y="285"/>
                  <a:pt x="357" y="251"/>
                </a:cubicBezTo>
                <a:cubicBezTo>
                  <a:pt x="360" y="239"/>
                  <a:pt x="380" y="231"/>
                  <a:pt x="377" y="219"/>
                </a:cubicBezTo>
                <a:cubicBezTo>
                  <a:pt x="374" y="208"/>
                  <a:pt x="356" y="212"/>
                  <a:pt x="346" y="209"/>
                </a:cubicBezTo>
                <a:cubicBezTo>
                  <a:pt x="312" y="157"/>
                  <a:pt x="259" y="86"/>
                  <a:pt x="199" y="62"/>
                </a:cubicBezTo>
                <a:cubicBezTo>
                  <a:pt x="160" y="46"/>
                  <a:pt x="105" y="44"/>
                  <a:pt x="63" y="31"/>
                </a:cubicBezTo>
                <a:cubicBezTo>
                  <a:pt x="53" y="24"/>
                  <a:pt x="40" y="0"/>
                  <a:pt x="32" y="10"/>
                </a:cubicBezTo>
                <a:cubicBezTo>
                  <a:pt x="14" y="32"/>
                  <a:pt x="19" y="66"/>
                  <a:pt x="11" y="94"/>
                </a:cubicBezTo>
                <a:cubicBezTo>
                  <a:pt x="8" y="105"/>
                  <a:pt x="0" y="125"/>
                  <a:pt x="0" y="125"/>
                </a:cubicBez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0920" y="270828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he Salt Lake Val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1332000" y="299556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9478400">
            <a:off x="971640" y="3284280"/>
            <a:ext cx="431640" cy="73080"/>
          </a:xfrm>
          <a:prstGeom prst="leftArrow">
            <a:avLst>
              <a:gd name="adj1" fmla="val 50000"/>
              <a:gd name="adj2" fmla="val 14766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3284640"/>
            <a:ext cx="442800" cy="649080"/>
          </a:xfrm>
          <a:custGeom>
            <a:avLst/>
            <a:gdLst/>
            <a:ahLst/>
            <a:rect l="l" t="t" r="r" b="b"/>
            <a:pathLst>
              <a:path w="332" h="378">
                <a:moveTo>
                  <a:pt x="98" y="15"/>
                </a:moveTo>
                <a:cubicBezTo>
                  <a:pt x="128" y="22"/>
                  <a:pt x="166" y="45"/>
                  <a:pt x="189" y="60"/>
                </a:cubicBezTo>
                <a:cubicBezTo>
                  <a:pt x="212" y="75"/>
                  <a:pt x="211" y="75"/>
                  <a:pt x="234" y="105"/>
                </a:cubicBezTo>
                <a:cubicBezTo>
                  <a:pt x="257" y="135"/>
                  <a:pt x="318" y="196"/>
                  <a:pt x="325" y="241"/>
                </a:cubicBezTo>
                <a:cubicBezTo>
                  <a:pt x="332" y="286"/>
                  <a:pt x="294" y="378"/>
                  <a:pt x="279" y="378"/>
                </a:cubicBezTo>
                <a:cubicBezTo>
                  <a:pt x="264" y="378"/>
                  <a:pt x="264" y="271"/>
                  <a:pt x="234" y="241"/>
                </a:cubicBezTo>
                <a:cubicBezTo>
                  <a:pt x="204" y="211"/>
                  <a:pt x="128" y="219"/>
                  <a:pt x="98" y="196"/>
                </a:cubicBezTo>
                <a:cubicBezTo>
                  <a:pt x="68" y="173"/>
                  <a:pt x="68" y="135"/>
                  <a:pt x="53" y="105"/>
                </a:cubicBezTo>
                <a:cubicBezTo>
                  <a:pt x="38" y="75"/>
                  <a:pt x="0" y="30"/>
                  <a:pt x="7" y="15"/>
                </a:cubicBezTo>
                <a:cubicBezTo>
                  <a:pt x="14" y="0"/>
                  <a:pt x="68" y="8"/>
                  <a:pt x="98" y="15"/>
                </a:cubicBezTo>
                <a:close/>
              </a:path>
            </a:pathLst>
          </a:custGeom>
          <a:solidFill>
            <a:srgbClr val="00000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335772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ath Vall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 rot="19478400">
            <a:off x="743040" y="3532320"/>
            <a:ext cx="309600" cy="139320"/>
          </a:xfrm>
          <a:prstGeom prst="leftArrow">
            <a:avLst>
              <a:gd name="adj1" fmla="val 50000"/>
              <a:gd name="adj2" fmla="val 555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573360"/>
            <a:ext cx="431640" cy="433440"/>
          </a:xfrm>
          <a:prstGeom prst="smileyFace">
            <a:avLst>
              <a:gd name="adj" fmla="val 9282"/>
            </a:avLst>
          </a:prstGeom>
          <a:solidFill>
            <a:srgbClr val="ff0000">
              <a:alpha val="22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Camel" descr=""/>
          <p:cNvPicPr/>
          <p:nvPr/>
        </p:nvPicPr>
        <p:blipFill>
          <a:blip r:embed="rId5"/>
          <a:stretch/>
        </p:blipFill>
        <p:spPr>
          <a:xfrm>
            <a:off x="1143000" y="2666880"/>
            <a:ext cx="428760" cy="428760"/>
          </a:xfrm>
          <a:prstGeom prst="rect">
            <a:avLst/>
          </a:prstGeom>
          <a:ln w="0">
            <a:noFill/>
          </a:ln>
        </p:spPr>
      </p:pic>
      <p:pic>
        <p:nvPicPr>
          <p:cNvPr id="92" name="Camel" descr=""/>
          <p:cNvPicPr/>
          <p:nvPr/>
        </p:nvPicPr>
        <p:blipFill>
          <a:blip r:embed="rId6"/>
          <a:stretch/>
        </p:blipFill>
        <p:spPr>
          <a:xfrm>
            <a:off x="1600200" y="29718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Camel" descr=""/>
          <p:cNvPicPr/>
          <p:nvPr/>
        </p:nvPicPr>
        <p:blipFill>
          <a:blip r:embed="rId7"/>
          <a:stretch/>
        </p:blipFill>
        <p:spPr>
          <a:xfrm>
            <a:off x="2286000" y="2314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11280" y="4869000"/>
            <a:ext cx="5327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57560" y="378936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92720" y="1484280"/>
            <a:ext cx="2857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Death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41760" y="2565360"/>
            <a:ext cx="3809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Salt Lake Desert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647640" cy="59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8028000" y="5877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2411280" y="476280"/>
            <a:ext cx="360072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scann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8000" y="549360"/>
            <a:ext cx="532800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Indian Creek in Kansas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"/>
          <p:cNvSpPr/>
          <p:nvPr/>
        </p:nvSpPr>
        <p:spPr>
          <a:xfrm>
            <a:off x="-108000" y="1800360"/>
            <a:ext cx="9144000" cy="5157720"/>
          </a:xfrm>
          <a:prstGeom prst="cloudCallout">
            <a:avLst>
              <a:gd name="adj1" fmla="val 32657"/>
              <a:gd name="adj2" fmla="val -37689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1800" y="1827360"/>
            <a:ext cx="7972560" cy="50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Frontier ,meeting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place for people moving to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the west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413000"/>
            <a:ext cx="4762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The Salt Lake Valle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35280" y="1989000"/>
            <a:ext cx="5508360" cy="3645000"/>
            <a:chOff x="1835280" y="1989000"/>
            <a:chExt cx="5508360" cy="3645000"/>
          </a:xfrm>
        </p:grpSpPr>
        <p:sp>
          <p:nvSpPr>
            <p:cNvPr id="106" name=""/>
            <p:cNvSpPr/>
            <p:nvPr/>
          </p:nvSpPr>
          <p:spPr>
            <a:xfrm>
              <a:off x="1835280" y="1989000"/>
              <a:ext cx="5508360" cy="3645000"/>
            </a:xfrm>
            <a:prstGeom prst="irregularSeal2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3203280" y="3068640"/>
              <a:ext cx="23763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0000">
                      <a:alpha val="90000"/>
                    </a:srgbClr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-方正超大字符集"/>
                </a:rPr>
                <a:t>beautiful</a:t>
              </a:r>
              <a:endParaRPr b="1" lang="en-US" sz="2400" spc="1" strike="noStrike">
                <a:ln w="0">
                  <a:noFill/>
                </a:ln>
                <a:solidFill>
                  <a:srgbClr val="ff0000">
                    <a:alpha val="9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-方正超大字符集"/>
                <a:ea typeface="宋体-方正超大字符集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647640" cy="490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15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155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1155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2T11:02:37Z</dcterms:created>
  <dc:creator>Bisheng</dc:creator>
  <dc:description/>
  <dc:language>en-US</dc:language>
  <cp:lastModifiedBy>Guest</cp:lastModifiedBy>
  <dcterms:modified xsi:type="dcterms:W3CDTF">2005-09-24T12:59:54Z</dcterms:modified>
  <cp:revision>95</cp:revision>
  <dc:subject/>
  <dc:title>PowerPoint 演示文稿</dc:title>
</cp:coreProperties>
</file>