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4B8-41CA-4F66-8FBA-7CDC6E17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749-9A97-4565-B4FB-2A24897C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FCE-532A-46D7-9FB9-29DD41A7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E3A-86E2-44D7-93AC-88340B6D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BF2-337E-4510-ACDF-426D44E6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65F-21B4-4855-BFA0-59CA5D2F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EC8-E035-478B-94B0-43296E72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B10-2EC3-44F5-9013-258A2F19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57B-6258-4487-92AD-F5D8145B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D13-CD7B-4C76-BA02-D8469124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8CE-97AE-4667-99AA-FA43DD0D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B5B-39F2-453C-8F10-8D1D8D9B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384C-F6B2-4F51-829B-C64988F6E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120" y="228600"/>
            <a:ext cx="35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f you should die before 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ask if you could bring a friend</a:t>
            </a: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360" y="1523880"/>
            <a:ext cx="506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f you live to be a hund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 want to live to be a hundred minus one d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so I never have to li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without y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429000"/>
            <a:ext cx="41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rue friendship is like sound heal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he value of it is seldom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until it is l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8680" y="4470480"/>
            <a:ext cx="553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if you only get it but once, do 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ouraged for you will know that you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49240" y="5486400"/>
            <a:ext cx="61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 LEAST ONE GOOD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440" y="62485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antha@desilv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3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9200" y="137160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real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s one who walk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th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f the world walks ou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07160" y="3200400"/>
            <a:ext cx="333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y father alway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o say that when you d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f you've got five real frie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n you've had a great life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6200" y="341280"/>
            <a:ext cx="305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ll my friends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jump off a brid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wouldn't jump with th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'd be at the bottom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ch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4040" y="533412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 a true friend with both your h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04920"/>
            <a:ext cx="231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'll lean on you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ou lean on m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e'll be ok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6560" y="57913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riendship is one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 two bod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9800" y="457200"/>
            <a:ext cx="338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'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 in front of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may not fo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't walk behind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may not l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 beside m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 my fri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3600" y="341280"/>
            <a:ext cx="273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Everyone h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what you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Friends list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what you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Best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listen to what you don'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s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4114800"/>
            <a:ext cx="366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friend is someone who kn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song in your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nd can sing it back to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you have forg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words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e all take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aths in lif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ut no matter where we 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e take a little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ther everywhere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44400" y="617220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iends are God's way of taking care of 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7640" y="304920"/>
            <a:ext cx="385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ranger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ust friends waiting to h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riends are the 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its in the Sa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owl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33920" y="1523880"/>
            <a:ext cx="486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s this on to all of your FRIENDS, even if it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ending it to the person that sent it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nd if you receive this e-mail many tim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different people, it only means that you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9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5:38:23Z</dcterms:created>
  <dc:creator>user</dc:creator>
  <dc:description/>
  <dc:language>en-US</dc:language>
  <cp:lastModifiedBy>user</cp:lastModifiedBy>
  <dcterms:modified xsi:type="dcterms:W3CDTF">2002-05-16T17:27:11Z</dcterms:modified>
  <cp:revision>25</cp:revision>
  <dc:subject/>
  <dc:title>Slide 1</dc:title>
</cp:coreProperties>
</file>