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A0E-B5CA-4CC6-9CD3-6C048F18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17DB-ED72-46CB-9177-A6D9E078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2597-D058-47D2-A591-72B39FC9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4FF7-85B1-47E6-B077-CD70D37C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E507-0107-4BC9-9879-09D3E1AC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681A-B886-439A-8867-379E8A1E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8634-FAB6-4E04-963C-800382D2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31CB-3DB9-4A01-8899-69312DD6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0ECC-F1EB-41FA-8E9B-F3613221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FDFF-C171-4B54-BF36-240D1640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5127-2AA0-4781-A1B8-593D5C12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398B-A3E4-45CB-9796-F9F7CB89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2916-D76A-4968-B1E8-C0642D0D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4701-3464-424C-BA7B-F8FE87A5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F82D-7AC3-4504-8BCB-CB45C784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9A18-1B90-4706-8376-DE6AE6CB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2A4B-0987-4F46-98DA-33CF97C4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4840-7858-4C2D-AEA3-552E415F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C1B2-6698-4A47-A19F-0BCBAE67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3993-AA46-4CC5-81FA-53BBB9EB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C90C-C8C6-4229-835D-03E6F84A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3545-F750-4E8E-9466-AC5B5B03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524B-B652-49D7-8E3F-DED2D7A4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472C-3FFC-425A-A6AA-7EC57171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1D4D-AA52-4BCE-B996-BD3CFD6A7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52E0-FAC3-48A3-8B08-5146DF8BE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5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8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29.jpeg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267080" y="2590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0" name="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77240" y="1447920"/>
            <a:ext cx="553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Times New Roman"/>
              </a:rPr>
              <a:t>English Poetry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2" descr=""/>
          <p:cNvPicPr/>
          <p:nvPr/>
        </p:nvPicPr>
        <p:blipFill>
          <a:blip r:embed="rId3"/>
          <a:stretch/>
        </p:blipFill>
        <p:spPr>
          <a:xfrm>
            <a:off x="3657600" y="3200400"/>
            <a:ext cx="1981080" cy="3048120"/>
          </a:xfrm>
          <a:prstGeom prst="rect">
            <a:avLst/>
          </a:prstGeom>
          <a:ln w="0">
            <a:noFill/>
          </a:ln>
        </p:spPr>
      </p:pic>
      <p:pic>
        <p:nvPicPr>
          <p:cNvPr id="93" name="6" descr=""/>
          <p:cNvPicPr/>
          <p:nvPr/>
        </p:nvPicPr>
        <p:blipFill>
          <a:blip r:embed="rId4"/>
          <a:stretch/>
        </p:blipFill>
        <p:spPr>
          <a:xfrm>
            <a:off x="5638680" y="3200400"/>
            <a:ext cx="1828800" cy="3048120"/>
          </a:xfrm>
          <a:prstGeom prst="rect">
            <a:avLst/>
          </a:prstGeom>
          <a:ln w="0">
            <a:noFill/>
          </a:ln>
        </p:spPr>
      </p:pic>
      <p:pic>
        <p:nvPicPr>
          <p:cNvPr id="94" name="3" descr=""/>
          <p:cNvPicPr/>
          <p:nvPr/>
        </p:nvPicPr>
        <p:blipFill>
          <a:blip r:embed="rId5"/>
          <a:stretch/>
        </p:blipFill>
        <p:spPr>
          <a:xfrm>
            <a:off x="0" y="3200400"/>
            <a:ext cx="1752480" cy="3048120"/>
          </a:xfrm>
          <a:prstGeom prst="rect">
            <a:avLst/>
          </a:prstGeom>
          <a:ln w="0">
            <a:noFill/>
          </a:ln>
        </p:spPr>
      </p:pic>
      <p:pic>
        <p:nvPicPr>
          <p:cNvPr id="95" name="15" descr=""/>
          <p:cNvPicPr/>
          <p:nvPr/>
        </p:nvPicPr>
        <p:blipFill>
          <a:blip r:embed="rId6"/>
          <a:stretch/>
        </p:blipFill>
        <p:spPr>
          <a:xfrm>
            <a:off x="7467480" y="3200400"/>
            <a:ext cx="1676520" cy="3048120"/>
          </a:xfrm>
          <a:prstGeom prst="rect">
            <a:avLst/>
          </a:prstGeom>
          <a:ln w="0">
            <a:noFill/>
          </a:ln>
        </p:spPr>
      </p:pic>
      <p:pic>
        <p:nvPicPr>
          <p:cNvPr id="96" name="7" descr=""/>
          <p:cNvPicPr/>
          <p:nvPr/>
        </p:nvPicPr>
        <p:blipFill>
          <a:blip r:embed="rId7"/>
          <a:stretch/>
        </p:blipFill>
        <p:spPr>
          <a:xfrm>
            <a:off x="1752480" y="3200400"/>
            <a:ext cx="1905120" cy="3048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nshui No.2 Middle School     Huang  Lan  Oct. 16,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66680" y="609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o say that “ poems and literature can be bridges” is an image . What other images could you use to express the same idea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2514600"/>
            <a:ext cx="7620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 say that poems and literature can be bridges means that they can bring people closer to each other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wo other images to express that idea , found in the text are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. Poetry opens doors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. We can embrace each other in poetry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42520" y="609480"/>
            <a:ext cx="63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xplain the short poem by Mu Da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29440" y="1530360"/>
            <a:ext cx="592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Quietly , we embra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In a world lit up by words 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2971800"/>
            <a:ext cx="7391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Our life is like the night . The words used in poetry are like lamps that light up , and in this light , we can meet and embrace other people , whom we would not have seen in the dark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896560" y="533520"/>
            <a:ext cx="347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Homework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6400" y="2819520"/>
            <a:ext cx="577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Do Ex.3 and Ex.4 on P29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 flipH="1">
            <a:off x="4267080" y="3276720"/>
            <a:ext cx="152640" cy="15228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" action="ppaction://hlinkshowjump?jump=firstslide"/>
            <a:hlinkClick r:id="rId2"/>
          </p:cNvPr>
          <p:cNvSpPr/>
          <p:nvPr/>
        </p:nvSpPr>
        <p:spPr>
          <a:xfrm>
            <a:off x="6172200" y="4800600"/>
            <a:ext cx="2971800" cy="1219320"/>
          </a:xfrm>
          <a:custGeom>
            <a:avLst/>
            <a:gdLst>
              <a:gd name="textAreaLeft" fmla="*/ 78840 w 2971800"/>
              <a:gd name="textAreaRight" fmla="*/ 2892960 w 29718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2636" h="21600">
                <a:moveTo>
                  <a:pt x="0" y="0"/>
                </a:moveTo>
                <a:lnTo>
                  <a:pt x="52636" y="0"/>
                </a:lnTo>
                <a:lnTo>
                  <a:pt x="52636" y="21600"/>
                </a:lnTo>
                <a:lnTo>
                  <a:pt x="0" y="21600"/>
                </a:lnTo>
                <a:close/>
              </a:path>
              <a:path fill="lightenLess" w="52636" h="21600">
                <a:moveTo>
                  <a:pt x="0" y="0"/>
                </a:moveTo>
                <a:lnTo>
                  <a:pt x="52636" y="0"/>
                </a:lnTo>
                <a:lnTo>
                  <a:pt x="51236" y="1400"/>
                </a:lnTo>
                <a:lnTo>
                  <a:pt x="1400" y="1400"/>
                </a:lnTo>
                <a:close/>
              </a:path>
              <a:path fill="darken" w="52636" h="21600">
                <a:moveTo>
                  <a:pt x="52636" y="0"/>
                </a:moveTo>
                <a:lnTo>
                  <a:pt x="52636" y="21600"/>
                </a:lnTo>
                <a:lnTo>
                  <a:pt x="51236" y="20200"/>
                </a:lnTo>
                <a:lnTo>
                  <a:pt x="51236" y="1400"/>
                </a:lnTo>
                <a:close/>
              </a:path>
              <a:path fill="darkenLess" w="52636" h="21600">
                <a:moveTo>
                  <a:pt x="52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236" y="20200"/>
                </a:lnTo>
                <a:close/>
              </a:path>
              <a:path fill="lighten" w="52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717a3"/>
                </a:solidFill>
                <a:latin typeface="华文行楷"/>
                <a:ea typeface="华文行楷"/>
              </a:rPr>
              <a:t>End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38680" y="1066680"/>
            <a:ext cx="3505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da0e35"/>
                </a:solidFill>
                <a:latin typeface="华文行楷"/>
                <a:ea typeface="华文行楷"/>
              </a:rPr>
              <a:t>Thank you 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3" descr=""/>
          <p:cNvPicPr/>
          <p:nvPr/>
        </p:nvPicPr>
        <p:blipFill>
          <a:blip r:embed="rId3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79040" y="50292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Qu Yu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屈2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2438280" cy="3048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574520" y="50292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u F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17120" y="685800"/>
            <a:ext cx="45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Ancient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李白1" descr=""/>
          <p:cNvPicPr/>
          <p:nvPr/>
        </p:nvPicPr>
        <p:blipFill>
          <a:blip r:embed="rId2"/>
          <a:stretch/>
        </p:blipFill>
        <p:spPr>
          <a:xfrm>
            <a:off x="6553080" y="1752480"/>
            <a:ext cx="2133720" cy="30481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239240" y="50292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i 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2" descr=""/>
          <p:cNvPicPr/>
          <p:nvPr/>
        </p:nvPicPr>
        <p:blipFill>
          <a:blip r:embed="rId3"/>
          <a:stretch/>
        </p:blipFill>
        <p:spPr>
          <a:xfrm>
            <a:off x="3886200" y="1752480"/>
            <a:ext cx="2438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苏东坡" descr=""/>
          <p:cNvPicPr/>
          <p:nvPr/>
        </p:nvPicPr>
        <p:blipFill>
          <a:blip r:embed="rId1"/>
          <a:stretch/>
        </p:blipFill>
        <p:spPr>
          <a:xfrm>
            <a:off x="6400800" y="1828800"/>
            <a:ext cx="2214720" cy="3124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784200" y="51055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 Dong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7120" y="685800"/>
            <a:ext cx="45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Ancient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白居易" descr=""/>
          <p:cNvPicPr/>
          <p:nvPr/>
        </p:nvPicPr>
        <p:blipFill>
          <a:blip r:embed="rId2"/>
          <a:stretch/>
        </p:blipFill>
        <p:spPr>
          <a:xfrm>
            <a:off x="3962520" y="1828800"/>
            <a:ext cx="2209680" cy="3124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48680" y="51055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ai Juy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王2" descr=""/>
          <p:cNvPicPr/>
          <p:nvPr/>
        </p:nvPicPr>
        <p:blipFill>
          <a:blip r:embed="rId3"/>
          <a:stretch/>
        </p:blipFill>
        <p:spPr>
          <a:xfrm>
            <a:off x="1219320" y="1828800"/>
            <a:ext cx="2514600" cy="3124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28440" y="510552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ang W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516040" y="68580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Modern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郭2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2438640" cy="2971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526040" y="502920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Guo Moru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251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凤凰涅槃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2200" y="50292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en Yidu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397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死水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9800" y="50292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i Q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30680" y="5562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大堰河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8" descr=""/>
          <p:cNvPicPr/>
          <p:nvPr/>
        </p:nvPicPr>
        <p:blipFill>
          <a:blip r:embed="rId2"/>
          <a:stretch/>
        </p:blipFill>
        <p:spPr>
          <a:xfrm>
            <a:off x="3733920" y="1828800"/>
            <a:ext cx="243828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5" descr=""/>
          <p:cNvPicPr/>
          <p:nvPr/>
        </p:nvPicPr>
        <p:blipFill>
          <a:blip r:embed="rId3"/>
          <a:stretch/>
        </p:blipFill>
        <p:spPr>
          <a:xfrm>
            <a:off x="6400800" y="1828800"/>
            <a:ext cx="22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徐1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2487600" cy="2971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344480" y="50292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Xu Zhi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87680" y="50292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 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16040" y="68580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Modern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9240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再别康桥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829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致橡树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08760" y="499428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ai Wang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7288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雨巷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5" descr=""/>
          <p:cNvPicPr/>
          <p:nvPr/>
        </p:nvPicPr>
        <p:blipFill>
          <a:blip r:embed="rId2"/>
          <a:stretch/>
        </p:blipFill>
        <p:spPr>
          <a:xfrm>
            <a:off x="1219320" y="1828800"/>
            <a:ext cx="2286000" cy="2971800"/>
          </a:xfrm>
          <a:prstGeom prst="rect">
            <a:avLst/>
          </a:prstGeom>
          <a:ln w="0">
            <a:noFill/>
          </a:ln>
        </p:spPr>
      </p:pic>
      <p:pic>
        <p:nvPicPr>
          <p:cNvPr id="206" name="1" descr=""/>
          <p:cNvPicPr/>
          <p:nvPr/>
        </p:nvPicPr>
        <p:blipFill>
          <a:blip r:embed="rId3"/>
          <a:stretch/>
        </p:blipFill>
        <p:spPr>
          <a:xfrm>
            <a:off x="6400800" y="1828800"/>
            <a:ext cx="2286000" cy="2971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391520" y="838080"/>
            <a:ext cx="357120" cy="43344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33440"/>
              <a:gd name="textAreaBottom" fmla="*/ 410400 h 433440"/>
            </a:gdLst>
            <a:ahLst/>
            <a:rect l="textAreaLeft" t="textAreaTop" r="textAreaRight" b="textAreaBottom"/>
            <a:pathLst>
              <a:path w="21600" h="26211">
                <a:moveTo>
                  <a:pt x="0" y="0"/>
                </a:moveTo>
                <a:lnTo>
                  <a:pt x="21600" y="0"/>
                </a:lnTo>
                <a:lnTo>
                  <a:pt x="21600" y="26211"/>
                </a:lnTo>
                <a:lnTo>
                  <a:pt x="0" y="26211"/>
                </a:lnTo>
                <a:close/>
              </a:path>
              <a:path fill="lightenLess" w="21600" h="262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211">
                <a:moveTo>
                  <a:pt x="21600" y="0"/>
                </a:moveTo>
                <a:lnTo>
                  <a:pt x="21600" y="26211"/>
                </a:lnTo>
                <a:lnTo>
                  <a:pt x="20200" y="24811"/>
                </a:lnTo>
                <a:lnTo>
                  <a:pt x="20200" y="1400"/>
                </a:lnTo>
                <a:close/>
              </a:path>
              <a:path fill="darkenLess" w="21600" h="26211">
                <a:moveTo>
                  <a:pt x="21600" y="26211"/>
                </a:moveTo>
                <a:lnTo>
                  <a:pt x="0" y="26211"/>
                </a:lnTo>
                <a:lnTo>
                  <a:pt x="1400" y="24811"/>
                </a:lnTo>
                <a:lnTo>
                  <a:pt x="20200" y="24811"/>
                </a:lnTo>
                <a:close/>
              </a:path>
              <a:path fill="lighten" w="21600" h="26211">
                <a:moveTo>
                  <a:pt x="0" y="262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811"/>
                </a:lnTo>
                <a:close/>
              </a:path>
              <a:path fill="darken" w="21600" h="26211">
                <a:moveTo>
                  <a:pt x="7301" y="13106"/>
                </a:moveTo>
                <a:lnTo>
                  <a:pt x="17806" y="6099"/>
                </a:lnTo>
                <a:lnTo>
                  <a:pt x="17806" y="20112"/>
                </a:lnTo>
                <a:close/>
              </a:path>
              <a:path fill="darken" w="21600" h="26211">
                <a:moveTo>
                  <a:pt x="3794" y="6099"/>
                </a:moveTo>
                <a:lnTo>
                  <a:pt x="5456" y="6099"/>
                </a:lnTo>
                <a:lnTo>
                  <a:pt x="5456" y="20112"/>
                </a:lnTo>
                <a:lnTo>
                  <a:pt x="3794" y="20112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66680" y="228600"/>
            <a:ext cx="2117880" cy="2590920"/>
          </a:xfrm>
          <a:prstGeom prst="rect">
            <a:avLst/>
          </a:prstGeom>
          <a:ln w="0">
            <a:noFill/>
          </a:ln>
        </p:spPr>
      </p:pic>
      <p:pic>
        <p:nvPicPr>
          <p:cNvPr id="209" name="5" descr=""/>
          <p:cNvPicPr/>
          <p:nvPr/>
        </p:nvPicPr>
        <p:blipFill>
          <a:blip r:embed="rId3"/>
          <a:stretch/>
        </p:blipFill>
        <p:spPr>
          <a:xfrm>
            <a:off x="5105520" y="228600"/>
            <a:ext cx="1752480" cy="2590920"/>
          </a:xfrm>
          <a:prstGeom prst="rect">
            <a:avLst/>
          </a:prstGeom>
          <a:ln w="0">
            <a:noFill/>
          </a:ln>
        </p:spPr>
      </p:pic>
      <p:pic>
        <p:nvPicPr>
          <p:cNvPr id="210" name="4" descr=""/>
          <p:cNvPicPr/>
          <p:nvPr/>
        </p:nvPicPr>
        <p:blipFill>
          <a:blip r:embed="rId4"/>
          <a:stretch/>
        </p:blipFill>
        <p:spPr>
          <a:xfrm>
            <a:off x="6934320" y="228600"/>
            <a:ext cx="1888920" cy="2590920"/>
          </a:xfrm>
          <a:prstGeom prst="rect">
            <a:avLst/>
          </a:prstGeom>
          <a:ln w="0">
            <a:noFill/>
          </a:ln>
        </p:spPr>
      </p:pic>
      <p:pic>
        <p:nvPicPr>
          <p:cNvPr id="211" name="wordsworth1" descr=""/>
          <p:cNvPicPr/>
          <p:nvPr/>
        </p:nvPicPr>
        <p:blipFill>
          <a:blip r:embed="rId5"/>
          <a:stretch/>
        </p:blipFill>
        <p:spPr>
          <a:xfrm>
            <a:off x="1066680" y="3505320"/>
            <a:ext cx="1981440" cy="2361960"/>
          </a:xfrm>
          <a:prstGeom prst="rect">
            <a:avLst/>
          </a:prstGeom>
          <a:ln w="0">
            <a:noFill/>
          </a:ln>
        </p:spPr>
      </p:pic>
      <p:pic>
        <p:nvPicPr>
          <p:cNvPr id="212" name="12" descr=""/>
          <p:cNvPicPr/>
          <p:nvPr/>
        </p:nvPicPr>
        <p:blipFill>
          <a:blip r:embed="rId6"/>
          <a:stretch/>
        </p:blipFill>
        <p:spPr>
          <a:xfrm>
            <a:off x="3124080" y="3505320"/>
            <a:ext cx="1905120" cy="2361960"/>
          </a:xfrm>
          <a:prstGeom prst="rect">
            <a:avLst/>
          </a:prstGeom>
          <a:ln w="0">
            <a:noFill/>
          </a:ln>
        </p:spPr>
      </p:pic>
      <p:pic>
        <p:nvPicPr>
          <p:cNvPr id="213" name="3" descr=""/>
          <p:cNvPicPr/>
          <p:nvPr/>
        </p:nvPicPr>
        <p:blipFill>
          <a:blip r:embed="rId7"/>
          <a:stretch/>
        </p:blipFill>
        <p:spPr>
          <a:xfrm>
            <a:off x="5105520" y="3505320"/>
            <a:ext cx="1752480" cy="2361960"/>
          </a:xfrm>
          <a:prstGeom prst="rect">
            <a:avLst/>
          </a:prstGeom>
          <a:ln w="0">
            <a:noFill/>
          </a:ln>
        </p:spPr>
      </p:pic>
      <p:pic>
        <p:nvPicPr>
          <p:cNvPr id="214" name="15" descr=""/>
          <p:cNvPicPr/>
          <p:nvPr/>
        </p:nvPicPr>
        <p:blipFill>
          <a:blip r:embed="rId8"/>
          <a:stretch/>
        </p:blipFill>
        <p:spPr>
          <a:xfrm>
            <a:off x="6934320" y="3505320"/>
            <a:ext cx="1900080" cy="23619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143000" y="28954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kespe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78520" y="289548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Don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289548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Mi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82560" y="594360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Ke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20040" y="594360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swor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83080" y="59436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r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2600" y="594360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69280" y="28954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1880" y="6019920"/>
            <a:ext cx="357480" cy="43344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433440"/>
              <a:gd name="textAreaBottom" fmla="*/ 410400 h 433440"/>
            </a:gdLst>
            <a:ahLst/>
            <a:rect l="textAreaLeft" t="textAreaTop" r="textAreaRight" b="textAreaBottom"/>
            <a:pathLst>
              <a:path w="21600" h="26185">
                <a:moveTo>
                  <a:pt x="0" y="0"/>
                </a:moveTo>
                <a:lnTo>
                  <a:pt x="21600" y="0"/>
                </a:lnTo>
                <a:lnTo>
                  <a:pt x="21600" y="26185"/>
                </a:lnTo>
                <a:lnTo>
                  <a:pt x="0" y="26185"/>
                </a:lnTo>
                <a:close/>
              </a:path>
              <a:path fill="lightenLess" w="21600" h="261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85">
                <a:moveTo>
                  <a:pt x="21600" y="0"/>
                </a:moveTo>
                <a:lnTo>
                  <a:pt x="21600" y="26185"/>
                </a:lnTo>
                <a:lnTo>
                  <a:pt x="20200" y="24785"/>
                </a:lnTo>
                <a:lnTo>
                  <a:pt x="20200" y="1400"/>
                </a:lnTo>
                <a:close/>
              </a:path>
              <a:path fill="darkenLess" w="21600" h="26185">
                <a:moveTo>
                  <a:pt x="21600" y="26185"/>
                </a:moveTo>
                <a:lnTo>
                  <a:pt x="0" y="26185"/>
                </a:lnTo>
                <a:lnTo>
                  <a:pt x="1400" y="24785"/>
                </a:lnTo>
                <a:lnTo>
                  <a:pt x="20200" y="24785"/>
                </a:lnTo>
                <a:close/>
              </a:path>
              <a:path fill="lighten" w="21600" h="26185">
                <a:moveTo>
                  <a:pt x="0" y="261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85"/>
                </a:lnTo>
                <a:close/>
              </a:path>
              <a:path fill="darken" w="21600" h="26185">
                <a:moveTo>
                  <a:pt x="7301" y="13093"/>
                </a:moveTo>
                <a:lnTo>
                  <a:pt x="17806" y="6086"/>
                </a:lnTo>
                <a:lnTo>
                  <a:pt x="17806" y="20099"/>
                </a:lnTo>
                <a:close/>
              </a:path>
              <a:path fill="darken" w="21600" h="26185">
                <a:moveTo>
                  <a:pt x="3794" y="6086"/>
                </a:moveTo>
                <a:lnTo>
                  <a:pt x="5456" y="6086"/>
                </a:lnTo>
                <a:lnTo>
                  <a:pt x="5456" y="20099"/>
                </a:lnTo>
                <a:lnTo>
                  <a:pt x="3794" y="20099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1" descr=""/>
          <p:cNvPicPr/>
          <p:nvPr/>
        </p:nvPicPr>
        <p:blipFill>
          <a:blip r:embed="rId9"/>
          <a:stretch/>
        </p:blipFill>
        <p:spPr>
          <a:xfrm>
            <a:off x="3200400" y="228600"/>
            <a:ext cx="1828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shakespeare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95280" y="2057400"/>
            <a:ext cx="3264120" cy="3809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356120" y="685800"/>
            <a:ext cx="69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William Shakespear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564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1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8880" y="2057400"/>
            <a:ext cx="24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154 sonn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92600" y="4419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维纳斯与阿多尼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77640" y="358128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Venus and Adon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3" action="ppaction://hlinksldjump"/>
          </p:cNvPr>
          <p:cNvSpPr/>
          <p:nvPr/>
        </p:nvSpPr>
        <p:spPr>
          <a:xfrm>
            <a:off x="6477120" y="5257800"/>
            <a:ext cx="509400" cy="50976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8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1371600" y="1523880"/>
            <a:ext cx="6708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1. Can you name some famo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hinese poets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1288800" y="2438280"/>
            <a:ext cx="640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2.  Do you know any English poets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81800" y="457200"/>
            <a:ext cx="553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Times New Roman"/>
              </a:rPr>
              <a:t>English Poetry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297180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3. Whose poetry reminds Chinese read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of Du Fu or Li Bai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2840" y="3962520"/>
            <a:ext cx="54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4. Why do people read poetry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4495680"/>
            <a:ext cx="694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5. What makes poetry difficult to write 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but very interesting to rea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5410080"/>
            <a:ext cx="702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6. What are some of the features that a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good poetry has in commo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177640" y="730080"/>
            <a:ext cx="52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John Donn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57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3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7680" y="2438280"/>
            <a:ext cx="20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Fle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59280" y="25909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跳蚤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16280" y="44956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海上风暴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1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3343320" cy="3962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183280" y="3733920"/>
            <a:ext cx="278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torm At Se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2" action="ppaction://hlinksldjump"/>
          </p:cNvPr>
          <p:cNvSpPr/>
          <p:nvPr/>
        </p:nvSpPr>
        <p:spPr>
          <a:xfrm>
            <a:off x="6477120" y="5257800"/>
            <a:ext cx="509400" cy="50976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8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117880" y="609480"/>
            <a:ext cx="52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John Milto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608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7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82760" y="26668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失乐园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26440" y="198108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dise Lo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59080" y="40384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复乐园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87680" y="5562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力士参孙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3120" y="3352680"/>
            <a:ext cx="38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dise Regain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01680" y="4724280"/>
            <a:ext cx="36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amson Agonis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8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2776680" cy="359424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rId2" action="ppaction://hlinksldjump"/>
          </p:cNvPr>
          <p:cNvSpPr/>
          <p:nvPr/>
        </p:nvSpPr>
        <p:spPr>
          <a:xfrm>
            <a:off x="7543800" y="5562720"/>
            <a:ext cx="509760" cy="50940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737720" y="838080"/>
            <a:ext cx="59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lexander Pop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688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74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59280" y="33526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批评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16280" y="50292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致阿勃斯诺特医生书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35400" y="26668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20080" y="1981080"/>
            <a:ext cx="36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n Essay on M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4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2492640" cy="3720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345560" y="3200400"/>
            <a:ext cx="26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On Critic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5920" y="4267080"/>
            <a:ext cx="42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 Doctor Abothnot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2" action="ppaction://hlinksldjump"/>
          </p:cNvPr>
          <p:cNvSpPr/>
          <p:nvPr/>
        </p:nvSpPr>
        <p:spPr>
          <a:xfrm>
            <a:off x="6477120" y="5715000"/>
            <a:ext cx="509400" cy="50976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8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449360" y="533520"/>
            <a:ext cx="70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William Wordsworth</a:t>
            </a:r>
            <a:r>
              <a:rPr b="1" i="1" lang="en-US" sz="36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(1770—1850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wordsworth1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3139920" cy="35211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035400" y="3581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黄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漫步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97480" y="2743200"/>
            <a:ext cx="364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n Evening Wal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04920" y="3314880"/>
            <a:ext cx="6732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407000" y="4724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序曲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98200" y="457200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Prelud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2" action="ppaction://hlinksldjump"/>
          </p:cNvPr>
          <p:cNvSpPr/>
          <p:nvPr/>
        </p:nvSpPr>
        <p:spPr>
          <a:xfrm>
            <a:off x="5943600" y="5562720"/>
            <a:ext cx="509760" cy="50940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345760" y="609480"/>
            <a:ext cx="50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John Keats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795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82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02080" y="22860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《伊萨贝拉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7480" y="2133720"/>
            <a:ext cx="17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Isabel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11360" y="40384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夜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21880" y="335268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Ode to a Nighting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30680" y="48769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《秋颂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21160" y="472428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 Autum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keat4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2803680" cy="358128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rId2" action="ppaction://hlinksldjump"/>
          </p:cNvPr>
          <p:cNvSpPr/>
          <p:nvPr/>
        </p:nvSpPr>
        <p:spPr>
          <a:xfrm>
            <a:off x="6095880" y="5638680"/>
            <a:ext cx="509760" cy="50976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360" y="533520"/>
            <a:ext cx="721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George Gordon Byro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(1788—1824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286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恰尔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哈罗尔德游记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21200" y="39625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唐璜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4880" y="2743200"/>
            <a:ext cx="45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Vision of Judg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029200" y="3352680"/>
            <a:ext cx="24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审判的幻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5520" y="3809880"/>
            <a:ext cx="20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Don Ju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34160" y="1752480"/>
            <a:ext cx="48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hilde Harold’s Pilgr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12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2895480" cy="3810240"/>
          </a:xfrm>
          <a:prstGeom prst="rect">
            <a:avLst/>
          </a:prstGeom>
          <a:ln w="0">
            <a:noFill/>
          </a:ln>
        </p:spPr>
      </p:pic>
      <p:sp>
        <p:nvSpPr>
          <p:cNvPr id="282" name="">
            <a:hlinkClick r:id="rId2" action="ppaction://hlinksldjump"/>
          </p:cNvPr>
          <p:cNvSpPr/>
          <p:nvPr/>
        </p:nvSpPr>
        <p:spPr>
          <a:xfrm>
            <a:off x="7086600" y="5257800"/>
            <a:ext cx="509760" cy="50976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16600" y="4572000"/>
            <a:ext cx="30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Isles of Gree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5181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哀希腊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267080" y="4343400"/>
            <a:ext cx="441972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西风哟，如果冬天已经来到，春天还会遥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33160" y="685800"/>
            <a:ext cx="69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ercy Bysshe Shelley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79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82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00600" y="3048120"/>
            <a:ext cx="35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解放了的普罗米修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44120" y="2209680"/>
            <a:ext cx="43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rometheus Unb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63640" y="44956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西风颂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68880" y="3733920"/>
            <a:ext cx="426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Ode to the West W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115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致云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45200" y="533412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 a Sky-La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2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2867040" cy="3657600"/>
          </a:xfrm>
          <a:prstGeom prst="rect">
            <a:avLst/>
          </a:prstGeom>
          <a:ln w="0">
            <a:noFill/>
          </a:ln>
        </p:spPr>
      </p:pic>
      <p:sp>
        <p:nvSpPr>
          <p:cNvPr id="295" name="">
            <a:hlinkClick r:id="rId2" action="ppaction://hlinksldjump"/>
          </p:cNvPr>
          <p:cNvSpPr/>
          <p:nvPr/>
        </p:nvSpPr>
        <p:spPr>
          <a:xfrm>
            <a:off x="6172200" y="5943600"/>
            <a:ext cx="509760" cy="50976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346120" y="609480"/>
            <a:ext cx="54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Robert Frost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874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96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06800" y="35053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波士顿以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24280" y="236232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少年的意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30480" y="45720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山间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11360" y="57913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西去的溪流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69240" y="1676520"/>
            <a:ext cx="26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 Boy’s Wil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44480" y="2819520"/>
            <a:ext cx="33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North of Bost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67800" y="5105520"/>
            <a:ext cx="43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West-Running Broo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268520" y="3886200"/>
            <a:ext cx="37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Mountain Interv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frost1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2984400" cy="3657600"/>
          </a:xfrm>
          <a:prstGeom prst="rect">
            <a:avLst/>
          </a:prstGeom>
          <a:ln w="0">
            <a:noFill/>
          </a:ln>
        </p:spPr>
      </p:pic>
      <p:sp>
        <p:nvSpPr>
          <p:cNvPr id="306" name="">
            <a:hlinkClick r:id="rId2" action="ppaction://hlinksldjump"/>
          </p:cNvPr>
          <p:cNvSpPr/>
          <p:nvPr/>
        </p:nvSpPr>
        <p:spPr>
          <a:xfrm>
            <a:off x="7620120" y="579132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07640" y="685800"/>
            <a:ext cx="564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nswers to Question 3– 6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676520"/>
            <a:ext cx="687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3. William Wordsworth’s , Geor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Gordon Byron’s , John Keats’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27432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4. Reading poetry brings people fr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different places and different tim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together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4267080"/>
            <a:ext cx="687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5. Poetry plays with sounds , words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grammar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33412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6. The form is very important :the numb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     …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line . Poetry … rhythm and rhyme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772400" y="8380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066680" y="228600"/>
          <a:ext cx="7772400" cy="6278400"/>
        </p:xfrm>
        <a:graphic>
          <a:graphicData uri="http://schemas.openxmlformats.org/drawingml/2006/table">
            <a:tbl>
              <a:tblPr/>
              <a:tblGrid>
                <a:gridCol w="1905120"/>
                <a:gridCol w="2514600"/>
                <a:gridCol w="3352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Period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Famous Poe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Style of Poe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The 17</a:t>
                      </a:r>
                      <a:r>
                        <a:rPr b="1" i="1" lang="en-US" sz="2800" spc="-1" strike="noStrike" baseline="30000">
                          <a:solidFill>
                            <a:srgbClr val="990000"/>
                          </a:solidFill>
                          <a:latin typeface="Times New Roman"/>
                        </a:rPr>
                        <a:t>th</a:t>
                      </a: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Centu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The 18</a:t>
                      </a:r>
                      <a:r>
                        <a:rPr b="1" i="1" lang="en-US" sz="2800" spc="-1" strike="noStrike" baseline="30000">
                          <a:solidFill>
                            <a:srgbClr val="990000"/>
                          </a:solidFill>
                          <a:latin typeface="Times New Roman"/>
                        </a:rPr>
                        <a:t>th</a:t>
                      </a: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Centu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The 19</a:t>
                      </a:r>
                      <a:r>
                        <a:rPr b="1" i="1" lang="en-US" sz="2800" spc="-1" strike="noStrike" baseline="30000">
                          <a:solidFill>
                            <a:srgbClr val="990000"/>
                          </a:solidFill>
                          <a:latin typeface="Times New Roman"/>
                        </a:rPr>
                        <a:t>th</a:t>
                      </a: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Centu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The 20</a:t>
                      </a:r>
                      <a:r>
                        <a:rPr b="1" i="1" lang="en-US" sz="2800" spc="-1" strike="noStrike" baseline="30000">
                          <a:solidFill>
                            <a:srgbClr val="990000"/>
                          </a:solidFill>
                          <a:latin typeface="Times New Roman"/>
                        </a:rPr>
                        <a:t>th</a:t>
                      </a: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Centu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3048120" y="914400"/>
            <a:ext cx="222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Shakespeare , John Donne , John Milton 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3240" y="2743200"/>
            <a:ext cx="260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lexander P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365760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Wordsworth , George Byron , John Kea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8480" y="548640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Robert Fr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803160"/>
            <a:ext cx="327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onnets , surprising images, absence of rhyme at the end of each l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365760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omantic poetry , nature poems , sonnets , long po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510552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dern poetry , close to us both in the language and im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259092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finest poetry in Eng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55360" y="380880"/>
            <a:ext cx="550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hoose the best answer 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1143000"/>
            <a:ext cx="8077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1. Modern English came into being from about the end of the ________ century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. 16th        B. 17th        C. 18th        D. 19th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2. The poetry of John Donne reminds Chinese readers of the poems by ___________ 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. Du Fu      B. Li Bai    C. Su Dongpo  D. Guo Moru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3. Byron’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les of Greece (1824)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is an example of ______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. a sonnet                    B. romantic poetry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. nature poetry            D. modern poe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4. Which group of poets did not come from the same countr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. Li Bai , Wang Wei , and Su Dongpo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. William Wordsworth , Robert Frost and Shakespear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. John Keats , John Donne , and John Milton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. George Gordon Byron , Shakespeare and John Keat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2860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5562720"/>
            <a:ext cx="716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4114800"/>
            <a:ext cx="2590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33526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7467480" y="533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20896" y="10800"/>
                </a:lnTo>
                <a:lnTo>
                  <a:pt x="6883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90720" y="228600"/>
            <a:ext cx="8153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5. Whose poems d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have rhyme at the end of each line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. Wang Wei’s               B. Shakespeare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. Su Dongpo’s              D. John Milton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6. Which is the correct order of time about the follow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English poets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. Shakespeare         Alexander Pope           John Don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. John Donne          Alexander Pope            John Keat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. William Wordsworth               George Gordon Byr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       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John Milt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. John Milton                        Robert Frost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George Gordon By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7. The introduction of English poetry to China began _____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. at the start of the 20th centu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. in the late 1930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. at the end of the 19th centu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. between 1910 and the 1930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36232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2362320"/>
            <a:ext cx="8384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26668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2666880"/>
            <a:ext cx="9144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3048120"/>
            <a:ext cx="10666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3352680"/>
            <a:ext cx="10670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0" y="3809880"/>
            <a:ext cx="16002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3809880"/>
            <a:ext cx="17528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2819520"/>
            <a:ext cx="7086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5715000"/>
            <a:ext cx="3962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13716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7010280" y="54100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6324480" y="5410080"/>
            <a:ext cx="662040" cy="609840"/>
          </a:xfrm>
          <a:custGeom>
            <a:avLst/>
            <a:gdLst>
              <a:gd name="textAreaLeft" fmla="*/ 39240 w 662040"/>
              <a:gd name="textAreaRight" fmla="*/ 622800 w 6620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3448" h="21600">
                <a:moveTo>
                  <a:pt x="0" y="0"/>
                </a:moveTo>
                <a:lnTo>
                  <a:pt x="23448" y="0"/>
                </a:lnTo>
                <a:lnTo>
                  <a:pt x="23448" y="21600"/>
                </a:lnTo>
                <a:lnTo>
                  <a:pt x="0" y="21600"/>
                </a:lnTo>
                <a:close/>
              </a:path>
              <a:path fill="lightenLess" w="23448" h="21600">
                <a:moveTo>
                  <a:pt x="0" y="0"/>
                </a:moveTo>
                <a:lnTo>
                  <a:pt x="23448" y="0"/>
                </a:lnTo>
                <a:lnTo>
                  <a:pt x="22048" y="1400"/>
                </a:lnTo>
                <a:lnTo>
                  <a:pt x="1400" y="1400"/>
                </a:lnTo>
                <a:close/>
              </a:path>
              <a:path fill="darken" w="23448" h="21600">
                <a:moveTo>
                  <a:pt x="23448" y="0"/>
                </a:moveTo>
                <a:lnTo>
                  <a:pt x="23448" y="21600"/>
                </a:lnTo>
                <a:lnTo>
                  <a:pt x="22048" y="20200"/>
                </a:lnTo>
                <a:lnTo>
                  <a:pt x="22048" y="1400"/>
                </a:lnTo>
                <a:close/>
              </a:path>
              <a:path fill="darkenLess" w="23448" h="21600">
                <a:moveTo>
                  <a:pt x="23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8" y="20200"/>
                </a:lnTo>
                <a:close/>
              </a:path>
              <a:path fill="lighten" w="23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8" h="21600">
                <a:moveTo>
                  <a:pt x="4717" y="10800"/>
                </a:moveTo>
                <a:lnTo>
                  <a:pt x="18730" y="3794"/>
                </a:lnTo>
                <a:lnTo>
                  <a:pt x="18730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14400" y="38088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8. The wider public in China discovered English poetry at th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eginning of the ________ century 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. 17th          B. 18th         C. 19th          D. 20th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9. The advantage of reading English poetry in Chines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translation is ______________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. that you have more choic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. that something of the spirit is l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. that you understand it bet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. that you learn how to express yourself in new wa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10. How is an English poem different from its Chine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translati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. It will become more difficult to understan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. Some of the information in the original poem is mis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. The Chinese translation will offer readers much l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hoice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. Something of the spirit of the original poem will be los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152388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3352680"/>
            <a:ext cx="3962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6248520"/>
            <a:ext cx="7238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7162920" y="2438280"/>
            <a:ext cx="662040" cy="609840"/>
          </a:xfrm>
          <a:custGeom>
            <a:avLst/>
            <a:gdLst>
              <a:gd name="textAreaLeft" fmla="*/ 39240 w 662040"/>
              <a:gd name="textAreaRight" fmla="*/ 622800 w 6620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3448" h="21600">
                <a:moveTo>
                  <a:pt x="0" y="0"/>
                </a:moveTo>
                <a:lnTo>
                  <a:pt x="23448" y="0"/>
                </a:lnTo>
                <a:lnTo>
                  <a:pt x="23448" y="21600"/>
                </a:lnTo>
                <a:lnTo>
                  <a:pt x="0" y="21600"/>
                </a:lnTo>
                <a:close/>
              </a:path>
              <a:path fill="lightenLess" w="23448" h="21600">
                <a:moveTo>
                  <a:pt x="0" y="0"/>
                </a:moveTo>
                <a:lnTo>
                  <a:pt x="23448" y="0"/>
                </a:lnTo>
                <a:lnTo>
                  <a:pt x="22048" y="1400"/>
                </a:lnTo>
                <a:lnTo>
                  <a:pt x="1400" y="1400"/>
                </a:lnTo>
                <a:close/>
              </a:path>
              <a:path fill="darken" w="23448" h="21600">
                <a:moveTo>
                  <a:pt x="23448" y="0"/>
                </a:moveTo>
                <a:lnTo>
                  <a:pt x="23448" y="21600"/>
                </a:lnTo>
                <a:lnTo>
                  <a:pt x="22048" y="20200"/>
                </a:lnTo>
                <a:lnTo>
                  <a:pt x="22048" y="1400"/>
                </a:lnTo>
                <a:close/>
              </a:path>
              <a:path fill="darkenLess" w="23448" h="21600">
                <a:moveTo>
                  <a:pt x="23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8" y="20200"/>
                </a:lnTo>
                <a:close/>
              </a:path>
              <a:path fill="lighten" w="23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8" h="21600">
                <a:moveTo>
                  <a:pt x="4717" y="10800"/>
                </a:moveTo>
                <a:lnTo>
                  <a:pt x="18730" y="3794"/>
                </a:lnTo>
                <a:lnTo>
                  <a:pt x="18730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679040" y="609480"/>
            <a:ext cx="66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Main Idea of Each Paragrap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4440" y="1676520"/>
            <a:ext cx="181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 1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 2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 3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 4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 5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 6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 7 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880" y="1828800"/>
            <a:ext cx="28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y we read poetry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2362320"/>
            <a:ext cx="35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inese poets and poetry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19520" y="289548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arly English poets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19160" y="3429000"/>
            <a:ext cx="42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19th century English poet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0240" y="396252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dern English poet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7720" y="4572000"/>
            <a:ext cx="58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introduction of English poetry to Chin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51055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y more people are interested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nglish poetry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70760" y="762120"/>
            <a:ext cx="63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hat do the words in bold refer to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0480" y="1676520"/>
            <a:ext cx="2716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a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i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ir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y (Para 5 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y (Para 7 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5640" y="1752480"/>
            <a:ext cx="60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etry plays with sounds, words and gramm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79640" y="274320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history of English poe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63760" y="3733920"/>
            <a:ext cx="46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rdsworth’s , Byron’s and Keats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10960" y="464832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dern po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32480" y="57150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ems and litera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9:15:15Z</dcterms:created>
  <dc:creator>huanglan</dc:creator>
  <dc:description/>
  <dc:language>en-US</dc:language>
  <cp:lastModifiedBy>huanglan</cp:lastModifiedBy>
  <dcterms:modified xsi:type="dcterms:W3CDTF">2004-10-19T04:28:14Z</dcterms:modified>
  <cp:revision>18</cp:revision>
  <dc:subject/>
  <dc:title>PowerPoint 演示文稿</dc:title>
</cp:coreProperties>
</file>