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0D69-89C5-47B0-B67A-6CAFE7DAE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8EA9-4156-4E4C-83C3-150F67F9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F841-9AD8-43E3-8259-7BD6A792B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752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952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1124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752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952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F369-BD02-40B4-BBC7-F6528B1A6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D2A5-33C1-403D-88D0-89BA32095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0C4C-D562-47A3-AA08-64E32F2B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1797-0075-470C-8585-B67182B1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C9FF-9B84-40D1-A4D6-CD24C6B4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D772-C237-40F7-BE70-27E1F47D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04760" y="1676520"/>
            <a:ext cx="693396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FFEF-D8A9-4798-963A-7E71ECBA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626E-531D-42FD-B437-657CCC9A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A93F-F364-451C-9EEA-35FFA506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3C8E-E8F3-4AF3-98B7-6CBDB5B2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37BC-8355-41A1-944E-79A795D8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4BEE-2DCE-4666-A47F-C66BC28E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8FB9-5651-4481-8337-53A85E1FB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0752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3952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91124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0752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3952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A723-870D-497E-9127-4096F3F4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9F5F-45CD-4CB9-99C3-E668319D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6F00-9591-4B91-950D-1FFC9407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405D-1A82-48A8-90DC-06CBFAEB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1676520"/>
            <a:ext cx="693396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718F-B5B9-4D62-8623-B8D270B2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8B8D-5BFA-4F5E-BC63-18723E30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5DC5-4CEF-4DAB-A999-59BA13B4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88E3-DCAC-49BF-B26B-645D1775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0643-B001-4036-823C-1FF65A925818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CB7E-A400-4724-B7DE-193B8DAEA705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newpag41" descr=""/>
          <p:cNvPicPr/>
          <p:nvPr/>
        </p:nvPicPr>
        <p:blipFill>
          <a:blip r:embed="rId1"/>
          <a:stretch/>
        </p:blipFill>
        <p:spPr>
          <a:xfrm>
            <a:off x="1590840" y="1030320"/>
            <a:ext cx="5962320" cy="4795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562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           </a:t>
            </a:r>
            <a:r>
              <a:rPr b="0" lang="en-US" sz="4800" spc="-1" strike="noStrike">
                <a:solidFill>
                  <a:srgbClr val="ffcc66"/>
                </a:solidFill>
                <a:latin typeface="Monotype Corsiva"/>
              </a:rPr>
              <a:t>That is all</a:t>
            </a: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ffcc66"/>
                </a:solidFill>
                <a:latin typeface="Verdana"/>
              </a:rPr>
              <a:t>thank you!</a:t>
            </a:r>
            <a:br>
              <a:rPr sz="4800"/>
            </a:b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834920" y="2491920"/>
            <a:ext cx="76676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1045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1045"/>
                </a:solidFill>
                <a:latin typeface="Times New Roman"/>
              </a:rPr>
              <a:t>chen  longb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1045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1045"/>
                </a:solidFill>
                <a:latin typeface="Times New Roman"/>
              </a:rPr>
              <a:t>Tai Shan Foreign   Language School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3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cover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5029200" cy="3429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Guess : who is he or she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4648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He is an excellent </a:t>
            </a:r>
            <a:r>
              <a:rPr b="1" lang="zh-CN" sz="2800" spc="-1" strike="noStrike" u="sng">
                <a:solidFill>
                  <a:srgbClr val="ff1045"/>
                </a:solidFill>
                <a:uFillTx/>
                <a:latin typeface="Times New Roman"/>
              </a:rPr>
              <a:t>gymnast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and won three golden Olympic Games medals, and now he works in International </a:t>
            </a:r>
            <a:r>
              <a:rPr b="1" i="1" lang="zh-CN" sz="3200" spc="-1" strike="noStrike" u="sng">
                <a:solidFill>
                  <a:srgbClr val="ff1045"/>
                </a:solidFill>
                <a:uFillTx/>
                <a:latin typeface="Times New Roman"/>
              </a:rPr>
              <a:t>Gymnastics</a:t>
            </a:r>
            <a:r>
              <a:rPr b="1" i="1" lang="zh-CN" sz="3200" spc="-1" strike="noStrike">
                <a:solidFill>
                  <a:srgbClr val="ff1045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Union . He runs a firm selling shoes and T-shirts and so o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隶书"/>
              </a:rPr>
              <a:t>李宁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81480" y="1066680"/>
            <a:ext cx="3810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In 1998, a young and beautiful Chinese girl was doing exercises on a </a:t>
            </a:r>
            <a:r>
              <a:rPr b="1" lang="zh-CN" sz="2800" spc="-1" strike="noStrike" u="sng">
                <a:solidFill>
                  <a:srgbClr val="eaeaea"/>
                </a:solidFill>
                <a:uFillTx/>
                <a:latin typeface="Times New Roman"/>
              </a:rPr>
              <a:t>beam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in the USA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when she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landed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unfortunately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she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fell </a:t>
            </a:r>
            <a:r>
              <a:rPr b="1" lang="zh-CN" sz="2800" spc="-1" strike="noStrike" u="sng">
                <a:solidFill>
                  <a:srgbClr val="eaeaea"/>
                </a:solidFill>
                <a:uFillTx/>
                <a:latin typeface="Times New Roman"/>
              </a:rPr>
              <a:t>over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and hurt badly. Now she is a disabled one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桑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o you like doing sport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1600200"/>
            <a:ext cx="504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1219320"/>
            <a:ext cx="807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If you hurt yourself, what will do at once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see the doctor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use  special medicine 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rub down , put hot and cold cloth on the </a:t>
            </a:r>
            <a:r>
              <a:rPr b="0" lang="zh-CN" sz="3600" spc="-1" strike="noStrike" u="sng">
                <a:solidFill>
                  <a:srgbClr val="eaeaea"/>
                </a:solidFill>
                <a:uFillTx/>
                <a:latin typeface="Times New Roman"/>
              </a:rPr>
              <a:t>damaged part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eaeaea"/>
                </a:solidFill>
                <a:uFillTx/>
                <a:latin typeface="Times New Roman"/>
              </a:rPr>
              <a:t>  </a:t>
            </a:r>
            <a:r>
              <a:rPr b="0" lang="zh-CN" sz="3600" spc="-1" strike="noStrike" u="sng">
                <a:solidFill>
                  <a:srgbClr val="eaeaea"/>
                </a:solidFill>
                <a:uFillTx/>
                <a:latin typeface="Times New Roman"/>
              </a:rPr>
              <a:t>(hot-cloth-and –frozen-peas)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The temperatures makes the blood move a,the damaged part begin to repair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ffcc66"/>
                </a:solidFill>
                <a:latin typeface="Ravie"/>
              </a:rPr>
              <a:t>isten and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1180800"/>
            <a:ext cx="77724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隶书"/>
                <a:ea typeface="隶书"/>
              </a:rPr>
              <a:t>1,What is the matter with Sharon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隶书"/>
                <a:ea typeface="隶书"/>
              </a:rPr>
              <a:t>2,What does the doctor tell her to do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隶书"/>
                <a:ea typeface="隶书"/>
              </a:rPr>
              <a:t>To 1  is that she has hurt her </a:t>
            </a:r>
            <a:r>
              <a:rPr b="1" i="1" lang="en-US" sz="3600" spc="-1" strike="noStrike" u="sng">
                <a:solidFill>
                  <a:srgbClr val="99ff33"/>
                </a:solidFill>
                <a:uFillTx/>
                <a:latin typeface="隶书"/>
                <a:ea typeface="隶书"/>
              </a:rPr>
              <a:t>shoulder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隶书"/>
                <a:ea typeface="隶书"/>
              </a:rPr>
              <a:t>To 2  is that the doctor tells her to use a special treatment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Do the questions with your partner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6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o is Sharo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did she hurt her should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y was she very   fortunate 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does the doctor advise her to us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to use the treatmen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often does she must take the treatmen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 you think it is effectiv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00240" y="1066320"/>
            <a:ext cx="4343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Gymna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Do exercises, high-and low bar, land,fell forward, too close,knocked into,fell over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Nothing seriou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Put hot wet cloth one minute,frozen peas for one minute again and agai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Twice a day for a wee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You were sharon,tell the sto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7621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Monotype Corsiva"/>
              </a:rPr>
              <a:t>   </a:t>
            </a:r>
            <a:r>
              <a:rPr b="0" lang="zh-CN" sz="3200" spc="-1" strike="noStrike">
                <a:solidFill>
                  <a:srgbClr val="ffcc66"/>
                </a:solidFill>
                <a:latin typeface="Monotype Corsiva"/>
              </a:rPr>
              <a:t>practise with your partner</a:t>
            </a:r>
            <a:br>
              <a:rPr sz="3200"/>
            </a:br>
            <a:r>
              <a:rPr b="0" lang="zh-CN" sz="3200" spc="-1" strike="noStrike">
                <a:solidFill>
                  <a:srgbClr val="ffcc66"/>
                </a:solidFill>
                <a:latin typeface="Monotype Corsiva"/>
              </a:rPr>
              <a:t>  one to be sharon and one to be docto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971800"/>
            <a:ext cx="4648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Take (have )a look at s.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Have a walk/rest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Be fit to do sth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Be fit for s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38320" y="3504960"/>
            <a:ext cx="30481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7" name="AN02122_" descr=""/>
          <p:cNvPicPr/>
          <p:nvPr/>
        </p:nvPicPr>
        <p:blipFill>
          <a:blip r:embed="rId1"/>
          <a:stretch/>
        </p:blipFill>
        <p:spPr>
          <a:xfrm>
            <a:off x="5791320" y="3505320"/>
            <a:ext cx="2601720" cy="2604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w Cen MT Condensed Extra Bold"/>
              </a:rPr>
              <a:t>If you were a patient at doctor’s ,and make  a dialogue with your friend.(</a:t>
            </a:r>
            <a:r>
              <a:rPr b="0" i="1" lang="en-US" sz="2800" spc="-1" strike="noStrike">
                <a:solidFill>
                  <a:srgbClr val="ffcc66"/>
                </a:solidFill>
                <a:latin typeface="Tw Cen MT Condensed Extra Bold"/>
              </a:rPr>
              <a:t>headache </a:t>
            </a:r>
            <a:r>
              <a:rPr b="0" i="1" lang="en-US" sz="3600" spc="-1" strike="noStrike">
                <a:solidFill>
                  <a:srgbClr val="ffcc66"/>
                </a:solidFill>
                <a:latin typeface="Tw Cen MT Condensed Extra Bold"/>
              </a:rPr>
              <a:t>…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PE02716_" descr=""/>
          <p:cNvPicPr/>
          <p:nvPr/>
        </p:nvPicPr>
        <p:blipFill>
          <a:blip r:embed="rId1"/>
          <a:stretch/>
        </p:blipFill>
        <p:spPr>
          <a:xfrm>
            <a:off x="4952880" y="2971800"/>
            <a:ext cx="3772080" cy="3557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fcc66"/>
                </a:solidFill>
                <a:latin typeface="DFPhonetic"/>
                <a:ea typeface="MingLiU"/>
              </a:rPr>
              <a:t>exercises to homewor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11430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ercises                 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nock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hould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ur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amin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81480" y="129492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riou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eat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o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cke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loo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pai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5T13:14:11Z</dcterms:created>
  <dc:creator>陈金钱</dc:creator>
  <dc:description/>
  <dc:language>en-US</dc:language>
  <cp:lastModifiedBy>User</cp:lastModifiedBy>
  <dcterms:modified xsi:type="dcterms:W3CDTF">2004-03-15T14:44:52Z</dcterms:modified>
  <cp:revision>7</cp:revision>
  <dc:subject/>
  <dc:title>    Guess : who is he or she</dc:title>
</cp:coreProperties>
</file>