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F51-FAE7-4124-82F1-9C2F7E34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7304-4766-4071-986C-2140D56C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7C8F-6BAF-4B93-ABF3-DBA2AD7B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F266-7B34-4BA0-ACA8-9D8572F9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EFCF-A107-451B-904A-3D320207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11AB-97EF-4352-9ADC-64C358F3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C7B3-C07F-4EC0-97B4-67DB32A6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6921-D947-4787-8F93-4A40C090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84D2-893B-450F-83E3-EB465D2C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0F18-4FAE-4D00-84FD-61EC8289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D7BD-3E71-4D07-83EF-157416CA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406-EEA2-481A-84A7-5437B803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E232-14F4-4FE1-ABF2-3E68A758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7786-1801-4390-9167-81527486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4BBE-1FAA-4936-98F1-CE5F8D8C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BE2C-B2C9-4178-8D01-144EA7EC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71AC-1C68-415C-9FEE-7B8910D9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8402-7F8C-4B9A-8862-B153B184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914-5BE0-4D72-A2A5-BA52084A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FC26-E9E5-4BA5-B1E8-5A9CC1AA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4864-C175-4FDB-82DC-95EFB3AF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35D-2A9B-471F-9650-C91FEA6F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284-CEBC-4FDC-89D1-0DBB3EEA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24F-8A3D-40F8-B8C7-87E1A45E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D6EE-3B34-4AD6-B33A-65526F529A88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FA77-7529-4422-BCF2-517C590D7FA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newpag41" descr=""/>
          <p:cNvPicPr/>
          <p:nvPr/>
        </p:nvPicPr>
        <p:blipFill>
          <a:blip r:embed="rId1"/>
          <a:stretch/>
        </p:blipFill>
        <p:spPr>
          <a:xfrm>
            <a:off x="1590840" y="1030320"/>
            <a:ext cx="5962320" cy="4795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562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0" lang="en-US" sz="4800" spc="-1" strike="noStrike">
                <a:solidFill>
                  <a:srgbClr val="ffcc66"/>
                </a:solidFill>
                <a:latin typeface="Monotype Corsiva"/>
              </a:rPr>
              <a:t>That is all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thank you!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834920" y="2491920"/>
            <a:ext cx="7667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chen  longb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Tai Shan Foreign   Language Schoo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over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Guess : who is he or she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He is an excellent </a:t>
            </a:r>
            <a:r>
              <a:rPr b="1" lang="zh-CN" sz="2800" spc="-1" strike="noStrike" u="sng">
                <a:solidFill>
                  <a:srgbClr val="ff1045"/>
                </a:solidFill>
                <a:uFillTx/>
                <a:latin typeface="Times New Roman"/>
              </a:rPr>
              <a:t>gymnast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and won three golden Olympic Games medals, and now he works in International </a:t>
            </a:r>
            <a:r>
              <a:rPr b="1" i="1" lang="zh-CN" sz="3200" spc="-1" strike="noStrike" u="sng">
                <a:solidFill>
                  <a:srgbClr val="ff1045"/>
                </a:solidFill>
                <a:uFillTx/>
                <a:latin typeface="Times New Roman"/>
              </a:rPr>
              <a:t>Gymnastics</a:t>
            </a:r>
            <a:r>
              <a:rPr b="1" i="1" lang="zh-CN" sz="3200" spc="-1" strike="noStrike">
                <a:solidFill>
                  <a:srgbClr val="ff1045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Union . He runs a firm selling shoes and T-shirts and so 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隶书"/>
              </a:rPr>
              <a:t>李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81480" y="106668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In 1998, a young and beautiful Chinese girl was doing exercises on a 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beam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in the USA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hen she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landed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unfortunately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she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fell 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over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and hurt badly. Now she is a disabled one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桑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 you like doing sport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6002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2193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If you hurt yourself, what will do at once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see the doctor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use  special medicine 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rub down , put hot and cold cloth on the </a:t>
            </a: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damaged par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  </a:t>
            </a: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(hot-cloth-and –frozen-peas)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The temperatures makes the blood move a,the damaged part begin to repai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ffcc66"/>
                </a:solidFill>
                <a:latin typeface="Ravie"/>
              </a:rPr>
              <a:t>isten and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18080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1,What is the matter with Sharon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2,What does the doctor tell her to do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To 1  is that she has hurt her </a:t>
            </a:r>
            <a:r>
              <a:rPr b="1" i="1" lang="en-US" sz="3600" spc="-1" strike="noStrike" u="sng">
                <a:solidFill>
                  <a:srgbClr val="99ff33"/>
                </a:solidFill>
                <a:uFillTx/>
                <a:latin typeface="隶书"/>
                <a:ea typeface="隶书"/>
              </a:rPr>
              <a:t>should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To 2  is that the doctor tells her to use a special treatment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o the questions with your partn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o is Shar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did she hurt her shoul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 was she very   fortunate 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does the doctor advise her to us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to use the treatmen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often does she must take the treatmen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 you think it is effectiv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00240" y="1066320"/>
            <a:ext cx="4343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Gymna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Do exercises, high-and low bar, land,fell forward, too close,knocked into,fell ove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Nothing seriou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ut hot wet cloth one minute,frozen peas for one minute again and agai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Twice a day for a wee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You were sharon,tell the st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   </a:t>
            </a: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practise with your partner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  one to be sharon and one to be docto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971800"/>
            <a:ext cx="4648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Take (have )a look at s.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Have a walk/res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Be fit to do st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Be fit for s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38320" y="3504960"/>
            <a:ext cx="3048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AN02122_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2601720" cy="2604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w Cen MT Condensed Extra Bold"/>
              </a:rPr>
              <a:t>If you were a patient at doctor’s ,and make  a dialogue with your friend.(</a:t>
            </a:r>
            <a:r>
              <a:rPr b="0" i="1" lang="en-US" sz="2800" spc="-1" strike="noStrike">
                <a:solidFill>
                  <a:srgbClr val="ffcc66"/>
                </a:solidFill>
                <a:latin typeface="Tw Cen MT Condensed Extra Bold"/>
              </a:rPr>
              <a:t>headache </a:t>
            </a:r>
            <a:r>
              <a:rPr b="0" i="1" lang="en-US" sz="3600" spc="-1" strike="noStrike">
                <a:solidFill>
                  <a:srgbClr val="ffcc66"/>
                </a:solidFill>
                <a:latin typeface="Tw Cen MT Condensed Extra Bold"/>
              </a:rPr>
              <a:t>…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PE02716_" descr=""/>
          <p:cNvPicPr/>
          <p:nvPr/>
        </p:nvPicPr>
        <p:blipFill>
          <a:blip r:embed="rId1"/>
          <a:stretch/>
        </p:blipFill>
        <p:spPr>
          <a:xfrm>
            <a:off x="4952880" y="2971800"/>
            <a:ext cx="3772080" cy="3557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cc66"/>
                </a:solidFill>
                <a:latin typeface="DFPhonetic"/>
                <a:ea typeface="MingLiU"/>
              </a:rPr>
              <a:t>exercises to home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1430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ercises    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nock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oul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u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in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1480" y="12949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io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eat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o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ck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lo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ai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3:14:11Z</dcterms:created>
  <dc:creator>陈金钱</dc:creator>
  <dc:description/>
  <dc:language>en-US</dc:language>
  <cp:lastModifiedBy>User</cp:lastModifiedBy>
  <dcterms:modified xsi:type="dcterms:W3CDTF">2004-03-15T14:44:52Z</dcterms:modified>
  <cp:revision>7</cp:revision>
  <dc:subject/>
  <dc:title>    Guess : who is he or she</dc:title>
</cp:coreProperties>
</file>