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7.gif" ContentType="image/gif"/>
  <Override PartName="/ppt/media/image26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6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8.gif" ContentType="image/gif"/>
  <Override PartName="/ppt/media/image27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9.png" ContentType="image/png"/>
  <Override PartName="/ppt/media/image33.jpeg" ContentType="image/jpeg"/>
  <Override PartName="/ppt/media/image34.gif" ContentType="image/gif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26A-6BC5-489A-B81F-EADB6FD6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2F9-293F-4D99-B2AF-5D2E25F1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EA6-6CFF-457C-8308-785D1D22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60F-87A6-467E-9648-7F796B5C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C2B4-9513-4013-85EC-D4BB9EBF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FEA5-9404-48E9-B80F-1D7759ED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C5CC-E72C-409C-A14E-A2B7AD7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2D57-A946-439D-8FF8-0BCB4052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0D0C-A03C-494D-837C-C7491CB4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C6D6-BAC1-4472-BB76-09BD78E2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DD61-2645-441A-8F84-EEDFDC7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32E-89D2-4B5A-83F1-CE2BFDC3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D460-38C8-40B3-9D70-4DFD171F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12D8-E9ED-4845-963C-7067AAA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C319-8FD5-4ED9-8A24-F585F0FD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FDB7-5A9C-490E-AD32-837E3B33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B42B-45CF-4C58-B3EE-45F1ABC1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F97-CC90-4489-A69D-DE17DDC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E29-FF79-4671-A4A9-3863A492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357-2EEA-4EB5-9B43-E37F34D0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430-0C3C-4C75-A47F-7191F382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267-B394-4774-84E3-81F99C9F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972-2686-4504-8E8D-6A14DE67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9BD-2321-40DA-87E5-0737BBD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B72B-F54A-41BF-9C1A-85E0723D23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255F-8C1D-48EC-A92B-EBD0A884541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629400" cy="556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as206_01b_pic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4952880"/>
          </a:xfrm>
          <a:prstGeom prst="rect">
            <a:avLst/>
          </a:prstGeom>
          <a:ln w="0">
            <a:noFill/>
          </a:ln>
        </p:spPr>
      </p:pic>
      <p:pic>
        <p:nvPicPr>
          <p:cNvPr id="143" name="44" descr=""/>
          <p:cNvPicPr/>
          <p:nvPr/>
        </p:nvPicPr>
        <p:blipFill>
          <a:blip r:embed="rId2"/>
          <a:stretch/>
        </p:blipFill>
        <p:spPr>
          <a:xfrm>
            <a:off x="1752480" y="5257800"/>
            <a:ext cx="548640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54200" y="114300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Something about 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terranean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2133720"/>
          <a:ext cx="6095880" cy="3504960"/>
        </p:xfrm>
        <a:graphic>
          <a:graphicData uri="http://schemas.openxmlformats.org/drawingml/2006/table">
            <a:tbl>
              <a:tblPr/>
              <a:tblGrid>
                <a:gridCol w="3504960"/>
                <a:gridCol w="259092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Leng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   </a:t>
                      </a: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Wid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Temperatu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   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Sal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662800" y="23623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3,700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62800" y="320040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1,800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7840" y="49528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3.7-3.9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7960" y="4114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66"/>
                </a:solidFill>
                <a:latin typeface="Arial Black"/>
              </a:rPr>
              <a:t>25℃-29 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13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tu42-1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01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3733560" cy="281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07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3733920" cy="2667240"/>
          </a:xfrm>
          <a:prstGeom prst="rect">
            <a:avLst/>
          </a:prstGeom>
          <a:ln w="0">
            <a:noFill/>
          </a:ln>
        </p:spPr>
      </p:pic>
      <p:pic>
        <p:nvPicPr>
          <p:cNvPr id="157" name="0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19160" y="11476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Conditions for co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68560"/>
          <a:ext cx="8229240" cy="3886200"/>
        </p:xfrm>
        <a:graphic>
          <a:graphicData uri="http://schemas.openxmlformats.org/drawingml/2006/table">
            <a:tbl>
              <a:tblPr/>
              <a:tblGrid>
                <a:gridCol w="82292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347840" y="2209680"/>
            <a:ext cx="60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water temperature above 20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4080" y="312408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plenty of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2200" y="50292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clear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4114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 Black"/>
              </a:rPr>
              <a:t>water depth of less than 60 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map_holyland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449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191120" y="4724280"/>
            <a:ext cx="1676160" cy="762120"/>
          </a:xfrm>
          <a:custGeom>
            <a:avLst/>
            <a:gdLst>
              <a:gd name="textAreaLeft" fmla="*/ 785520 w 1676160"/>
              <a:gd name="textAreaRight" fmla="*/ 1436760 w 1676160"/>
              <a:gd name="textAreaTop" fmla="*/ 592560 h 762120"/>
              <a:gd name="textAreaBottom" fmla="*/ 6534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883"/>
                </a:moveTo>
                <a:lnTo>
                  <a:pt x="16794" y="19883"/>
                </a:lnTo>
                <a:lnTo>
                  <a:pt x="16794" y="10125"/>
                </a:lnTo>
                <a:lnTo>
                  <a:pt x="13705" y="10125"/>
                </a:lnTo>
                <a:lnTo>
                  <a:pt x="17653" y="0"/>
                </a:lnTo>
                <a:lnTo>
                  <a:pt x="21600" y="10125"/>
                </a:lnTo>
                <a:lnTo>
                  <a:pt x="18511" y="10125"/>
                </a:lnTo>
                <a:lnTo>
                  <a:pt x="185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aa" descr=""/>
          <p:cNvPicPr/>
          <p:nvPr/>
        </p:nvPicPr>
        <p:blipFill>
          <a:blip r:embed="rId2"/>
          <a:stretch/>
        </p:blipFill>
        <p:spPr>
          <a:xfrm>
            <a:off x="2438280" y="5638680"/>
            <a:ext cx="3962520" cy="7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ihai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58128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sihai4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581640" cy="4343400"/>
          </a:xfrm>
          <a:prstGeom prst="rect">
            <a:avLst/>
          </a:prstGeom>
          <a:ln w="0">
            <a:noFill/>
          </a:ln>
        </p:spPr>
      </p:pic>
      <p:pic>
        <p:nvPicPr>
          <p:cNvPr id="170" name="aa" descr=""/>
          <p:cNvPicPr/>
          <p:nvPr/>
        </p:nvPicPr>
        <p:blipFill>
          <a:blip r:embed="rId3"/>
          <a:stretch/>
        </p:blipFill>
        <p:spPr>
          <a:xfrm>
            <a:off x="2819520" y="5715000"/>
            <a:ext cx="3733560" cy="63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0320" y="12952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2209680"/>
          <a:ext cx="7619760" cy="3505320"/>
        </p:xfrm>
        <a:graphic>
          <a:graphicData uri="http://schemas.openxmlformats.org/drawingml/2006/table">
            <a:tbl>
              <a:tblPr/>
              <a:tblGrid>
                <a:gridCol w="761976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4479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minerals from thousands of natural springs and the River Jor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31280" y="388620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little rain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6920" y="480060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Comic Sans MS"/>
              </a:rPr>
              <a:t>no river flowing out of the 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121932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alt to every thousand parts of water,or 25%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000" y="1143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320" y="167652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   thi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2040" y="21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920" y="2514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6160" y="297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7120" y="33526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9640" y="38098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267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53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8640" y="51055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  b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510552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 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aa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12408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762120"/>
            <a:ext cx="8229600" cy="5867280"/>
          </a:xfrm>
          <a:prstGeom prst="horizontalScroll">
            <a:avLst>
              <a:gd name="adj" fmla="val 937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190512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en from sp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=When/ If it is seen from  space,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276720"/>
            <a:ext cx="754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e.g.    Folded up along the lines, the paper w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be a little  bo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When/If it is folded up along the lines,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457200"/>
            <a:ext cx="8305560" cy="6400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905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make up /be made up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4038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book is made up of these three sto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2971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.g.  These three stories make up the whole 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wa" descr=""/>
          <p:cNvPicPr/>
          <p:nvPr/>
        </p:nvPicPr>
        <p:blipFill>
          <a:blip r:embed="rId1"/>
          <a:stretch/>
        </p:blipFill>
        <p:spPr>
          <a:xfrm>
            <a:off x="17524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10280" y="54100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Taught b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66"/>
                </a:solidFill>
                <a:latin typeface="Arial Black"/>
              </a:rPr>
              <a:t>Roger C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80880"/>
            <a:ext cx="8305920" cy="6477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17524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That is 3.5% by we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2743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se workers are paid by the 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58128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gar is sold by the pound,eggs by the dozen,and cloth by the y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aa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76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10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2819160"/>
          </a:xfrm>
          <a:prstGeom prst="rect">
            <a:avLst/>
          </a:prstGeom>
          <a:ln w="0">
            <a:noFill/>
          </a:ln>
        </p:spPr>
      </p:pic>
      <p:pic>
        <p:nvPicPr>
          <p:cNvPr id="206" name="ANIMAL3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581640" cy="2666880"/>
          </a:xfrm>
          <a:prstGeom prst="rect">
            <a:avLst/>
          </a:prstGeom>
          <a:ln w="0">
            <a:noFill/>
          </a:ln>
        </p:spPr>
      </p:pic>
      <p:pic>
        <p:nvPicPr>
          <p:cNvPr id="207" name="74962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733920" cy="2628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BLUEKING" descr=""/>
          <p:cNvPicPr/>
          <p:nvPr/>
        </p:nvPicPr>
        <p:blipFill>
          <a:blip r:embed="rId4"/>
          <a:stretch/>
        </p:blipFill>
        <p:spPr>
          <a:xfrm>
            <a:off x="5334120" y="3733920"/>
            <a:ext cx="338292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572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JELLIES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124440" cy="2514600"/>
          </a:xfrm>
          <a:prstGeom prst="rect">
            <a:avLst/>
          </a:prstGeom>
          <a:ln w="0">
            <a:noFill/>
          </a:ln>
        </p:spPr>
      </p:pic>
      <p:pic>
        <p:nvPicPr>
          <p:cNvPr id="214" name="na_05m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15" name="WALL-97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WALL-390" descr=""/>
          <p:cNvPicPr/>
          <p:nvPr/>
        </p:nvPicPr>
        <p:blipFill>
          <a:blip r:embed="rId4"/>
          <a:stretch/>
        </p:blipFill>
        <p:spPr>
          <a:xfrm>
            <a:off x="5410080" y="3886200"/>
            <a:ext cx="3124440" cy="2362320"/>
          </a:xfrm>
          <a:prstGeom prst="rect">
            <a:avLst/>
          </a:prstGeom>
          <a:ln w="0">
            <a:noFill/>
          </a:ln>
        </p:spPr>
      </p:pic>
      <p:pic>
        <p:nvPicPr>
          <p:cNvPr id="217" name="SUB0001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968760" y="2133720"/>
            <a:ext cx="1111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How can we protect our sea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054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133720" cy="1730160"/>
          </a:xfrm>
          <a:prstGeom prst="rect">
            <a:avLst/>
          </a:prstGeom>
          <a:ln w="0">
            <a:noFill/>
          </a:ln>
        </p:spPr>
      </p:pic>
      <p:pic>
        <p:nvPicPr>
          <p:cNvPr id="221" name="44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3526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a011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23" name="44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2-1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572000" cy="4267440"/>
          </a:xfrm>
          <a:prstGeom prst="rect">
            <a:avLst/>
          </a:prstGeom>
          <a:ln w="0">
            <a:noFill/>
          </a:ln>
        </p:spPr>
      </p:pic>
      <p:pic>
        <p:nvPicPr>
          <p:cNvPr id="91" name="44" descr=""/>
          <p:cNvPicPr/>
          <p:nvPr/>
        </p:nvPicPr>
        <p:blipFill>
          <a:blip r:embed="rId2"/>
          <a:stretch/>
        </p:blipFill>
        <p:spPr>
          <a:xfrm>
            <a:off x="4572000" y="4952880"/>
            <a:ext cx="5181480" cy="147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GLOBE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3071400">
            <a:off x="175320" y="435960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The Pacific 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7520" y="685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The Arctic 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 rot="3200400">
            <a:off x="2500560" y="2909160"/>
            <a:ext cx="223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 rot="3411600">
            <a:off x="6325920" y="3541680"/>
            <a:ext cx="1411200" cy="7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6953040" y="16002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9240" y="13716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Nor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89880" y="266688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f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0480" y="121932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86920" y="4038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South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29480" y="60199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Antarc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2480" y="464832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Oce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13716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.How salty is the water in the ocea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.  3.5%     B.  11%     C.   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273800">
            <a:off x="1157400" y="220932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3000" y="350532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.Where is  the saltiest lake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9920" y="457200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he Great Salt La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56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1981080" cy="1287360"/>
          </a:xfrm>
          <a:prstGeom prst="rect">
            <a:avLst/>
          </a:prstGeom>
          <a:ln w="0">
            <a:noFill/>
          </a:ln>
        </p:spPr>
      </p:pic>
      <p:pic>
        <p:nvPicPr>
          <p:cNvPr id="109" name="44" descr=""/>
          <p:cNvPicPr/>
          <p:nvPr/>
        </p:nvPicPr>
        <p:blipFill>
          <a:blip r:embed="rId2"/>
          <a:stretch/>
        </p:blipFill>
        <p:spPr>
          <a:xfrm>
            <a:off x="-380880" y="0"/>
            <a:ext cx="43894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.Where is the longest coral bed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8480" y="259092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_023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1589040" cy="108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33526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4.How does sea water stay cle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2670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eaweeds produce various chemicals that keep the sea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44" descr=""/>
          <p:cNvPicPr/>
          <p:nvPr/>
        </p:nvPicPr>
        <p:blipFill>
          <a:blip r:embed="rId2"/>
          <a:stretch/>
        </p:blipFill>
        <p:spPr>
          <a:xfrm>
            <a:off x="-380880" y="228600"/>
            <a:ext cx="438948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371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he earth looks blue from the space  because  it is so far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3048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4191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F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56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5146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. Only a few people have seen much of the earth’s solid  surface bef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657600"/>
            <a:ext cx="8610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.  Altogether there are eleven minerals that make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he salt water of the oc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4.  Chemicals produced by seaweeds help keep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seawater cle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4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81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105520" y="1981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42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 F   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495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 F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63868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   T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4479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5.The surface water of the Mediterranean in   summer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can reach up to 25°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4382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6.According to the passage, if the sea loses a lot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ater to the air, there might be parts of salt 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housand of 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886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7.Coral beds can be seen everywhere in the sea a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over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5105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8.Corals must live in clean water and dirty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ll kill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4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81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83520" y="11430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e9ad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2057400"/>
          <a:ext cx="7238880" cy="3886200"/>
        </p:xfrm>
        <a:graphic>
          <a:graphicData uri="http://schemas.openxmlformats.org/drawingml/2006/table">
            <a:tbl>
              <a:tblPr/>
              <a:tblGrid>
                <a:gridCol w="3962520"/>
                <a:gridCol w="327636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M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cean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diterranean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ead Sea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reat Salt Lak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800600" y="2209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289548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9000" y="3733920"/>
            <a:ext cx="20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640" y="4495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640" y="52578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aa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81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yz106</cp:lastModifiedBy>
  <dcterms:modified xsi:type="dcterms:W3CDTF">2002-04-02T02:42:16Z</dcterms:modified>
  <cp:revision>182</cp:revision>
  <dc:subject/>
  <dc:title>PowerPoint 演示文稿</dc:title>
</cp:coreProperties>
</file>