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wmf" ContentType="image/x-wmf"/>
  <Override PartName="/ppt/media/image2.gif" ContentType="image/gif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2E8-8D24-4255-91AD-9579DB3AC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F9C-BDC0-4043-AA49-AE6BCD2B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D55D-288D-41FD-93F7-C4BCC1A0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62B-F463-4A74-B8E3-2BA4494A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E92-487D-440C-90C7-63630776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7F1-A6D9-46C5-9DDB-A5E744D0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1B9-957E-4623-874F-173A15C3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96A-DE17-45D9-9D6D-65671FB0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FF7-9F1A-4170-A5AD-0A70150E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D09-23A7-447F-A68F-FED315AD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BFE-D676-4B98-B638-DA316C54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DCC-E0DC-4A8F-BC65-EDF19164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5DF0-391A-4610-9796-9F5C2B916F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cean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800600"/>
          </a:xfrm>
          <a:prstGeom prst="rect">
            <a:avLst/>
          </a:prstGeom>
          <a:ln w="0">
            <a:noFill/>
          </a:ln>
        </p:spPr>
      </p:pic>
      <p:pic>
        <p:nvPicPr>
          <p:cNvPr id="42" name="B_023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1589040" cy="12351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43480" y="325440"/>
            <a:ext cx="39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oper Black"/>
              </a:rPr>
              <a:t>Lesson 62      The 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33120" y="6095880"/>
            <a:ext cx="18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March 16</a:t>
            </a:r>
            <a:r>
              <a:rPr b="1" lang="en-US" sz="1800" spc="-1" strike="noStrike" baseline="30000">
                <a:solidFill>
                  <a:srgbClr val="ff0066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62000" y="609588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Times New Roman"/>
              </a:rPr>
              <a:t>浙江椒江一中   田逢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BJ_046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200" y="152280"/>
            <a:ext cx="25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8560" y="914400"/>
            <a:ext cx="791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The earth looks blue from the space because it is so fa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49640" y="1523880"/>
            <a:ext cx="80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2.Only a few people have seen much of the earth’s solid surf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133720"/>
            <a:ext cx="81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3.Altogether there are eleven minerals that make up the sal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of the oc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280" y="289548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4.Chemicals produced by seaweeds help keep the seawater cle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7120" y="350532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5.The surface water of the Mediterranean in summer can reach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o 25°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7120" y="4343400"/>
            <a:ext cx="828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6.According to the passage,if the sea loses a lot of water to the ai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re Might be parts of salt per thousand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280" y="5257800"/>
            <a:ext cx="82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7.Carol beds can be seen everywhere in the sea all over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960" y="5791320"/>
            <a:ext cx="79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8.Corals must live in clean water and dirty water will kill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6440" y="75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6440" y="144792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6440" y="205740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33000" y="27432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000" y="33526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6440" y="42670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6440" y="5181480"/>
            <a:ext cx="4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9320" y="5715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391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FJ01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5790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1960" y="457200"/>
            <a:ext cx="312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iscuss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985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3352680"/>
            <a:ext cx="86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How can we protect our se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51055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BJ_001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334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32440" y="22860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40680" y="2076480"/>
            <a:ext cx="75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 the text again and try to re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he 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◇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inish off the exercises in the work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asd" descr=""/>
          <p:cNvPicPr/>
          <p:nvPr/>
        </p:nvPicPr>
        <p:blipFill>
          <a:blip r:embed="rId2"/>
          <a:stretch/>
        </p:blipFill>
        <p:spPr>
          <a:xfrm>
            <a:off x="2362320" y="198108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_002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532640" cy="5105160"/>
          </a:xfrm>
          <a:prstGeom prst="rect">
            <a:avLst/>
          </a:prstGeom>
          <a:ln w="0">
            <a:noFill/>
          </a:ln>
        </p:spPr>
      </p:pic>
      <p:pic>
        <p:nvPicPr>
          <p:cNvPr id="48" name="B_018" descr=""/>
          <p:cNvPicPr/>
          <p:nvPr/>
        </p:nvPicPr>
        <p:blipFill>
          <a:blip r:embed="rId2"/>
          <a:stretch/>
        </p:blipFill>
        <p:spPr>
          <a:xfrm>
            <a:off x="762120" y="5029200"/>
            <a:ext cx="7543800" cy="92232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3" action="ppaction://hlinksldjump"/>
          </p:cNvPr>
          <p:cNvSpPr/>
          <p:nvPr/>
        </p:nvSpPr>
        <p:spPr>
          <a:xfrm>
            <a:off x="1035000" y="1066680"/>
            <a:ext cx="26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re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4" action="ppaction://hlinksldjump"/>
          </p:cNvPr>
          <p:cNvSpPr/>
          <p:nvPr/>
        </p:nvSpPr>
        <p:spPr>
          <a:xfrm>
            <a:off x="1041120" y="1752480"/>
            <a:ext cx="28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Fast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5" action="ppaction://hlinksldjump"/>
          </p:cNvPr>
          <p:cNvSpPr/>
          <p:nvPr/>
        </p:nvSpPr>
        <p:spPr>
          <a:xfrm>
            <a:off x="1041840" y="2438280"/>
            <a:ext cx="34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areful-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6" action="ppaction://hlinksldjump"/>
          </p:cNvPr>
          <p:cNvSpPr/>
          <p:nvPr/>
        </p:nvSpPr>
        <p:spPr>
          <a:xfrm>
            <a:off x="1068120" y="3124080"/>
            <a:ext cx="390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nguage 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33560" y="4343400"/>
            <a:ext cx="262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7" action="ppaction://hlinksldjump"/>
          </p:cNvPr>
          <p:cNvSpPr/>
          <p:nvPr/>
        </p:nvSpPr>
        <p:spPr>
          <a:xfrm>
            <a:off x="1035000" y="373392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◆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nsoli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LOBE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86600" cy="5214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rot="3071400">
            <a:off x="1084320" y="4323240"/>
            <a:ext cx="25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Pacif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240" y="99072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he Arctic 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 rot="3200400">
            <a:off x="2935440" y="3312720"/>
            <a:ext cx="240048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7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Atlantic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 rot="3411600">
            <a:off x="5750280" y="3621960"/>
            <a:ext cx="1600200" cy="75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81204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0000ff"/>
                </a:solidFill>
                <a:latin typeface="Arial Black"/>
              </a:rPr>
              <a:t>The Indian Ocean</a:t>
            </a:r>
            <a:endParaRPr b="0" lang="en-US" sz="2000" spc="1" strike="noStrike">
              <a:ln w="0">
                <a:noFill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6097320" y="17524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s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440" y="16765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00960" y="28954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3080" y="17524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320" y="35812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ou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2680" y="541008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ntarc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520" y="28260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alk about th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38098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ce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J_01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467480" cy="4978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2514600"/>
            <a:ext cx="71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.How does sea water stay cl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84600" y="3809880"/>
            <a:ext cx="681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Where is the longest coral bed in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81720" y="1600200"/>
            <a:ext cx="713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How salty is the water in the ocean?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5%    11%     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84240" y="5181480"/>
            <a:ext cx="73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4.Where is  the saltiest lake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1040" y="380880"/>
            <a:ext cx="86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isten to the tape and then answer 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273800">
            <a:off x="2254320" y="174276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7800" y="2971800"/>
            <a:ext cx="582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eaweeds produce various chemic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at keep the sea cle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97080" y="4724280"/>
            <a:ext cx="64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It lies off 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8520" y="57150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The Grand Salt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4876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58128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10800"/>
                </a:moveTo>
                <a:lnTo>
                  <a:pt x="28586" y="3794"/>
                </a:lnTo>
                <a:lnTo>
                  <a:pt x="2858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BJ_04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848720" cy="4876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54920" y="1600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How salty are different lakes and se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6280" y="2610000"/>
            <a:ext cx="4511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1b6f"/>
                </a:solidFill>
                <a:latin typeface="Times New Roman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cean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editerranea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ad Se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reat Salt Lak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29200" y="238608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1b6f"/>
                </a:solidFill>
                <a:latin typeface="Times New Roman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680" y="32004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0240" y="388620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3.7—3.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8000" y="449568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8000" y="510552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27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5384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43800" y="63244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s206_01b_pic" descr=""/>
          <p:cNvPicPr/>
          <p:nvPr/>
        </p:nvPicPr>
        <p:blipFill>
          <a:blip r:embed="rId1"/>
          <a:stretch/>
        </p:blipFill>
        <p:spPr>
          <a:xfrm>
            <a:off x="4343400" y="2133720"/>
            <a:ext cx="434340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03400" y="201600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ngth: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2680" y="331164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idth: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440" y="45306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mperature: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1480" y="567360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alt: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32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46440" y="194004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,7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22760" y="323532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,800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14360" y="4495680"/>
            <a:ext cx="157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5℃-29 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32400" y="567360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37-39 parts per thou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560" y="129528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mething about Mediterrane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7162920" y="63244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39" h="21600">
                <a:moveTo>
                  <a:pt x="14563" y="3794"/>
                </a:moveTo>
                <a:lnTo>
                  <a:pt x="28576" y="10800"/>
                </a:lnTo>
                <a:lnTo>
                  <a:pt x="1456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h0026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62520" cy="3962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869080" y="4724280"/>
            <a:ext cx="219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oral 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3720" y="137160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ditions for co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0040" y="2209680"/>
            <a:ext cx="43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920" y="324180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4200" y="415620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0760" y="518148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.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280" y="2209680"/>
            <a:ext cx="415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water temperature above 20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324180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plenty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19112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lea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3640" y="5146560"/>
            <a:ext cx="38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depth of less than 60 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6781680" y="60199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000" y="533520"/>
            <a:ext cx="79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ad the text carefully and make some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7160" y="1523880"/>
            <a:ext cx="801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Why did the Dead Sea become the saltiest lake in the wor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8640" y="2438280"/>
            <a:ext cx="48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9000" y="3733920"/>
            <a:ext cx="42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280" y="4952880"/>
            <a:ext cx="42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israel99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25909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723080" y="3452760"/>
            <a:ext cx="405000" cy="1014480"/>
          </a:xfrm>
          <a:custGeom>
            <a:avLst/>
            <a:gdLst/>
            <a:ahLst/>
            <a:rect l="l" t="t" r="r" b="b"/>
            <a:pathLst>
              <a:path w="255" h="639">
                <a:moveTo>
                  <a:pt x="214" y="50"/>
                </a:moveTo>
                <a:cubicBezTo>
                  <a:pt x="166" y="83"/>
                  <a:pt x="167" y="143"/>
                  <a:pt x="136" y="190"/>
                </a:cubicBezTo>
                <a:cubicBezTo>
                  <a:pt x="128" y="244"/>
                  <a:pt x="124" y="315"/>
                  <a:pt x="83" y="356"/>
                </a:cubicBezTo>
                <a:cubicBezTo>
                  <a:pt x="69" y="416"/>
                  <a:pt x="80" y="380"/>
                  <a:pt x="40" y="461"/>
                </a:cubicBezTo>
                <a:cubicBezTo>
                  <a:pt x="24" y="493"/>
                  <a:pt x="14" y="539"/>
                  <a:pt x="5" y="574"/>
                </a:cubicBezTo>
                <a:cubicBezTo>
                  <a:pt x="8" y="589"/>
                  <a:pt x="0" y="612"/>
                  <a:pt x="14" y="618"/>
                </a:cubicBezTo>
                <a:cubicBezTo>
                  <a:pt x="67" y="639"/>
                  <a:pt x="83" y="617"/>
                  <a:pt x="110" y="592"/>
                </a:cubicBezTo>
                <a:cubicBezTo>
                  <a:pt x="148" y="513"/>
                  <a:pt x="106" y="610"/>
                  <a:pt x="136" y="469"/>
                </a:cubicBezTo>
                <a:cubicBezTo>
                  <a:pt x="143" y="436"/>
                  <a:pt x="188" y="382"/>
                  <a:pt x="188" y="382"/>
                </a:cubicBezTo>
                <a:cubicBezTo>
                  <a:pt x="191" y="370"/>
                  <a:pt x="193" y="358"/>
                  <a:pt x="197" y="347"/>
                </a:cubicBezTo>
                <a:cubicBezTo>
                  <a:pt x="202" y="335"/>
                  <a:pt x="210" y="324"/>
                  <a:pt x="214" y="312"/>
                </a:cubicBezTo>
                <a:cubicBezTo>
                  <a:pt x="229" y="266"/>
                  <a:pt x="233" y="218"/>
                  <a:pt x="249" y="173"/>
                </a:cubicBezTo>
                <a:cubicBezTo>
                  <a:pt x="246" y="123"/>
                  <a:pt x="255" y="72"/>
                  <a:pt x="240" y="24"/>
                </a:cubicBezTo>
                <a:cubicBezTo>
                  <a:pt x="233" y="0"/>
                  <a:pt x="157" y="80"/>
                  <a:pt x="214" y="5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7720" y="2362320"/>
            <a:ext cx="48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inerals from thousands of na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prings and the River Jord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2240" y="37339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ttle rai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5920" y="487692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no river flowing out of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408780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The Dead 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105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db6ff"/>
            </a:gs>
            <a:gs pos="100000">
              <a:srgbClr val="a5d1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4400" y="152280"/>
            <a:ext cx="850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ll in the blanks with proper words or phr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685800"/>
            <a:ext cx="8763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from space,the earth looks blue.This is 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 _____of the earth’s surface is_____ __ ___v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ceans.The oceans of the world are_____.The Dead Sea,where there is merely 60mm rain in a year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___,is the most famous salt lake 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water of the Dead Sea_______about 250 parts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alt to every thousand parts of water,or25%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eight.The saltiest lake in the World is the_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_____.Hot parts of the world where the sea is not deep have______ ______.The largest coral bed _____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e north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9760" y="736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5880" y="119376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Two th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40480" y="114300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made  up 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2800" y="157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s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960" y="19810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880" y="24382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7120" y="2819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41040" y="3276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86240" y="365760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Great  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5320" y="41148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2320" y="457200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oral   b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62560" y="4572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lies 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334120"/>
            <a:ext cx="8229600" cy="1523880"/>
          </a:xfrm>
          <a:prstGeom prst="horizontalScroll">
            <a:avLst>
              <a:gd name="adj" fmla="val 9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en from the plane,(=When it is seen from the plane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g.Folded up along the lines, the paper will be a little bo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When/If it is folded up along the lines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5334120"/>
            <a:ext cx="8305920" cy="16761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up /be made up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three stories make up the whole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ok is made up of these three sto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5181480"/>
            <a:ext cx="8305920" cy="190512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kers are pai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ar is s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pound, eggs by the do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cloth by the y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64771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10800"/>
                </a:moveTo>
                <a:lnTo>
                  <a:pt x="28596" y="3794"/>
                </a:lnTo>
                <a:lnTo>
                  <a:pt x="2859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77240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4T15:02:01Z</dcterms:created>
  <dc:creator>Terence</dc:creator>
  <dc:description/>
  <dc:language>en-US</dc:language>
  <cp:lastModifiedBy>Terence</cp:lastModifiedBy>
  <dcterms:modified xsi:type="dcterms:W3CDTF">1999-12-16T17:06:39Z</dcterms:modified>
  <cp:revision>16</cp:revision>
  <dc:subject/>
  <dc:title>PowerPoint 演示文稿</dc:title>
</cp:coreProperties>
</file>