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0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8E6DF-75AE-40FB-AADE-86C9346B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CC7E8-843C-4DB1-B0E7-C1568B0D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B16F-1712-4907-92EF-9B779FA7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91E16-7B56-4992-BD7A-3AF378B0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C070-5EB3-4164-AC60-5C87CF1A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E7D9-129B-4951-AE94-2997D200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B0BA-1BF8-41A8-9661-AB7F72E5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0B7D-2A5C-48AA-91F9-7AB4F67F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350D-4BC7-4582-BCFF-1EA688A2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3DA5-A2FC-4125-B923-0776C609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0673-5A82-4563-A184-29995A27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94B51-AA84-490F-AD46-335D44D3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4C29-F370-4B48-9868-720BA49C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8771-8BAE-4EA7-B8B4-C4B066EA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8155-9C56-4F09-A783-0A59DD91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86F1-546F-4112-9846-3FBF7CEF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9937-1914-4A16-995D-D73ABEA0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37963-291E-456E-BBC1-4F72DA5C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B8736-1953-47D6-A423-E842ACB1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C84B0-8CEF-44B2-BCDA-878240D8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9995D-86D0-4635-8D21-F692EB0A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99903-CE07-4D78-AB0E-28159501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F6FF4-B99C-4E23-A9DD-9B4BF9EB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CE64F-F9FE-4047-B9D0-D4209D52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FC94-5E9F-4D4E-8CD7-F62D42E4431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594E-8059-4EF7-A43C-F991505D4D9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ids.alms.cz/aids/english/facts_2.htm#sex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aids.alms.cz/aids/english/facts_2.htm#blood" TargetMode="External"/><Relationship Id="rId5" Type="http://schemas.openxmlformats.org/officeDocument/2006/relationships/image" Target="../media/image1.png"/><Relationship Id="rId6" Type="http://schemas.openxmlformats.org/officeDocument/2006/relationships/hyperlink" Target="http://aids.alms.cz/aids/english/facts_2.htm#needle" TargetMode="External"/><Relationship Id="rId7" Type="http://schemas.openxmlformats.org/officeDocument/2006/relationships/image" Target="../media/image1.png"/><Relationship Id="rId8" Type="http://schemas.openxmlformats.org/officeDocument/2006/relationships/hyperlink" Target="http://aids.alms.cz/aids/english/facts_2.htm#mother" TargetMode="External"/><Relationship Id="rId9" Type="http://schemas.openxmlformats.org/officeDocument/2006/relationships/hyperlink" Target="http://aids.alms.cz/aids/english/facts_2.htm#mother" TargetMode="External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Arial"/>
              </a:rPr>
              <a:t>我的故事</a:t>
            </a: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 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深圳首位艾滋患者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: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一次好奇失去一切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HIV can be transmitted through unprotected sexual intercourse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3453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How HIV is transmitt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date, there are only four primary methods of transmiss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sexual intercourse (anal and vaginal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4"/>
              </a:rPr>
              <a:t>contaminated blood and blood products, tissues and organ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6"/>
              </a:rPr>
              <a:t>contaminated needles, syringes and other piercing instruments;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8"/>
              </a:rPr>
              <a:t>mother-to-child transmission (MTCT).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9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971640" y="266760"/>
            <a:ext cx="633708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How HIV is not transmitt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mily, friends and co-workers should not fear becoming infected with HIV through casual contact with an HIV-infected person at home, at work, or sociall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se activities will not transmit the vir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shaking hands, hugging or kissing 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2782800" y="1916280"/>
            <a:ext cx="389592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coughing or sneezing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835280" y="2019240"/>
            <a:ext cx="62658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getting a mosquito or insect bite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1258920" y="1481040"/>
            <a:ext cx="532908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sharing food, eating or drinking utensils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2454120" y="1557360"/>
            <a:ext cx="43545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using drinking fountains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2519280" y="1628640"/>
            <a:ext cx="4356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using toilets or showers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2519280" y="1628640"/>
            <a:ext cx="455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他出生在湖南一个偏僻的农村山沟，家里祖祖辈辈才培养出他这么一个研究生，方圆几十里都曾以他为荣。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然而，人生中仅有的一次“好奇”冒险，仅有的一次国外红灯区的性生活经历，他就染上了艾滋病。从此，他失去了工作，失去了家庭，失去了儿子，失去了住所，失去了亲朋好友，失去了他所拥有的一切。 </a:t>
            </a:r>
            <a:br>
              <a:rPr sz="4000"/>
            </a:b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dfdef6"/>
                </a:solidFill>
                <a:latin typeface="Arial"/>
              </a:rPr>
              <a:t>年前发现感染去年发病 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using a public phone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2454120" y="1557360"/>
            <a:ext cx="46850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using public swimming pools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2387520" y="1484280"/>
            <a:ext cx="4751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opening a door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2387520" y="1484280"/>
            <a:ext cx="4751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5564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他是深圳市第一个被发现感染艾滋病毒的患者，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1992</a:t>
            </a: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年出国学习时在红灯区染病，去年开始发病。记者面前的李意辉（化名）懊悔万分，艾滋病毁掉了他的前程，毁掉了他的一切。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55280" y="2997360"/>
            <a:ext cx="7777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Arial"/>
              </a:rPr>
              <a:t>山沟里出的名牌大学研究生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记者在东湖医院病房见到他时，李意辉看上去挺年轻，憨厚朴实。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李意辉告诉记者，自己出生在湖南一个非常偏僻的农村，他靠着勤奋考上大学，又接着考上一所名牌大学读研究生，当时他是村里的骄傲。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1990</a:t>
            </a: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年，研究生毕业以后，李意辉来到了深圳。 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2781000"/>
            <a:ext cx="9144000" cy="20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Arial"/>
              </a:rPr>
              <a:t>赴英培训在红灯区染上艾滋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1992</a:t>
            </a: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年初，李意辉被派赴英国学习一年。到了英国，对艾滋病并没有深刻认识、又是第一次出国的他，对什么都充满新奇。就因为好奇，李意辉走进了一家并不高档的高危红灯区经营场所，搭讪了一个非常诱人的金发碧眼的姑娘，可他却没有意识到她的危险，没有采取任何保护措施。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李意辉说，就是这一次，他倒霉地感染上了艾滋。 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查出艾滋病毒后失去工作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家搬了一次又一次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忍痛离开妻儿一个人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曾在小岛生活了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年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记者手记：他是一个好人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395280" y="446040"/>
            <a:ext cx="82803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1723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24000" y="247680"/>
            <a:ext cx="835164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</cp:lastModifiedBy>
  <dcterms:modified xsi:type="dcterms:W3CDTF">2004-10-02T03:34:54Z</dcterms:modified>
  <cp:revision>2</cp:revision>
  <dc:subject/>
  <dc:title>PowerPoint Presentation</dc:title>
</cp:coreProperties>
</file>