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A1F-CDBA-46AB-9E2A-33200A2F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DE2-B2B1-4DFC-8A05-8B32D723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EAB-3D4A-4434-BE91-A0A8FD3A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A1F-8651-4EE3-82A9-382DDB7F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E75-1FCB-46C4-8E34-D9033C06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51E-BFFB-477D-8AD7-C1BAD17B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520-85B1-42B1-A65B-AF9B05C6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08B-41C2-428C-A75E-59867346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D76-5AD7-4FB4-9017-FCCF000D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EBF-D8A1-4482-9B7E-AA89EE14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D01-0763-4065-BB1F-AF50CB36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EA4-A81A-4A40-AFE1-E60A713F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3FC4-788F-4AAA-85AA-BEE8E4194A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1812f"/>
                </a:solidFill>
                <a:latin typeface="Arial"/>
              </a:rPr>
              <a:t>英语中的“非常”系列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3160" y="576360"/>
            <a:ext cx="8689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ok is _____worth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girl is_______ like her mo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feel _______ ashamed for what I sai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She was _______afraid of dog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______likes to join the arm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53352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8480" y="10666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本书很值得一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1320" y="16765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0440" y="2209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个女孩很像她妈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96320" y="3276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为自己所说的话感到惭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30600" y="2743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14640" y="4495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她特别怕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0080" y="3886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3800" y="5486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想参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5680" y="49528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7360" y="990720"/>
            <a:ext cx="895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07a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原级形容词和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以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完全形容词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现在分词或过去分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tired, ashamed, please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xcit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oy ran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fast to catch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arly b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个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赶上早班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3657600"/>
            <a:ext cx="772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ou are ______ wrong.(very/ qui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全错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表示极端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极其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completel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0960" y="35892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very pleased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对他的话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much pleased b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的话使她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非形容词化的分词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可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much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800" y="365760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64080" y="423720"/>
            <a:ext cx="765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动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修饰介词以及形容词和副词的比较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3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修饰部分以字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开头的形容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live, afraid, ashamed, alon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5440" y="3471840"/>
            <a:ext cx="686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wel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“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当”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用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修饰动词、介词短语或用于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固定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 worth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-known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peak well of=speak highly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040" y="609480"/>
            <a:ext cx="76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 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表示绝对意义的形容词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副词。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ure, certain, possibl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rong, right, perfect, dead, read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impossibl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修饰动词或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likes the bike, b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no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ready to buy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喜欢那辆自行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她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准备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9520" y="957240"/>
            <a:ext cx="73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程度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含有迫切之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在口语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ant, ne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表示不良情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driver with a clean dr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icense i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wan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om wa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ur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040" y="1219320"/>
            <a:ext cx="719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意为“足够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很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形容词、副词、动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但须放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这些词的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后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。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y ran fas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tch up with the do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小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上了那只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7480" y="838080"/>
            <a:ext cx="836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7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fast, sound, wide, wide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用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程度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主要用在一些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固定搭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aby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fast/sound aslee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小孩儿在熟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ide awak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at that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时她非常清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080" y="880920"/>
            <a:ext cx="82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y are _______in need of teac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_______ wound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m _______sure that the ca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d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His house is over there, _____ab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other ho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6400" y="838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7800" y="1981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8680" y="312408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640" y="36576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7242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3240" y="144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们急需教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24960" y="2514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伤得很厉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10520" y="419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完全确信那只猫彻底死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35320" y="5867280"/>
            <a:ext cx="56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的房子在那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远在其他房子之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3:03:33Z</dcterms:created>
  <dc:creator>gs6</dc:creator>
  <dc:description/>
  <dc:language>en-US</dc:language>
  <cp:lastModifiedBy>gs6</cp:lastModifiedBy>
  <dcterms:modified xsi:type="dcterms:W3CDTF">2004-10-04T10:17:33Z</dcterms:modified>
  <cp:revision>2</cp:revision>
  <dc:subject/>
  <dc:title>英语中的“非常”系列 </dc:title>
</cp:coreProperties>
</file>