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0198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F81-3D6A-49C7-BC3D-3279C6D2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95A-DF72-4DB0-ABB6-BF2B528E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C34-6622-4DA0-9CDF-27FC5CBD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435-9BDC-4ED1-B2D3-617767D0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A2C0-F01C-4F55-B18A-E493F16F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E78F-6F3B-4102-811B-94269551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8DB5-5310-4F95-9CF2-BEA918E8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EFA4-E8AC-4880-B5DF-48C3C67B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110C-CEB8-4941-92A2-A594A7F9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E489-FB09-4A86-BFD6-6D2858E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2CD1-3A1B-4712-BCC0-AA5E4FE9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793-CC40-4846-AA8C-DD11972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6CE6-D79A-417F-9102-1C5FECC6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F264-16CA-4E11-A4A1-9C8811D1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A844-3382-49F1-A848-50E33E9D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BF8B-30E0-4061-8945-CBC79577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416-E549-4CCA-B3C0-9643D00A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3F4-779D-4F68-A838-AA98C6DB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CAE-E685-44B0-9D1E-28530706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865-6114-4EB5-8FC8-9BCD5FD7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F4B-A1F3-4B6D-B60F-E5803D1C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72E-C63B-46AA-8D32-A244B6B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9C7-87AB-48D1-850D-D970A74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D58-8A58-4C0A-B39D-2BFE6A8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0905-DF96-4A66-99BA-23CC208D6C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0CED-E64F-4727-A582-8E52444726C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66"/>
                </a:solidFill>
                <a:latin typeface="Arial"/>
              </a:rPr>
              <a:t>Lesson 29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68000" y="3429000"/>
            <a:ext cx="424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6145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You don’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 your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352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 keep one's word/promise  v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守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hold  one's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3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break one's word  /prom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956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eat one's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4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igh one's word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斟酌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30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waste one's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费口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41904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short; in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简而言之；概括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, the situation is ser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总而言之，形势很严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162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n other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换句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words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400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) have a word with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一两句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440" y="5157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ord spoken is past recal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640" y="587700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一言既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驷马难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30492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Anyhow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’ll see you nex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在句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73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管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 any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 It may rain, but anyhow I shall go out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可能要下雨，但无论如何我要出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Anyhow I must finish this job today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今天要完成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6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Nevertheless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管如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5148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sounds crazy, but I believe it anyhow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听起来像疯话，然而我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836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polog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excuse for or regretful acknowledgment of a fault or offens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道歉，认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pologiz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being so angry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63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pologized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er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stepping on her foot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因踩了她的脚而向她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78936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10666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nt to 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 intend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3049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idn’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mean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so r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I meant to go running this morning, but I oversle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29000"/>
            <a:ext cx="83818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as meant for [to be]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本来是准备把他培养成为医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didn’t mean to hurt you; I just wanted to tell you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8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means work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765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hame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ling shame or guilt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羞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感到害臊或有罪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eel rath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h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8446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Are you ashamed for having 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撒了谎感到害臊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97180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behaved badly yesterday and I am ashamed (of myself)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昨天表现不好，我现在感到很惭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6483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There’s no n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18148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e is no need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867280"/>
            <a:ext cx="86104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plenty of time. There's no need to hu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's no need for a guide on our journe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049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with sb ( for doing sth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at sth / -ing / w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10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什么也没做， 为此 他很生我的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with me for not having done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ngry at his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at what I sai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but = except, but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后常用代词宾格，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prep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除去，除开，常与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nobody , nothing ,   no one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连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 one can do it but him /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3.I‘ve been looking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现在完成进行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构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have (has) + been + -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have been learning English for more than five year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look forward to sth./doing sth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期待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4.change one‘s min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单数形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f one always change one's mind, he succeeds in nothing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repair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an you fix TV se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agree o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fix +a day, the price, the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et's fix a day. Would Saturday night suit you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y haven't fixed the date for the inter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You should first fix the r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过去分词还可用来作表语或定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asic prices are low and fix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date fixed for the meeting was June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fix one's eyes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（眼睛、注意力等）盯住，专注于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he fixed her eyes on the envel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e fixed his attention on listening to the morning new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5.argue with sb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quarrel with sb.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 argued with the taxi driver about the f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ing 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you ever had misunderstandings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will you do after you find out that you have misunderstood some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hat will you say to her /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62124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sorry to be so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apologize for shouting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ase excuse me for***(do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didn’t mean to ***(do /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afraid I was very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15840"/>
            <a:ext cx="967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" y="123840"/>
            <a:ext cx="7850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:  the expressions about  ap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2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polog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620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 to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05264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sorry about sth./ for doing sth./to have done sth./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80" y="314172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I apologize (to you) for doing sth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0" y="4292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xcuse me for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1970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1.That’s OK/ all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282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2. Never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751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3. It’s not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9402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4. That’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0" y="490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5. Don’t worry about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55245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didn’t mean to do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9079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48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1557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n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276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2349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24400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068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087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polog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306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g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266760"/>
            <a:ext cx="756108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5:  exercises:  W.B. Ex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9337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s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40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appoi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724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ho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3800" y="4724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4797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sh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55897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661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808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A notice was placed by the thin ice, w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eople to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eep of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keep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C. go out     D. 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236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1240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John was made ______ the truck for a week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pun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B. was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D. to be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072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2193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e should do what we can to stop the rive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to be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lu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D. being poll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0384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e has ______ letter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much                B. a great deal of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sses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. the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Boys and girls are looking forward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fts for Children’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being given               B. to giv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for being given              D. to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038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If you can’t find a doctor, a nurse will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 f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05084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33520"/>
            <a:ext cx="830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ost of the water has been poured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st ______ in the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we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is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is not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219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79404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ater will not turn into ice _____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emperature falls below zero degree centi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i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 wh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C unless          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3794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80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380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80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re is no need ______ us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.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C.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D.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I don’t mean _____ you, but I must tel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disappoi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B. disappoin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o be disappoin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D. being dis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912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53352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. -----I apologize for quarrell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ank you.                  B. You’re wel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at’s nothing.            D. Not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21932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916360" y="2565360"/>
            <a:ext cx="315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ow will you answer to an ap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9907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all right.  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Never mind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It’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368960"/>
            <a:ext cx="91440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1Kate and Jane won’t go out together 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2 Kate is so selfish that she just consider he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3 It is 14 days later that they meet each other agai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978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618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2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: listen to the tape and find out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83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 and fill in the bla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ter they______with each other , Kate  couldn’t _______ that Friday,she was going _____ for the weekend. But Jane thought Kate didn’t keep her _____.  She changed her mind ___ ____ _______ . So they had a misunderstanding. A_________ later, Jane  __________ for being so angry with her friend, and  she felt ______  __________ , but she didn’t _____ to be so rude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13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048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  last  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t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038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olo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572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her    as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029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1. What were they argu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 They were arguing  if they had fixed  to go out on Fr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2. What did Jane think they would 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Jane thought they would go out for dinn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3. What was Kate going to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Kate was going away for the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4. What did  Jane blame Kat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In Jane’s opinion, Kate  didn’t keep her words , and didn’t consider anyone but her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Ask and Answ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When did the 2 girls meet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5. A fortnigh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What did Jane do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6. She apologized for being so rude to K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What was the reason for the argument, according to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7. They might have a misunderstanding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th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8720" y="39625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And now I am telling you can’t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anag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is Fri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1.gif (8012 bytes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0080" y="5589720"/>
            <a:ext cx="108900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476280"/>
            <a:ext cx="6696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: listen to the tape again and read after the ta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205000"/>
            <a:ext cx="6696000" cy="11912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: dealing with the language po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85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ucceed in accomplishing or achieving, especially with difficulty; contrive or arran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做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努力完成最终达到目的或完成任务的，尤指困难地设法或安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9816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We finally managed to get there in time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后我们及时赶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8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 to get a pr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得到晋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333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管理；处理； 支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managed the supermarket when the owner was away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当主人不在的时候，他管理这个超级市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637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应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The pilot managed to circle the balloon for some time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位飞行员设法绕气球飞了一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He managed to avoid an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设法避免事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46:51Z</dcterms:created>
  <dc:creator>罗燕玲</dc:creator>
  <dc:description/>
  <dc:language>en-US</dc:language>
  <cp:lastModifiedBy>w</cp:lastModifiedBy>
  <dcterms:modified xsi:type="dcterms:W3CDTF">2004-10-06T15:31:34Z</dcterms:modified>
  <cp:revision>90</cp:revision>
  <dc:subject/>
  <dc:title>Lesson two</dc:title>
</cp:coreProperties>
</file>