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D9BB-5422-42F5-BBC4-E7C9119A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D45-CE3F-4662-95CC-8B7C601B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667-BA6C-4348-9078-F6375684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A4C-AEB5-4E7B-9BC2-CD401CCE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E68-EAD7-467B-8A92-46C71F9A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DD3-7E39-4FC6-8F29-6F305624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1CA-ADDE-4A67-A5A9-295D7A41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8FE-F485-4303-9411-E8AD4EB3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67D-1F47-4B5D-B2C9-F3BDE0C6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9EE-D525-4125-A458-49A6892E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85E-C4D5-4AB1-9488-4EF09B9E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840-F148-4C98-9B8C-A1949EF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20FC-6C29-4EDC-AAC9-203010CF7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Welcome to the Automated 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Salary Review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lease answer the following questions.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Your adjusted salary will be based on your answ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9360" y="6081840"/>
            <a:ext cx="43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your answer to answer the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9720" y="6081840"/>
            <a:ext cx="33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the appropriate ans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9720" y="608184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the appropriate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OOD!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Now please get on with your wor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Best Reg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our B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end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640" y="4800600"/>
            <a:ext cx="88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You can send your answer automatically by clicking the button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Thank you for your reply.</a:t>
            </a:r>
            <a:br>
              <a:rPr sz="4400"/>
            </a:b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Your Salary will remain the same next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endshow"/>
          </p:cNvPr>
          <p:cNvSpPr/>
          <p:nvPr/>
        </p:nvSpPr>
        <p:spPr>
          <a:xfrm>
            <a:off x="3200400" y="5715000"/>
            <a:ext cx="2666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Alan Beynon</cp:lastModifiedBy>
  <dcterms:modified xsi:type="dcterms:W3CDTF">2001-11-13T00:07:34Z</dcterms:modified>
  <cp:revision>19</cp:revision>
  <dc:subject/>
  <dc:title>Anser du att du har tillräckligt hög lön?</dc:title>
</cp:coreProperties>
</file>