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06B-7EDB-4E93-ACE5-8DC27850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A24-8F63-44FC-AD89-321FB340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F3A-6C6C-4CF7-AB53-03A225A4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515-A85D-44BA-A604-B19920D7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59F-D738-4BF1-BAE9-CFB54E9D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ECF-4B03-4D6F-855D-C9AA052C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A4D-A3FC-494C-8EB2-6D414B8C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F12-4F25-4F65-9BC7-BA58D446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F2A-3D6D-4628-A63A-69A47094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DD63-49B3-48D6-AFFD-36BDFDDC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54A-8D24-487E-8990-33818C1B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156C-D318-4569-AB40-1DC9334C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E0FD-6C15-4D7D-813F-109F5F6147F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PHILOSOPH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6600"/>
                </a:solidFill>
                <a:latin typeface="Comic Sans MS"/>
              </a:rPr>
              <a:t>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c6600"/>
                </a:solidFill>
                <a:latin typeface="Comic Sans MS"/>
                <a:ea typeface="標楷體"/>
              </a:rPr>
              <a:t>人生哲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2bebesdormindo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346716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34290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understanding, when it’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有人需要同情諒解時，善體其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confidence i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對人生有把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要有信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ebes1" descr=""/>
          <p:cNvPicPr/>
          <p:nvPr/>
        </p:nvPicPr>
        <p:blipFill>
          <a:blip r:embed="rId2"/>
          <a:stretch/>
        </p:blipFill>
        <p:spPr>
          <a:xfrm>
            <a:off x="1600200" y="152280"/>
            <a:ext cx="6108840" cy="3295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 rot="1563600">
            <a:off x="1981080" y="22824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Comfort a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安慰朋友、為他打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Have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 confidence in yourself!!</a:t>
            </a:r>
            <a:r>
              <a:rPr b="1" lang="pt-BR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對自己要有信心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bebe1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5970600" cy="379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00800" y="6400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Enjo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6000" spc="-1" strike="noStrike">
                <a:solidFill>
                  <a:srgbClr val="cc6600"/>
                </a:solidFill>
                <a:latin typeface="Comic Sans MS"/>
              </a:rPr>
              <a:t>Life!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c6600"/>
                </a:solidFill>
                <a:latin typeface="Comic Sans MS"/>
                <a:ea typeface="標楷體"/>
              </a:rPr>
              <a:t>享受人生</a:t>
            </a:r>
            <a:r>
              <a:rPr b="1" lang="zh-TW" sz="4800" spc="-1" strike="noStrike">
                <a:solidFill>
                  <a:srgbClr val="cc6600"/>
                </a:solidFill>
                <a:latin typeface="Comic Sans MS"/>
                <a:ea typeface="標楷體"/>
              </a:rPr>
              <a:t>!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baby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422748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1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354636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patient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有耐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openminded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胸懷若谷，無偏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Smile often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經常微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Savor special mo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咀嚼令人回味的時刻</a:t>
            </a:r>
            <a:r>
              <a:rPr b="1" lang="zh-TW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10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269040" cy="360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94920" y="39621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Make new friends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結交新朋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Rediscover old ones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發掘老朋友的新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Tell them that you love them…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讓他們知道你愛他們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nd when you love them...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以及想到他們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Feel it deeply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是何等的真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11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4629240" cy="41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 rot="19374000">
            <a:off x="272520" y="669240"/>
            <a:ext cx="5656320" cy="31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gnore worri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揮別憂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Forget problem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忘卻難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Pardon enemi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寬恕敵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c6600"/>
                </a:solidFill>
                <a:latin typeface="Comic Sans MS"/>
              </a:rPr>
              <a:t>       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Keep promises  </a:t>
            </a:r>
            <a:r>
              <a:rPr b="1" lang="zh-TW" sz="2400" spc="-1" strike="noStrike">
                <a:solidFill>
                  <a:srgbClr val="cc6600"/>
                </a:solidFill>
                <a:latin typeface="Comic Sans MS"/>
                <a:ea typeface="標楷體"/>
              </a:rPr>
              <a:t>信守承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18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34152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52320" y="1218960"/>
            <a:ext cx="5791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f you get more than one chance, 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如果還有機會，再試一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Prize your good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別忘了嘉獎自己的好點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Try not to make mista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儘量不犯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nd if you do, learn from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若是犯了，則從中汲取教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19" descr=""/>
          <p:cNvPicPr/>
          <p:nvPr/>
        </p:nvPicPr>
        <p:blipFill>
          <a:blip r:embed="rId2"/>
          <a:stretch/>
        </p:blipFill>
        <p:spPr>
          <a:xfrm>
            <a:off x="5270400" y="609480"/>
            <a:ext cx="358776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Be crazy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偶爾瘋狂一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Appreciate miracles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	</a:t>
            </a: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when they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珍惜每個驚喜  心存感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Notice where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is in the 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抬頭張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	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看看太陽掛在天空的哪個角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6600"/>
                </a:solidFill>
                <a:latin typeface="Comic Sans MS"/>
              </a:rPr>
              <a:t>Listen to the rain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聆聽雨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4920" y="456840"/>
            <a:ext cx="6782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atch for rainbows and falling 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凝神觀望 彩虹隕石的蹤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Look for the beauty aroun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尋找周遭的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23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6248520" cy="4198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Smile with your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發出會心的微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Confide i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和朋友談談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ive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不吝付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gentl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others,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柔和待人，始終如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ebes5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498920" cy="451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ope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心存期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Desire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有所企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row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長大成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ork hard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全力以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yourself </a:t>
            </a:r>
            <a:r>
              <a:rPr b="1" lang="zh-TW" sz="2000" spc="-1" strike="noStrike">
                <a:solidFill>
                  <a:srgbClr val="cc6600"/>
                </a:solidFill>
                <a:latin typeface="Comic Sans MS"/>
                <a:ea typeface="標楷體"/>
              </a:rPr>
              <a:t>做你自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ebe6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079880" cy="5943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20:44:23Z</dcterms:created>
  <dc:creator>MPAS/assessoria especial</dc:creator>
  <dc:description/>
  <dc:language>en-US</dc:language>
  <cp:lastModifiedBy>Lyq</cp:lastModifiedBy>
  <dcterms:modified xsi:type="dcterms:W3CDTF">2002-01-25T07:01:48Z</dcterms:modified>
  <cp:revision>36</cp:revision>
  <dc:subject/>
  <dc:title>Slide sem título </dc:title>
</cp:coreProperties>
</file>