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4B8C-36B3-495A-B7E0-692E71486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5E5A-9C51-4776-9472-1D9E5563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9F9E-DD67-43C5-9C66-BF53FD201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DF58-63EA-4161-BD47-409E1856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E1440-692C-4CB2-A7E4-69C60D02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048C-E280-4526-92C8-06A081EF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D1AB-14D1-41CA-A296-F5FF8B0CD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151A7-0E23-4F2B-A6C1-E5B8E018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0B92D-FAEE-4DAA-9CDB-0624DE69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D08B-C5DD-404A-ABC2-F5385D3BA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710C-7953-48D6-BB7B-0C9165D0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2D0-1EF9-4FAF-95D5-7A5DB735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0864-B51A-41E8-A87A-452F3914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12FF5-E36B-4D96-9BC6-5F9E46F83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6CC77-302B-4C6C-8B6A-F5F5F313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515D-DB4B-4AD6-8706-C54794700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E425-C1DF-4BEF-B54F-EA885EA8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B5BF-BE53-463D-904F-DAFB9DF5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B516D-029F-4468-A04B-EE62F4CC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8DC8-13ED-4FA2-B46B-7AC4890A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7931-E960-457A-B0E1-491D8024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1CC6-8A60-4F10-B589-99FA24B7D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5EAF-F4CD-40FC-855B-B5DA25FB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106C-7218-425C-BB77-47045133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B10B-6ECD-4E0C-B55D-9DECAAA4955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535F-B720-4B86-8AD7-CBE9501271E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四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1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67652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B. can     C. need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82880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C. must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42440" y="60912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C. mu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97316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731520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D. migh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can’t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. can’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949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112920"/>
            <a:ext cx="7924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talk on … 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854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57200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105520"/>
            <a:ext cx="5790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558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19320" y="4387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d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76160" y="2590560"/>
            <a:ext cx="297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 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Medical Conference 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2766960"/>
            <a:ext cx="2286000" cy="218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025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r. Ba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Unit 25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下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867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444816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ed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2417760" cy="23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ough he was a bit surprised, because he was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752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 the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5105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xpert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210040" cy="1981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4295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d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2527200" cy="275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1752480"/>
            <a:ext cx="3200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rri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some peopl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ere also surpris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see him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23200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50920" y="4292640"/>
            <a:ext cx="48261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ight speaker 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give a talk on …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3429000"/>
            <a:ext cx="4038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was even more surprised, because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new noth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6765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that morning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right speak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ouldn’t come, and Dr. Baker was asked 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 a talk 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209680" cy="1879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4267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d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03640" y="2421000"/>
            <a:ext cx="2232360" cy="2808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1447920"/>
            <a:ext cx="3429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n they found out someon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had made a careless mist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the name li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062080" cy="1820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95640" y="4038480"/>
            <a:ext cx="51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1905120" cy="178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1600" y="2946240"/>
            <a:ext cx="464832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stands for illnesses of ea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e and thr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700280"/>
            <a:ext cx="6324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tunately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Dr. Live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was just going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alk on 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5238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0"/>
            <a:ext cx="7391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812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886200"/>
            <a:ext cx="797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 the phone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52680" y="191628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05120" y="3809880"/>
            <a:ext cx="57909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 interest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92360" cy="3352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1523880"/>
            <a:ext cx="36576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Baker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ave a very good tal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later that day and everyone at the conferenc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 very interest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 an invitation from a  Medical Conference ____ London. He got a bit ____ because they didn’t usually ____ him to such conferences. He wondered 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 the invitation. A few months 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 Dr. Baker to give the talk. Dr. Baker ____ very surprised because he was not an 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, but different given 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2240" y="1163520"/>
            <a:ext cx="78645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___ an invitation from a  Medical Conference _____ London. He got a bit _________ because they didn’t usually _____ him to such conferences. He wondered __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590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24468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urpri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457200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6680" y="1317600"/>
            <a:ext cx="72392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____ the invitation. A few months __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492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220500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l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64000" y="2997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581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537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1273320"/>
            <a:ext cx="7620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1268280"/>
            <a:ext cx="838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2492280"/>
            <a:ext cx="121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141720"/>
            <a:ext cx="20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beca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3792600"/>
            <a:ext cx="685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5084640"/>
            <a:ext cx="1143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81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780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982960"/>
            <a:ext cx="7742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897360"/>
            <a:ext cx="782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735440"/>
            <a:ext cx="790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___  the phone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rgan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0481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9625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95280" y="1523880"/>
            <a:ext cx="693432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__ Dr. Baker to give the talk. Dr. Baker ____ very surprised because he was not an __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1844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s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76720" y="27813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616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expe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8080" y="1600200"/>
            <a:ext cx="7696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_, but different given ___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773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w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458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242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458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18446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2565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3284640"/>
            <a:ext cx="4129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ould you mi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doing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464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sub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522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make oneself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916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637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答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您做…好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5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是这个主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272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. invitation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300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受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85920" y="3124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某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3886200"/>
            <a:ext cx="2057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收到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5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拒绝某人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91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2362320"/>
            <a:ext cx="4038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ccep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30481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giv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.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3809880"/>
            <a:ext cx="471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4572000"/>
            <a:ext cx="47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fus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’s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5562720"/>
            <a:ext cx="472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33556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end o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1628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71600" y="2254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某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3092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391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6450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自某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178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a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the invitation of s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3016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on / up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3778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o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540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1600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连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1996 Medical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ference in London. (P.42 L.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414600"/>
            <a:ext cx="77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昨天我收到了汤姆请我参加生日聚会的请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979800"/>
            <a:ext cx="769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d an invita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rom T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his birthday party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19320" y="190512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怀特小姐拒绝了汤姆请她吃晚饭的邀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2781360"/>
            <a:ext cx="6324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ss White refused Tom’s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24922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025720"/>
            <a:ext cx="67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她发出了许多参加她的婚礼的邀请，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还没有收到任何答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6400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sent out many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her wedding, but she hasn’t received any reply to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447920"/>
            <a:ext cx="79898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to +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ask sb. to come to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arty, wedding,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213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hould w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13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他参加你的生日聚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好吗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461484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m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your birthday party, shall w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35080"/>
            <a:ext cx="7257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959200"/>
            <a:ext cx="7742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886200"/>
            <a:ext cx="790272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217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. for a drink /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743200"/>
            <a:ext cx="8353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y don’t you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er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club one even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508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咱们请他们过来喝点东西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10552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he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ver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38080" y="20574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to do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th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781360"/>
            <a:ext cx="7981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thinking of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ing them to spen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ummer with us in Ita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4437000"/>
            <a:ext cx="76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汤姆想邀请他同学周末一起去游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4797360"/>
            <a:ext cx="77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m wants to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s classmates to g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wimming at the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19320" y="1676520"/>
            <a:ext cx="41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2. 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&amp; vi. 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330280"/>
            <a:ext cx="76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i.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to sth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1240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eas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my question righ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960" y="4495680"/>
            <a:ext cx="69501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er where she was going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she didn’t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9320" y="178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482920"/>
            <a:ext cx="7315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“Certainly, Sir.”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he didn’t know the secr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06640" y="16588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06640" y="66780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7238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have had 60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ertisement so f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6480" y="4135320"/>
            <a:ext cx="690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im if I could help,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de no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l he pleas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himself 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me? (P.42 Para.3 L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62120" y="1523880"/>
            <a:ext cx="79246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understood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oneself        seen               …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belie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182880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8320 h 3962520"/>
              <a:gd name="textAreaBottom" fmla="*/ 3904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0"/>
                  <a:pt x="10800" y="1020"/>
                </a:cubicBezTo>
                <a:lnTo>
                  <a:pt x="10800" y="9780"/>
                </a:lnTo>
                <a:cubicBezTo>
                  <a:pt x="10800" y="10290"/>
                  <a:pt x="5400" y="10800"/>
                  <a:pt x="0" y="10800"/>
                </a:cubicBezTo>
                <a:cubicBezTo>
                  <a:pt x="5400" y="10800"/>
                  <a:pt x="10800" y="11310"/>
                  <a:pt x="10800" y="11820"/>
                </a:cubicBezTo>
                <a:lnTo>
                  <a:pt x="10800" y="20580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&amp;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re are all my friends.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like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yoursel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到前面来，这样大家就能看清楚你了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277164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come to the front in order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yourself see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learl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4343400"/>
            <a:ext cx="670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please speak slow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make yourself 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52760" y="4948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95280" y="281952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mind giving a tal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 about DNA? (P.42 Para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4. Would you mind doing sth.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09480"/>
            <a:ext cx="807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35080"/>
            <a:ext cx="712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959200"/>
            <a:ext cx="7602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886200"/>
            <a:ext cx="77612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048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96252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ese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66680" y="1989000"/>
            <a:ext cx="69613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Would you mind wait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f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minu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2997360"/>
            <a:ext cx="49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再多等一会儿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76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4292280"/>
            <a:ext cx="7047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外出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帮忙照顾我的孩子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4960800"/>
            <a:ext cx="6961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Would mind keep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ey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my child while I’m o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19320" y="1523880"/>
            <a:ext cx="37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5. very </a:t>
            </a: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2701800"/>
            <a:ext cx="723744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Dr. Lively was going to talk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bject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P.43 Para.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ing I ne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3132000"/>
            <a:ext cx="7543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decided to leave on 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n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1752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正是我要找的那本书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2514600"/>
            <a:ext cx="66294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ook I 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ing fo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3962520"/>
            <a:ext cx="68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前你就是在这家医院出生的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4572000"/>
            <a:ext cx="64008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were born in this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spital 15 years ag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19810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03848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90720" y="4173480"/>
            <a:ext cx="782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191120"/>
            <a:ext cx="25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752480"/>
            <a:ext cx="75866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19320" y="4249800"/>
            <a:ext cx="6513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17524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95560" y="4044960"/>
            <a:ext cx="640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05040" y="4900680"/>
            <a:ext cx="42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yourself 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1680" y="55692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700280"/>
            <a:ext cx="73454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39680" y="4121280"/>
            <a:ext cx="733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__________ his let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4760" y="5569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700280"/>
            <a:ext cx="741672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90720" y="4325760"/>
            <a:ext cx="7456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 __________ his letter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5800" y="4300560"/>
            <a:ext cx="21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75248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0880"/>
            <a:ext cx="774720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429000"/>
            <a:ext cx="7272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800600"/>
            <a:ext cx="8062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4173480"/>
            <a:ext cx="79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67652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914400" y="3944880"/>
            <a:ext cx="808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51640" y="400536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he 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3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676520"/>
            <a:ext cx="7682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914400" y="4173480"/>
            <a:ext cx="825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5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66680" y="1752480"/>
            <a:ext cx="760896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4191120"/>
            <a:ext cx="8023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2354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ind sen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2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676520"/>
            <a:ext cx="7392960" cy="175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上节课的部分作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口头复述课文的情况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习、巩固了上节课的语法要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继续归纳总结了本单元的语言知识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835280"/>
            <a:ext cx="67057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103. 2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 101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review Unit 26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4800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820880"/>
            <a:ext cx="746784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429000"/>
            <a:ext cx="78375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00600"/>
            <a:ext cx="77724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05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357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64832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1828800"/>
            <a:ext cx="7791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B. can  C. need  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9:39:22Z</dcterms:created>
  <dc:creator>acer</dc:creator>
  <dc:description/>
  <dc:language>en-US</dc:language>
  <cp:lastModifiedBy>Zhang Lingdi</cp:lastModifiedBy>
  <dcterms:modified xsi:type="dcterms:W3CDTF">2003-06-15T10:25:39Z</dcterms:modified>
  <cp:revision>203</cp:revision>
  <dc:subject/>
  <dc:title>PowerPoint 演示文稿</dc:title>
</cp:coreProperties>
</file>