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25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38.wmf" ContentType="image/x-wmf"/>
  <Override PartName="/ppt/media/image3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9.wmf" ContentType="image/x-wmf"/>
  <Override PartName="/ppt/media/image43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BE3-0C57-4BCA-A4A4-34E94F82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ED0E-3C6B-468A-B1F4-9BEDDD99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63A-0280-4ACC-B08A-3CCAA894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18D8-4A0F-4500-AE78-FFD89F40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559A-D14A-44B3-80CB-EE30DD52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1538-CE22-4291-86FD-F2AFC048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EED5-9E8B-463D-A6B9-F184A018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1A66-8A82-4692-B320-0E653AD9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6770-8A54-44C9-A070-63CD42BE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0A63-3967-44E5-9D3C-90D5FF73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CC4E-67E0-4970-ACB0-9499030F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65BD-B216-4165-8E88-F994D8A1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165C-F0E8-4DDB-8C36-304ADC3B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7B78-B6CC-4D07-86C3-3AC57D7F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C0C7-49A5-47E2-9779-7FF57074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A3CA-C195-458F-90AD-339B373C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EB5E-3B99-4CF8-9794-B5C785C8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F94-4F8C-4F0D-92D9-A6C5DD6F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4E5-9B18-4D2A-B923-A14D4BE7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D6B8-7F01-43FE-B33E-9077DB8F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0EE-77E1-4685-883B-011DCDCE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81ED-3A8D-419B-AEEB-244C6BC0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EA8-CFF1-42C5-9E95-E214B09E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5175-FD57-4894-89D2-397E453C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5EB1-48E6-4BBB-B0CA-4F2E69442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3381-8834-44AF-B83D-7DD62841B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16.xml"/><Relationship Id="rId7" Type="http://schemas.openxmlformats.org/officeDocument/2006/relationships/image" Target="../media/image35.jpeg"/><Relationship Id="rId8" Type="http://schemas.openxmlformats.org/officeDocument/2006/relationships/image" Target="../media/image4.jpeg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9.xml"/><Relationship Id="rId3" Type="http://schemas.openxmlformats.org/officeDocument/2006/relationships/image" Target="../media/image15.jpeg"/><Relationship Id="rId4" Type="http://schemas.openxmlformats.org/officeDocument/2006/relationships/slide" Target="slide28.xm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4.xm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6.jpeg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05480" y="0"/>
            <a:ext cx="57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ff"/>
                </a:solidFill>
                <a:latin typeface="Times New Roman"/>
              </a:rPr>
              <a:t>A Garden of Po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2" descr=""/>
          <p:cNvPicPr/>
          <p:nvPr/>
        </p:nvPicPr>
        <p:blipFill>
          <a:blip r:embed="rId2"/>
          <a:stretch/>
        </p:blipFill>
        <p:spPr>
          <a:xfrm>
            <a:off x="3733920" y="1066680"/>
            <a:ext cx="194472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9" descr=""/>
          <p:cNvPicPr/>
          <p:nvPr/>
        </p:nvPicPr>
        <p:blipFill>
          <a:blip r:embed="rId3"/>
          <a:stretch/>
        </p:blipFill>
        <p:spPr>
          <a:xfrm>
            <a:off x="3657600" y="396252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2" descr=""/>
          <p:cNvPicPr/>
          <p:nvPr/>
        </p:nvPicPr>
        <p:blipFill>
          <a:blip r:embed="rId4"/>
          <a:stretch/>
        </p:blipFill>
        <p:spPr>
          <a:xfrm>
            <a:off x="1752480" y="3962520"/>
            <a:ext cx="180504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6" descr=""/>
          <p:cNvPicPr/>
          <p:nvPr/>
        </p:nvPicPr>
        <p:blipFill>
          <a:blip r:embed="rId5"/>
          <a:stretch/>
        </p:blipFill>
        <p:spPr>
          <a:xfrm>
            <a:off x="5715000" y="10666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2" descr=""/>
          <p:cNvPicPr/>
          <p:nvPr/>
        </p:nvPicPr>
        <p:blipFill>
          <a:blip r:embed="rId6"/>
          <a:stretch/>
        </p:blipFill>
        <p:spPr>
          <a:xfrm>
            <a:off x="7620120" y="39625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3" descr=""/>
          <p:cNvPicPr/>
          <p:nvPr/>
        </p:nvPicPr>
        <p:blipFill>
          <a:blip r:embed="rId7"/>
          <a:stretch/>
        </p:blipFill>
        <p:spPr>
          <a:xfrm>
            <a:off x="0" y="106668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15" descr=""/>
          <p:cNvPicPr/>
          <p:nvPr/>
        </p:nvPicPr>
        <p:blipFill>
          <a:blip r:embed="rId8"/>
          <a:stretch/>
        </p:blipFill>
        <p:spPr>
          <a:xfrm>
            <a:off x="7620120" y="10666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7" descr=""/>
          <p:cNvPicPr/>
          <p:nvPr/>
        </p:nvPicPr>
        <p:blipFill>
          <a:blip r:embed="rId9"/>
          <a:stretch/>
        </p:blipFill>
        <p:spPr>
          <a:xfrm>
            <a:off x="1752480" y="10666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1" descr=""/>
          <p:cNvPicPr/>
          <p:nvPr/>
        </p:nvPicPr>
        <p:blipFill>
          <a:blip r:embed="rId10"/>
          <a:stretch/>
        </p:blipFill>
        <p:spPr>
          <a:xfrm>
            <a:off x="0" y="396252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100" name="6" descr=""/>
          <p:cNvPicPr/>
          <p:nvPr/>
        </p:nvPicPr>
        <p:blipFill>
          <a:blip r:embed="rId11"/>
          <a:stretch/>
        </p:blipFill>
        <p:spPr>
          <a:xfrm>
            <a:off x="5791320" y="3962520"/>
            <a:ext cx="175248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nshui No.2 Middle School     Huang  Lan  Oct. 16,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9360" y="533520"/>
            <a:ext cx="70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William Wordsworth</a:t>
            </a: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(1770—1850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wordsworth1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3139920" cy="3521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35400" y="3581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黄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97480" y="2743200"/>
            <a:ext cx="36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n Evening Wal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04920" y="3314880"/>
            <a:ext cx="6732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07000" y="4724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序曲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8200" y="457200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Prelu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345760" y="609480"/>
            <a:ext cx="50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Keat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795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82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02080" y="2286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《伊萨贝拉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7480" y="213372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sabel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11360" y="4038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夜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1880" y="33526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de to a Nighting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30680" y="4876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《秋颂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21160" y="472428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Autum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keat4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2803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360" y="533520"/>
            <a:ext cx="72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George Gordon Byro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(1788—182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2286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恰尔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哈罗尔德游记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21200" y="3962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唐璜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4880" y="2743200"/>
            <a:ext cx="45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Vision of Judg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335268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审判的幻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5520" y="380988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Don Ju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4160" y="1752480"/>
            <a:ext cx="48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hilde Harold’s Pilgr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12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2895480" cy="381024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4142520" y="457200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Isles of Gree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49240" y="5181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哀希腊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267080" y="4343400"/>
            <a:ext cx="441972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西风哟，如果冬天已经来到，春天还会遥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33160" y="685800"/>
            <a:ext cx="69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ercy Bysshe Shelley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79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82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04812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解放了的普罗米修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4120" y="2209680"/>
            <a:ext cx="43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rometheus Unb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63640" y="4495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西风颂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70320" y="373392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Ode to the West W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115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致云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5200" y="533412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a Sky-La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2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2867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346120" y="609480"/>
            <a:ext cx="54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Robert Frost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874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96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06800" y="35053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波士顿以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236232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少年的意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30480" y="4572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山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11360" y="57913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西去的溪流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9240" y="167652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 Boy’s Wil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4480" y="2819520"/>
            <a:ext cx="33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North of Bost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800" y="5105520"/>
            <a:ext cx="43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est-Running Broo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68520" y="3886200"/>
            <a:ext cx="37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ountain Interv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frost1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2984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24080" y="2209680"/>
            <a:ext cx="914400" cy="2514600"/>
          </a:xfrm>
          <a:custGeom>
            <a:avLst/>
            <a:gdLst>
              <a:gd name="textAreaLeft" fmla="*/ 584280 w 914400"/>
              <a:gd name="textAreaRight" fmla="*/ 914760 w 9144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1828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154 son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5520" y="2590920"/>
            <a:ext cx="21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2 long po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080" y="441972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37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38680" y="3657600"/>
            <a:ext cx="685800" cy="2286000"/>
          </a:xfrm>
          <a:custGeom>
            <a:avLst/>
            <a:gdLst>
              <a:gd name="textAreaLeft" fmla="*/ 438120 w 685800"/>
              <a:gd name="textAreaRight" fmla="*/ 686160 w 6858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6324120" y="411480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Trag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6324480" y="3352680"/>
            <a:ext cx="19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Com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4" action="ppaction://hlinksldjump"/>
          </p:cNvPr>
          <p:cNvSpPr/>
          <p:nvPr/>
        </p:nvSpPr>
        <p:spPr>
          <a:xfrm>
            <a:off x="6323760" y="480060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History play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5" action="ppaction://hlinksldjump"/>
          </p:cNvPr>
          <p:cNvSpPr/>
          <p:nvPr/>
        </p:nvSpPr>
        <p:spPr>
          <a:xfrm>
            <a:off x="6399720" y="556272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Roman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6094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Shakespeare’s 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3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295280" y="2362320"/>
            <a:ext cx="1770120" cy="2286000"/>
          </a:xfrm>
          <a:prstGeom prst="rect">
            <a:avLst/>
          </a:prstGeom>
          <a:ln w="0">
            <a:noFill/>
          </a:ln>
        </p:spPr>
      </p:pic>
      <p:pic>
        <p:nvPicPr>
          <p:cNvPr id="221" name="2" descr=""/>
          <p:cNvPicPr/>
          <p:nvPr/>
        </p:nvPicPr>
        <p:blipFill>
          <a:blip r:embed="rId8"/>
          <a:stretch/>
        </p:blipFill>
        <p:spPr>
          <a:xfrm>
            <a:off x="6324480" y="1676520"/>
            <a:ext cx="1432080" cy="1752480"/>
          </a:xfrm>
          <a:prstGeom prst="rect">
            <a:avLst/>
          </a:prstGeom>
          <a:ln w="0">
            <a:noFill/>
          </a:ln>
        </p:spPr>
      </p:pic>
      <p:sp>
        <p:nvSpPr>
          <p:cNvPr id="222" name="">
            <a:hlinkClick r:id="rId9" action="ppaction://hlinksldjump"/>
          </p:cNvPr>
          <p:cNvSpPr/>
          <p:nvPr/>
        </p:nvSpPr>
        <p:spPr>
          <a:xfrm>
            <a:off x="7467480" y="7621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0:  Henry VI , Part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Henry VI , Part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1:  Henry VI , Part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2:  Richard I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Comedy of Err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3:  Titus Androni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Taming of the shr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4:  The Two Gentlemen of Ver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Love’s Labour’s L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Romeo and Juli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5:   Richard 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A Mid-Summer Night’s Dre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6:   King 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Merchant of Ven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7:   Henry IV , Part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Henry IV , Part 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8:   Much Ado About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Henry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Merry Wives of Wind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9:   Julius Ca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As You Like 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600:   Twelfth Night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228600"/>
            <a:ext cx="2895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first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(1590– 16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History  Plays and Com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37240" y="12193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错误的喜剧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91400" y="27432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罗密欧与朱丽叶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37240" y="33526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仲夏夜之梦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18480" y="54864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温莎的风流娘儿们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10520" y="64612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第十二夜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0384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威尼斯商人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10520" y="44956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四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10520" y="9144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三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10520" y="3808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六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10160" y="304812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二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10160" y="518148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五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83440" y="37339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约翰王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92320" y="5867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尤利乌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凯撒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10520" y="48769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无事生非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64320" y="21337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维洛那二绅士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10520" y="24382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爱的徒劳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73560" y="15238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泰特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安德洛尼克斯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10520" y="61722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皆大欢喜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83440" y="18288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驯悍记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739152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92172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1:  Ham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2:  Troilus and Cress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All’s Well That End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4:  Measure for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Ot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5:  King L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Macb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6:   Antony and Cleopa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7:   Coriola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Timon of Ath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8:   Per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9:   Cymb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10:   The Winter’s 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12:   The Temp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Henry VIII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Second period(1601– 1608)    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Trag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572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Third period(1609– 1612) 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Romantic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11360" y="3200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安东尼和克莉奥佩特拉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96960" y="609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哈姆雷特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44680" y="2133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奥瑟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49600" y="3886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雅典的泰门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44680" y="2438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李尔王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1360" y="990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特洛伊罗斯与克瑞西达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48120" y="1752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一报还一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96960" y="13716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终成眷属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44680" y="2819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麦克白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25560" y="54100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冬天的故事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20640" y="5029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辛白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73280" y="6172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八世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24360" y="579132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暴风雨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01880" y="3581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科里奥拉努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7924680" y="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8845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7000" y="3794"/>
                </a:lnTo>
                <a:lnTo>
                  <a:pt x="7000" y="17806"/>
                </a:lnTo>
                <a:lnTo>
                  <a:pt x="5337" y="17806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59080" y="42670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泰尔亲王佩里克利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289520" y="609480"/>
            <a:ext cx="724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Four Trag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32560" y="1781280"/>
            <a:ext cx="239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amle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哈姆雷特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27640" y="2743200"/>
            <a:ext cx="28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King Lea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李尔王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4648320"/>
            <a:ext cx="4724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Romeo and Juli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罗密欧与朱丽叶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03960" y="3657600"/>
            <a:ext cx="255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Macbe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麦克白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7" descr=""/>
          <p:cNvPicPr/>
          <p:nvPr/>
        </p:nvPicPr>
        <p:blipFill>
          <a:blip r:embed="rId1"/>
          <a:stretch/>
        </p:blipFill>
        <p:spPr>
          <a:xfrm>
            <a:off x="6477120" y="2362320"/>
            <a:ext cx="2119320" cy="262080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rId2" action="ppaction://hlinksldjump"/>
          </p:cNvPr>
          <p:cNvSpPr/>
          <p:nvPr/>
        </p:nvSpPr>
        <p:spPr>
          <a:xfrm>
            <a:off x="7086600" y="53341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09000" y="228600"/>
            <a:ext cx="74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Major Com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50720" y="914400"/>
            <a:ext cx="52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Merchant of Ven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威尼斯商人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53800" y="4343400"/>
            <a:ext cx="567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ll’s Well That Ends Well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终成眷属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50360" y="2133720"/>
            <a:ext cx="47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Comedy of Err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错误的喜剧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98080" y="2717640"/>
            <a:ext cx="58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 Mid-Summer Night’s Drea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仲夏夜之梦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88240" y="3200400"/>
            <a:ext cx="54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Merry Wives of Winds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温莎的风流娘儿们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24000" y="3733920"/>
            <a:ext cx="32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welfth Nigh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第十二夜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81480" y="4952880"/>
            <a:ext cx="60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easure for Measur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一报还一报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22200" y="5486400"/>
            <a:ext cx="55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uch Ado About Not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无事生非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23640" y="5943600"/>
            <a:ext cx="33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s You Like 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皆大欢喜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44280" y="1523880"/>
            <a:ext cx="54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Taming of the shre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驯悍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70102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8845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7000" y="3794"/>
                </a:lnTo>
                <a:lnTo>
                  <a:pt x="7000" y="17806"/>
                </a:lnTo>
                <a:lnTo>
                  <a:pt x="5337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79040" y="50292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Qu Yu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屈2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438280" cy="3048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4520" y="50292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u F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7120" y="68580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Ancient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李白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53080" y="1752480"/>
            <a:ext cx="2133720" cy="3048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239240" y="50292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 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86200" y="1752480"/>
            <a:ext cx="2438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290960" y="609480"/>
            <a:ext cx="67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History Pl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1676520"/>
            <a:ext cx="54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V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六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76920" y="4419720"/>
            <a:ext cx="32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Richard II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三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58640" y="5105520"/>
            <a:ext cx="318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Richard II</a:t>
            </a: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二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3000" y="236232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IV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四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30481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V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五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78000" y="3733920"/>
            <a:ext cx="32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VII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八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76920" y="5715000"/>
            <a:ext cx="307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King Joh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约翰王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1" action="ppaction://hlinksldjump"/>
          </p:cNvPr>
          <p:cNvSpPr/>
          <p:nvPr/>
        </p:nvSpPr>
        <p:spPr>
          <a:xfrm>
            <a:off x="8077320" y="7621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371240" y="3200400"/>
            <a:ext cx="32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roilus and Cress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87680" y="3276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特洛伊罗斯与克瑞西达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20400" y="175248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Ot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87280" y="18288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奥瑟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640" y="3886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ntony and Cleopa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39960" y="3962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安东尼和克莉奥佩特拉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3760" y="4648320"/>
            <a:ext cx="26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imon of Ath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44680" y="4724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雅典的泰门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840" y="17524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lius Caes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92000" y="182880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尤利乌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凯撒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6360" y="2438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itus Androni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91800" y="251460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泰特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安德洛尼克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11160" y="54100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科里奥拉努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5334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oriol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0960" y="609480"/>
            <a:ext cx="685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Roman Play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8077320" y="7621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90720" y="1143000"/>
            <a:ext cx="7848360" cy="54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onnet 18 is one of the most beautiful sonnets written by Shakespeare , in which he has a profound meditation on the destructive power of time and the eternal beauty brought forth by poetry to the one he loves . A nice summer’s day is usually transient , but the beauty in poetry can last for ever . Thus Shakespeare has a faith in the permanence of poetry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6560" y="228600"/>
            <a:ext cx="30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ff"/>
                </a:solidFill>
                <a:latin typeface="Times New Roman"/>
              </a:rPr>
              <a:t>Sonnet 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1143000"/>
            <a:ext cx="6704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hall I compare thee to a summer’s d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Thou art more lovely and more tempera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Rough winds do shake the darling buds of May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d summer’s lease hath all too short a da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ometime too hot the eye of heaven sh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d often is his gold complexion dimmed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d every fair from fair sometimes declines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y chance or nature’s changing course untrimm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ut thy eternal summer shall not fade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Nor lose possession of that fair thou ow’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Nor shall death brag thou wander’st in his shade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When in eternal lines to time thou grow’s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o long as men can breathe , or eyes can see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o long lives this , and this gives life to the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1752480" y="457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0904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9059" y="3794"/>
                </a:lnTo>
                <a:lnTo>
                  <a:pt x="9059" y="17806"/>
                </a:lnTo>
                <a:lnTo>
                  <a:pt x="739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701440" y="1231920"/>
            <a:ext cx="3839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能不能让我来把你比拟作夏日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你可是更加温和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更加可爱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狂风会吹落五月里开的好花儿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夏季的生命又未免结束得太快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有时候苍天的巨眼照得太灼热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他那金彩的脸色也会被遮暗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每一样美呀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总会离开美而凋落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被时机或自然的代谢所摧残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但是你永久的夏天决不会凋枯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你永远不会失去你美的仪态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死神夸不着你在他影子里踯躅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你将在不朽的诗中与时间同在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只要人类在呼吸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眼睛看得见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我这诗就活着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使你的生命绵延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4572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十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6094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57400" y="6094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914400" y="228600"/>
          <a:ext cx="7924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"/>
                    <a:ext cx="7924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7467480" y="563868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7301" y="11187"/>
                </a:moveTo>
                <a:lnTo>
                  <a:pt x="17806" y="4181"/>
                </a:lnTo>
                <a:lnTo>
                  <a:pt x="17806" y="18194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5456" y="4181"/>
                </a:lnTo>
                <a:lnTo>
                  <a:pt x="5456" y="18194"/>
                </a:lnTo>
                <a:lnTo>
                  <a:pt x="3794" y="18194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1066680" y="228600"/>
          <a:ext cx="77724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"/>
                    <a:ext cx="7772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7467480" y="563868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7301" y="11187"/>
                </a:moveTo>
                <a:lnTo>
                  <a:pt x="17806" y="4181"/>
                </a:lnTo>
                <a:lnTo>
                  <a:pt x="17806" y="18194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5456" y="4181"/>
                </a:lnTo>
                <a:lnTo>
                  <a:pt x="5456" y="18194"/>
                </a:lnTo>
                <a:lnTo>
                  <a:pt x="3794" y="18194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6934320" y="0"/>
            <a:ext cx="509400" cy="53352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520"/>
              <a:gd name="textAreaBottom" fmla="*/ 500760 h 533520"/>
            </a:gdLst>
            <a:ahLst/>
            <a:rect l="textAreaLeft" t="textAreaTop" r="textAreaRight" b="textAreaBottom"/>
            <a:pathLst>
              <a:path w="21600" h="22622">
                <a:moveTo>
                  <a:pt x="0" y="0"/>
                </a:moveTo>
                <a:lnTo>
                  <a:pt x="21600" y="0"/>
                </a:lnTo>
                <a:lnTo>
                  <a:pt x="21600" y="22622"/>
                </a:lnTo>
                <a:lnTo>
                  <a:pt x="0" y="22622"/>
                </a:lnTo>
                <a:close/>
              </a:path>
              <a:path fill="lightenLess" w="21600" h="22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2">
                <a:moveTo>
                  <a:pt x="21600" y="0"/>
                </a:moveTo>
                <a:lnTo>
                  <a:pt x="21600" y="22622"/>
                </a:lnTo>
                <a:lnTo>
                  <a:pt x="20200" y="21222"/>
                </a:lnTo>
                <a:lnTo>
                  <a:pt x="20200" y="1400"/>
                </a:lnTo>
                <a:close/>
              </a:path>
              <a:path fill="darkenLess" w="21600" h="22622">
                <a:moveTo>
                  <a:pt x="21600" y="22622"/>
                </a:moveTo>
                <a:lnTo>
                  <a:pt x="0" y="22622"/>
                </a:lnTo>
                <a:lnTo>
                  <a:pt x="1400" y="21222"/>
                </a:lnTo>
                <a:lnTo>
                  <a:pt x="20200" y="21222"/>
                </a:lnTo>
                <a:close/>
              </a:path>
              <a:path fill="lighten" w="21600" h="22622">
                <a:moveTo>
                  <a:pt x="0" y="22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2"/>
                </a:lnTo>
                <a:close/>
              </a:path>
              <a:path fill="darken" w="21600" h="22622">
                <a:moveTo>
                  <a:pt x="7301" y="11311"/>
                </a:moveTo>
                <a:lnTo>
                  <a:pt x="17806" y="4305"/>
                </a:lnTo>
                <a:lnTo>
                  <a:pt x="17806" y="18317"/>
                </a:lnTo>
                <a:close/>
              </a:path>
              <a:path fill="darken" w="21600" h="22622">
                <a:moveTo>
                  <a:pt x="3794" y="4305"/>
                </a:moveTo>
                <a:lnTo>
                  <a:pt x="5456" y="4305"/>
                </a:lnTo>
                <a:lnTo>
                  <a:pt x="5456" y="18317"/>
                </a:lnTo>
                <a:lnTo>
                  <a:pt x="3794" y="18317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137320" y="228600"/>
            <a:ext cx="485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Ode to the West Wi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24720" y="974880"/>
            <a:ext cx="52617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Make me thy lyre , even as the forest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What if my leaves are falling like its ow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The tumult of thy mighty harmon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Will take from both a deep , autumnal tone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Sweet though in sadness. Be thou , Spirit fierce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My spirit! Be thou me , impetuous 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Drive my dead thoughts over the uni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Like withered leaves to quicken a new birth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And , by the incantation of this verse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Scatter , as from an unextinguished hear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Ashes and sparks , my words among mankind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Be through my lips to unawakened Ear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The trumpet of a prophecy! O , Wind 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Times New Roman"/>
              </a:rPr>
              <a:t>If Winter comes , can Spring be far behind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du4" descr=""/>
          <p:cNvPicPr/>
          <p:nvPr/>
        </p:nvPicPr>
        <p:blipFill>
          <a:blip r:embed="rId1"/>
          <a:stretch/>
        </p:blipFill>
        <p:spPr>
          <a:xfrm>
            <a:off x="5105520" y="3352680"/>
            <a:ext cx="3581280" cy="3048120"/>
          </a:xfrm>
          <a:prstGeom prst="rect">
            <a:avLst/>
          </a:prstGeom>
          <a:ln w="0">
            <a:noFill/>
          </a:ln>
        </p:spPr>
      </p:pic>
      <p:pic>
        <p:nvPicPr>
          <p:cNvPr id="328" name="du2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3810240" cy="2743200"/>
          </a:xfrm>
          <a:prstGeom prst="rect">
            <a:avLst/>
          </a:prstGeom>
          <a:ln w="0">
            <a:noFill/>
          </a:ln>
        </p:spPr>
      </p:pic>
      <p:pic>
        <p:nvPicPr>
          <p:cNvPr id="329" name="dufu" descr=""/>
          <p:cNvPicPr/>
          <p:nvPr/>
        </p:nvPicPr>
        <p:blipFill>
          <a:blip r:embed="rId3"/>
          <a:stretch/>
        </p:blipFill>
        <p:spPr>
          <a:xfrm>
            <a:off x="1143000" y="3352680"/>
            <a:ext cx="3733920" cy="3048120"/>
          </a:xfrm>
          <a:prstGeom prst="rect">
            <a:avLst/>
          </a:prstGeom>
          <a:ln w="0">
            <a:noFill/>
          </a:ln>
        </p:spPr>
      </p:pic>
      <p:pic>
        <p:nvPicPr>
          <p:cNvPr id="330" name="5" descr=""/>
          <p:cNvPicPr/>
          <p:nvPr/>
        </p:nvPicPr>
        <p:blipFill>
          <a:blip r:embed="rId4"/>
          <a:stretch/>
        </p:blipFill>
        <p:spPr>
          <a:xfrm>
            <a:off x="5105520" y="457200"/>
            <a:ext cx="3504960" cy="274320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rId5" action="ppaction://hlinksldjump"/>
          </p:cNvPr>
          <p:cNvSpPr/>
          <p:nvPr/>
        </p:nvSpPr>
        <p:spPr>
          <a:xfrm>
            <a:off x="8077320" y="2666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772400" cy="6400800"/>
          </a:xfrm>
          <a:prstGeom prst="rect">
            <a:avLst/>
          </a:prstGeom>
          <a:ln w="0">
            <a:noFill/>
          </a:ln>
        </p:spPr>
      </p:pic>
      <p:sp>
        <p:nvSpPr>
          <p:cNvPr id="333" name="">
            <a:hlinkClick r:id="rId2" action="ppaction://hlinksldjump"/>
          </p:cNvPr>
          <p:cNvSpPr/>
          <p:nvPr/>
        </p:nvSpPr>
        <p:spPr>
          <a:xfrm>
            <a:off x="1066680" y="3049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苏东坡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2214720" cy="3124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784200" y="51055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 Dong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7120" y="68580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Ancient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白居易" descr=""/>
          <p:cNvPicPr/>
          <p:nvPr/>
        </p:nvPicPr>
        <p:blipFill>
          <a:blip r:embed="rId2"/>
          <a:stretch/>
        </p:blipFill>
        <p:spPr>
          <a:xfrm>
            <a:off x="3962520" y="1828800"/>
            <a:ext cx="2209680" cy="3124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48680" y="5105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i Juy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王2" descr=""/>
          <p:cNvPicPr/>
          <p:nvPr/>
        </p:nvPicPr>
        <p:blipFill>
          <a:blip r:embed="rId3"/>
          <a:stretch/>
        </p:blipFill>
        <p:spPr>
          <a:xfrm>
            <a:off x="1219320" y="1828800"/>
            <a:ext cx="2514600" cy="3124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828440" y="510552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ang W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16040" y="68580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Modern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郭2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438640" cy="2971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6040" y="502920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uo Moru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251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凤凰涅槃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2200" y="5029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en Yidu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397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死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9800" y="50292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i Q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3068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大堰河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8" descr=""/>
          <p:cNvPicPr/>
          <p:nvPr/>
        </p:nvPicPr>
        <p:blipFill>
          <a:blip r:embed="rId2"/>
          <a:stretch/>
        </p:blipFill>
        <p:spPr>
          <a:xfrm>
            <a:off x="3733920" y="1828800"/>
            <a:ext cx="2438280" cy="2971800"/>
          </a:xfrm>
          <a:prstGeom prst="rect">
            <a:avLst/>
          </a:prstGeom>
          <a:ln w="0">
            <a:noFill/>
          </a:ln>
        </p:spPr>
      </p:pic>
      <p:pic>
        <p:nvPicPr>
          <p:cNvPr id="125" name="5" descr=""/>
          <p:cNvPicPr/>
          <p:nvPr/>
        </p:nvPicPr>
        <p:blipFill>
          <a:blip r:embed="rId3"/>
          <a:stretch/>
        </p:blipFill>
        <p:spPr>
          <a:xfrm>
            <a:off x="6400800" y="1828800"/>
            <a:ext cx="22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徐1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2487600" cy="2971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344480" y="50292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u Zhi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7680" y="50292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 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68580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Modern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92400" y="54864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Times New Roman"/>
                <a:ea typeface="宋体"/>
                <a:hlinkClick r:id="rId2" action="ppaction://hlinksldjump"/>
              </a:rPr>
              <a:t>《再别康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829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致橡树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8760" y="49942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ai Wang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7288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雨巷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5" descr=""/>
          <p:cNvPicPr/>
          <p:nvPr/>
        </p:nvPicPr>
        <p:blipFill>
          <a:blip r:embed="rId3"/>
          <a:stretch/>
        </p:blipFill>
        <p:spPr>
          <a:xfrm>
            <a:off x="1219320" y="1828800"/>
            <a:ext cx="2286000" cy="2971800"/>
          </a:xfrm>
          <a:prstGeom prst="rect">
            <a:avLst/>
          </a:prstGeom>
          <a:ln w="0">
            <a:noFill/>
          </a:ln>
        </p:spPr>
      </p:pic>
      <p:pic>
        <p:nvPicPr>
          <p:cNvPr id="135" name="1" descr=""/>
          <p:cNvPicPr/>
          <p:nvPr/>
        </p:nvPicPr>
        <p:blipFill>
          <a:blip r:embed="rId4"/>
          <a:stretch/>
        </p:blipFill>
        <p:spPr>
          <a:xfrm>
            <a:off x="6400800" y="1828800"/>
            <a:ext cx="2286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shakespeare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5280" y="2057400"/>
            <a:ext cx="3264120" cy="3809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356120" y="685800"/>
            <a:ext cx="69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illiam Shakespear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564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1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84800" y="205740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154 sonn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2600" y="4419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维纳斯与阿多尼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7640" y="358128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Venus and Adon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6400800" y="52578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77640" y="730080"/>
            <a:ext cx="52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Donn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57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3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7680" y="243828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Fle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9280" y="2590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跳蚤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16280" y="4495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海上风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1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3343320" cy="3962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183280" y="3733920"/>
            <a:ext cx="27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torm At Se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17880" y="609480"/>
            <a:ext cx="52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Milto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608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7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82760" y="26668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失乐园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6440" y="198108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dise Lo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59080" y="4038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复乐园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768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力士参孙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3120" y="335268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dise Regain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1680" y="4724280"/>
            <a:ext cx="36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amson Agoni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8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27766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37720" y="838080"/>
            <a:ext cx="59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lexander Pop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688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74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9280" y="3352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批评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16280" y="5029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致阿勃斯诺特医生书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35400" y="26668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20080" y="1981080"/>
            <a:ext cx="36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n Essay on M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4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2492640" cy="3720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345560" y="3200400"/>
            <a:ext cx="26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n Critic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5920" y="4267080"/>
            <a:ext cx="42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Doctor Abothnot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3:30:57Z</dcterms:created>
  <dc:creator>huanglan</dc:creator>
  <dc:description/>
  <dc:language>en-US</dc:language>
  <cp:lastModifiedBy>huanglan</cp:lastModifiedBy>
  <dcterms:modified xsi:type="dcterms:W3CDTF">2004-10-18T09:01:20Z</dcterms:modified>
  <cp:revision>35</cp:revision>
  <dc:subject/>
  <dc:title>PowerPoint 演示文稿</dc:title>
</cp:coreProperties>
</file>