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2A5-2EE9-4364-84FB-1FF1E652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B510-7BFD-4B8A-B462-423A19A6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9134-EB1D-4D30-9DAA-48E1E819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2B8-AA35-4D80-A33C-CF1FC781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3C01-66CF-43D2-9E0C-15A7DA49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F236-4515-4455-A97C-C39E7428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B42A-5111-4A20-B9A8-45B66C49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9F8-4C44-4782-90F6-D1E0D4FD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D641-0774-480E-8DF8-D890A956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647-10A3-453E-810B-BE7FA75E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7DF3-09AC-4949-A5A9-FC488B88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F2C-115A-4D38-A843-BAB63574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0A27-F1D1-4DE7-A12C-D0E91336F2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ast Participle used as Object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bod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ought the battle l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ith my watch l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 didn’t know what time it w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ound two of the windows brok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anted their buildings constru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 way to look unnat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only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anted traditional materials u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is to B what C is to 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言正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29840" y="3199320"/>
            <a:ext cx="46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to them what fish is to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ertain Sm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ertain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 certain de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certain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ome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must be some mis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remember reading about him in some magaz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260280"/>
            <a:ext cx="784692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d prefer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refer something that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d rather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 like is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m interested in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ould feel happy i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’t stand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don’t get very excited about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09-06T15:10:21Z</dcterms:modified>
  <cp:revision>2</cp:revision>
  <dc:subject/>
  <dc:title>PowerPoint Presentation</dc:title>
</cp:coreProperties>
</file>