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214-D6B7-4395-A747-65D35CB6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3B4-99F2-4BE5-914E-D40FD88B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6AE-0FDD-4878-872C-1B44B700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651-83D9-40AB-8D0C-CA3CE189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1B5-160F-499B-A673-F87787DA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0F9-18E6-4C53-93B9-C06497B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669-D575-4D7F-82EB-A5FCC95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65B-A3DF-4550-AFB0-6C9AC7C1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50F-2CC4-41D5-B1E2-75AF6CD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23A-F4ED-4F8C-8CEA-38A3C62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DFD-33E2-42E4-8BDC-393D882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817-04BA-4143-B90A-7E637B2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FF8A-47FA-4E2D-B46D-746E8440E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at the picture and describe the architecture using your ow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ecora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the modern design and ancient a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famous archit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ngzhou new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70040"/>
            <a:ext cx="705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4:59:47Z</dcterms:modified>
  <cp:revision>4</cp:revision>
  <dc:subject/>
  <dc:title>PowerPoint Presentation</dc:title>
</cp:coreProperties>
</file>