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068-08AF-4B3D-BF1D-472F1E4D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D3B-C04F-4E40-A158-0990F2C4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C68-C13E-4C1D-ACB9-E9FCCBB6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00D-355F-470C-B4EF-DFBF6B4E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66D-4C02-4CEA-B059-0012719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1B0-080F-48C2-96E0-2B97A37F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CE9-66A1-4184-866E-C454CBB2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E9E-B190-44A4-9BCC-FD9C7F33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1C4-28BB-4658-9666-14DB4AE5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C05-686F-46A9-A6A9-F0543E1A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AF6-631D-482F-8345-2AA9A36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761-67B4-4163-BF92-9A5DFA0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A497-C683-49B3-BAF6-3A058E1FA5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1812f"/>
                </a:solidFill>
                <a:latin typeface="Arial"/>
              </a:rPr>
              <a:t>英语中的“非常”系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3160" y="576360"/>
            <a:ext cx="868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 is _____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girl is_______ like her mo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feel _______ ashamed for what I sai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_______afraid of do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______likes to join the arm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5335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8480" y="10666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本书很值得一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1320" y="16765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0440" y="2209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个女孩很像她妈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632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为自己所说的话感到惭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600" y="2743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4640" y="4495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她特别怕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3886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3800" y="5486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想参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5680" y="495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7360" y="990720"/>
            <a:ext cx="895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07a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原级形容词和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以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完全形容词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现在分词或过去分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tired, ashamed, pleas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xcit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oy ran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fast to catch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arly b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赶上早班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3657600"/>
            <a:ext cx="772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 are ______ wrong.(very/ q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全错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表示极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极其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completel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0960" y="35892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very pleased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对他的话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much pleased b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话使她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非形容词化的分词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可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much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800" y="36576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4080" y="423720"/>
            <a:ext cx="765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修饰介词以及形容词和副词的比较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3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修饰部分以字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开头的形容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live, afraid, ashamed, alon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440" y="3471840"/>
            <a:ext cx="686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we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“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当”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用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饰动词、介词短语或用于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固定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 worth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-known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peak well of=speak highly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040" y="60948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 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表示绝对意义的形容词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副词。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ure, certain, possib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rong, right, perfect, dead, read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impossibl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修饰动词或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likes the bike, 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no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ready to buy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喜欢那辆自行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她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准备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9520" y="957240"/>
            <a:ext cx="73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程度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含有迫切之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在口语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ant, ne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表示不良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driver with a clean dr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cense i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wan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m wa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u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040" y="1219320"/>
            <a:ext cx="719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意为“足够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很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形容词、副词、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但须放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这些词的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后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y ran fas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tch up with the do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小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上了那只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480" y="838080"/>
            <a:ext cx="836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fast, sound, wide, wide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程度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主要用在一些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固定搭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aby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fast/sound aslee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小孩儿在熟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ide awak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at tha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她非常清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080" y="880920"/>
            <a:ext cx="82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y are _______in need of teac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_______ wound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m _______sure that the ca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d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His house is over there, _____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other ho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6400" y="838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800" y="1981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680" y="3124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40" y="36576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7242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324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们急需教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2514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伤得很厉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10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完全确信那只猫彻底死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5320" y="5867280"/>
            <a:ext cx="56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的房子在那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远在其他房子之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3:03:33Z</dcterms:created>
  <dc:creator>gs6</dc:creator>
  <dc:description/>
  <dc:language>en-US</dc:language>
  <cp:lastModifiedBy>gs6</cp:lastModifiedBy>
  <dcterms:modified xsi:type="dcterms:W3CDTF">2004-10-04T10:17:33Z</dcterms:modified>
  <cp:revision>2</cp:revision>
  <dc:subject/>
  <dc:title>英语中的“非常”系列 </dc:title>
</cp:coreProperties>
</file>