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0B5-569F-49FD-887D-EB5943CF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1D7-006E-4F1C-ABD2-D1E8CE23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3E8-6C8E-46A7-9AF5-AF7394D8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2D2-74B6-42B1-BBCC-40C3D2C0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5D68-3A1F-4A09-89DF-B655E6D7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219B-0CEE-4AF8-B2D5-06D170F2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E74F-70E2-405D-9BE3-2676DDD8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0BA1-280B-4AC1-94A8-E286B99A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5FD9-1016-4510-8CB8-B6A15CBF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9CF6-3FD9-4E55-ADE6-C2E8E12B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8518-8A84-4AB0-9FA0-020208CB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647-77FB-4007-957D-5AE7D289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E4E4-C1F6-400E-97E1-C2405521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266F-270D-47BB-A20F-BCA23E4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089A-D73E-4968-8106-D2AF25BE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C717-22E0-4465-B938-3F911EA8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DEE6-235B-4DDE-B2B2-F93DBD62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65E-9F81-4C0D-9D3B-F41CF7A7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1A1-AC3E-4E98-BE02-B2E1A7E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2E0-7FAD-47FC-B89A-0952E46D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B41-13C6-48F1-87A5-5B87A74D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955-4BD4-468F-AEEB-CFD96A7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67E-A0D3-4EE8-9B14-00992F6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242-814F-4942-9894-47F5BDA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FE63-D380-456E-B19C-8A10C4886A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D3F-3D38-42C0-AC7D-E7F53DC4233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7840" y="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ep one’s word/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20" y="45720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keep your word if you promi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the children to the cin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5200" y="144792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kept my word to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000" y="2057400"/>
            <a:ext cx="30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on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7920" y="20574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发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240" y="2514600"/>
            <a:ext cx="74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on my word,this is an interesting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971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ak one’s word to 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4716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失信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3680" y="350532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432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留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00" y="396252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56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保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962520"/>
            <a:ext cx="31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2240" y="45720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mes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98240" y="4724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消息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240" y="510552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t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51814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记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收回前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4600" y="5562720"/>
            <a:ext cx="71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he would throw me downstai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I made him eat his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36640" y="449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30640" y="39996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ed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24640" y="139068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she is honest inde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4280" y="230508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like it very much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3200" y="329580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’ve very gla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0920" y="421020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riend in need is a frien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3880" y="4572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“确实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2560" y="1066680"/>
            <a:ext cx="35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进一步说明对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表示惊奇或含蓄的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7560" y="1905120"/>
            <a:ext cx="41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肯定对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加强自己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4040" y="2762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you don’t believ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720" y="3448080"/>
            <a:ext cx="34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ill surely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0680" y="4133880"/>
            <a:ext cx="46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really want to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840" y="497196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ally doesn’t know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1360" y="457200"/>
            <a:ext cx="30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  n. 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9760" y="137160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remarks on /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137160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以评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8280" y="2000160"/>
            <a:ext cx="60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kept mak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6480" y="2762280"/>
            <a:ext cx="77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made rud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d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2080" y="3371760"/>
            <a:ext cx="63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mark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ad better st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720" y="41911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ould be rude to remar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up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00600" y="704880"/>
            <a:ext cx="26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ght  v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4960" y="1371600"/>
            <a:ext cx="72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them with his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360" y="20574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visit last week delighted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7960" y="274320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s delighted the whol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37240" y="335268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delighted at the goo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0400" y="403848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seeing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7160" y="4724280"/>
            <a:ext cx="47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 my second article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akespe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68760" y="552600"/>
            <a:ext cx="29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.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…很喜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以…为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4280" y="200016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in scand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3200" y="2838600"/>
            <a:ext cx="576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eem to delight in kee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one else wa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8320" y="20224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对丑闻津津乐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9000" y="40798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好象以让别人都等着他们为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6120" y="60948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were all 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rece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84240" y="1219320"/>
            <a:ext cx="55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e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say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2520" y="1752480"/>
            <a:ext cx="83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delight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have won th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8640" y="243828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lighte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wer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32767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. Take delight i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7480" y="3276720"/>
            <a:ext cx="19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于干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好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4120" y="403848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takes delight i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joys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89280" y="472428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one’s de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85320" y="5410080"/>
            <a:ext cx="72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our delight, we succeeded in w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7160" y="60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400" y="4762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1720" y="154296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was riding along, the tyre bu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8160" y="205740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heart burst with 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960" y="259092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hearing the news, they burst their s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2240" y="37339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ver burst its 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8200" y="441972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/in +place =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5680" y="4971960"/>
            <a:ext cx="44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 laughter/t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8640" y="550548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out crying/laugh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1640" y="548640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with 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07320" y="476280"/>
            <a:ext cx="15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98440" y="1695600"/>
            <a:ext cx="42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 of env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600" y="2381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 envy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99880" y="32958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nvied us for 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2960" y="421020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envy you your good fort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96280" y="704880"/>
            <a:ext cx="60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2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bo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adj. Adv. Prep-p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360" y="19051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hip had 500 passengers on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6000" y="2438280"/>
            <a:ext cx="71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were ten men on board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880" y="304812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ll manage to get on board some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1880" y="375300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69520" y="377496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飞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登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7120" y="436248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34400" y="43848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在会上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布告牌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3800" y="51246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6840" y="507060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做演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戏台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01680" y="399960"/>
            <a:ext cx="22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k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2560" y="1390680"/>
            <a:ext cx="71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was leaking out of a hole in the t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2228760"/>
            <a:ext cx="713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one in the ministry had leake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y to the pr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68040" y="3448080"/>
            <a:ext cx="64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leaked out that they inten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the arms bud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5360" y="466740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.  a gas 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76200" y="5505480"/>
            <a:ext cx="42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eak of nuclea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78720" y="62856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short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0600" y="63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5040" y="131436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3240" y="131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000" y="207648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/ on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6560" y="207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3960" y="268596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for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5800" y="26319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逐字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字不差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8760" y="34480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1640" y="3546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言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8600" y="42861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a word of a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4040" y="5202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一句道歉的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55640" y="5526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4. 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) on the poi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35080" y="1219320"/>
            <a:ext cx="739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just on the point of going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e i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5560" y="1676520"/>
            <a:ext cx="528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was just going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38160" y="2057400"/>
            <a:ext cx="55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about to go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9600" y="2685960"/>
            <a:ext cx="76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was on the point of giving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when our team scored two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45080" y="398160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ck man is at the point of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80400" y="476280"/>
            <a:ext cx="36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ake charge (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18840" y="990720"/>
            <a:ext cx="62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responsible for, be 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4360" y="207648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 Wang took charge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1720" y="299088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aunt was in charge of my ba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0640" y="375300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baby was in the charge of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451476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in charge of Class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8760" y="5200560"/>
            <a:ext cx="62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each take charge of the less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re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35560" y="247680"/>
            <a:ext cx="20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ll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6520" y="1162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man of strong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21040" y="1924200"/>
            <a:ext cx="64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685960"/>
            <a:ext cx="44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gainst his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99760" y="268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非出于自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68760" y="3219480"/>
            <a:ext cx="48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ay go or sta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30800" y="322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38289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my own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75640" y="3851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愿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心所愿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7240" y="45910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no will of his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2040" y="4668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没有主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73280" y="45720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azy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37240" y="11430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then on he went crazy/ 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0120" y="18288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ere crazy to lend that man your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520" y="230508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crazy of you to le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0000" y="2819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rushed towards the river bank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ke craz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7920" y="33177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疯狂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拼命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60" y="40575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crazy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op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3960" y="405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2200" y="481968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ive sb cr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3600" y="4897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某人逼得发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080" y="55054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razy with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6920" y="550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欣喜若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52480" y="914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76920" y="108576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. Scold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200" y="198108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colded him for having left 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3840" y="2590920"/>
            <a:ext cx="72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scolded yesterday for having le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76560" y="413388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ld sb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1080" y="5048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b be/get scolded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53120" y="933480"/>
            <a:ext cx="57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ot a good scolding for l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2600" y="1847880"/>
            <a:ext cx="697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mother gave him a scolding for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ng dis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3080" y="274320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t a scolding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8480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挨一顿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0440" y="32004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sb a scolding for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45240" y="32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某事训斥某人一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640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8920" y="380988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old/blame sb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320" y="441972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ame sth on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3880" y="44956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…归咎到某人的头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4920" y="556272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 to b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1400" y="497196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no use blaming our defeat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7520" y="55054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o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2240" y="38512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…而责备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6120" y="53352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.Shoulder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0560" y="114300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ave the child a ride on his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84960" y="175248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ook the task on my own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5240" y="236232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to shou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8640" y="2971800"/>
            <a:ext cx="71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patted him on the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84240" y="3581280"/>
            <a:ext cx="758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must fight against the enemy shoul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8960" y="4648320"/>
            <a:ext cx="82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lanced over his shoulder, but saw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8640" y="5181480"/>
            <a:ext cx="69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of us would rather someone 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pon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800" y="565776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13920" y="47628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adily  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3560" y="190512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health is getting steadily w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2480" y="2743200"/>
            <a:ext cx="67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lked /drove/rode on steadil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2400" y="4419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work stead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89880" y="7812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1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e   adj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97000" y="19242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definite/sure/certain that he will 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87480" y="184788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73840" y="184788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3680" y="2610000"/>
            <a:ext cx="64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plans are now perfectly de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2840" y="3524400"/>
            <a:ext cx="53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finite about my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2040" y="443880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in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3840" y="53341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9880" y="5526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hange’s one’s mind/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0320" y="146700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d planned to spend the holiday with 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sin, but now I have changed my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0600" y="2610000"/>
            <a:ext cx="81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made a decision, you’d better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6840" y="36766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d like to change this for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9920" y="4438800"/>
            <a:ext cx="64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ease change a $5000 note into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1360" y="512460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to change seats with my neighb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27160" y="44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8200" y="324000"/>
            <a:ext cx="69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in any way, by any mea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n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95200" y="17715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ve tried, but I can’t manage i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3280" y="24573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hall go anyhow-whether it rains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6600" y="3143160"/>
            <a:ext cx="773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may not like my visit, but I shall go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 him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1360" y="4362480"/>
            <a:ext cx="77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clothes were thrown down jus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01680" y="62856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Argu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2120" y="154296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were busy with their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3160" y="20574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argument is that it is now too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9960" y="2610000"/>
            <a:ext cx="64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try to settle the affair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gument, not by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9960" y="3753000"/>
            <a:ext cx="55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talk angrily with s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you don’t a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9600" y="49719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argue with my brother about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33040" y="704880"/>
            <a:ext cx="40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about/over s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4320" y="70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争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840" y="131436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udents argued about/ove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rectness of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040" y="236232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with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040" y="2971800"/>
            <a:ext cx="81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argued with the taxi driver about the f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280" y="35244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sb into/out of 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40384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uade/talk/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360" y="451476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argued him into/out of leaving his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25720" y="476280"/>
            <a:ext cx="37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3920" y="154296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s between n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lead to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5320" y="266688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ave a misunderstanding 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6320" y="331776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…产生误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误解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6160" y="421020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hink we just had a misundersta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53960" y="62856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 Ashamed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920" y="161928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you ashamed of having done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72240" y="222876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of your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1800" y="314316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ashamed for what I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00480" y="4362480"/>
            <a:ext cx="51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of/at + n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what-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85680" y="762120"/>
            <a:ext cx="70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to tell such 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2800" y="160020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quite ashamed to have to trouble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0320" y="220968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o do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6720" y="312408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shamed that he had 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373392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t ashamed that he had done so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080" y="441972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3440" y="527688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ade him asha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</cp:lastModifiedBy>
  <dcterms:modified xsi:type="dcterms:W3CDTF">2004-10-10T11:49:27Z</dcterms:modified>
  <cp:revision>4</cp:revision>
  <dc:subject/>
  <dc:title>PowerPoint Presentation</dc:title>
</cp:coreProperties>
</file>