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9.wmf" ContentType="image/x-wmf"/>
  <Override PartName="/ppt/media/image34.wmf" ContentType="image/x-wmf"/>
  <Override PartName="/ppt/media/image25.jpeg" ContentType="image/jpeg"/>
  <Override PartName="/ppt/media/image10.wmf" ContentType="image/x-wmf"/>
  <Override PartName="/ppt/media/image27.jpeg" ContentType="image/jpeg"/>
  <Override PartName="/ppt/media/image6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29.wmf" ContentType="image/x-wmf"/>
  <Override PartName="/ppt/media/image30.png" ContentType="image/png"/>
  <Override PartName="/ppt/media/image11.jpeg" ContentType="image/jpeg"/>
  <Override PartName="/ppt/media/image36.wmf" ContentType="image/x-wmf"/>
  <Override PartName="/ppt/media/image5.jpeg" ContentType="image/jpeg"/>
  <Override PartName="/ppt/media/image26.jpeg" ContentType="image/jpeg"/>
  <Override PartName="/ppt/media/image13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whoosh.wav" ContentType="audio/x-wav"/>
  <Override PartName="/ppt/media/image23.wmf" ContentType="image/x-wmf"/>
  <Override PartName="/ppt/media/image28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jpeg" ContentType="image/jpeg"/>
  <Override PartName="/ppt/media/image16.jpeg" ContentType="image/jpeg"/>
  <Override PartName="/ppt/media/image3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DCA-AE46-43B9-BA72-8865967F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C87-C9F1-4F30-A5FD-0B8EE53F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1F1-385E-46EB-B90E-8E9DDBD5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7C1-C22A-42E6-A445-6DBF6B02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DAA2-5C98-457B-8E59-05F65F4F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8D34-4AF5-485D-A6A8-FF4F3B82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DAE6-6DD0-462C-9CBB-07EDEB3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3BF2-6B36-4C61-8E78-82F695BC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76AC-1D02-4B03-8AAC-AEC57737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5446-7A2B-495E-8BF4-6D61BDE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9C44-6074-4AA2-B3DB-04F1E68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F30-9DB9-4FD8-B02F-448B2E2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7290-8B93-447D-93A0-DFA530BD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0E81-9820-4ECC-AC26-E12B7C8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539D-0509-4B2A-8362-28CB7FCE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194-E668-48E8-9E83-3D015595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A2E4-717E-4926-B6ED-15B99450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ED28-BCAB-4413-AB89-61B52408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C869-A2AE-48B6-85D0-7DFBF01E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C53F-D0CE-4A22-96E7-97D84FEC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4FD5-4229-45A8-A78C-E6AF8AFB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CD2C-9A78-482C-9F7C-B851F3C0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7F0-A748-4EC5-8BF7-936DA669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C5A7-D6BB-4A1C-9124-BB7ACF61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ABC4-E743-41CC-A9A0-9F66718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731E-3317-4839-BE1E-7967669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BE0B5-EAF4-44F7-AC7E-BDB599CF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3E08-3652-490E-A5D2-1DB5C944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7936-B96A-44BF-B8D6-C5747690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45EE-A783-4E90-B8CB-C577AB1B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848-A580-45A2-BB15-D31DA032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1C5-B937-403F-9BE4-CF5D9093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16F-DAF9-41A4-9C65-857D64AB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26E-D8F6-472C-9607-E8F96105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CCD-BACA-4128-A0FC-8D47E85A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494-4B83-4DDA-93CF-F5F9E0EF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B58F-164F-49BE-AFFE-E85938A6A6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1DF4-D0C3-401B-9B20-52AACA001801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60C9-12CF-447A-A8A6-DA857DF565A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slide19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168408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Unit 3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Welcome everybo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1400" y="309240"/>
            <a:ext cx="687096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throwing rubbish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98720" y="1811160"/>
          <a:ext cx="339552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11160"/>
                    <a:ext cx="33955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6080" y="1698480"/>
            <a:ext cx="340020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74440" y="50112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man is smoking where he should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39680" y="18730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371840" y="1785960"/>
            <a:ext cx="289728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25600" y="4997520"/>
            <a:ext cx="4227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car is parked at the wrong p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8480" y="1944720"/>
            <a:ext cx="2973240" cy="2230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25920" y="1989000"/>
            <a:ext cx="284472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do you have to consider before you decide which means of transportation you will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65240" y="3452760"/>
            <a:ext cx="332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for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475240" y="3357720"/>
            <a:ext cx="2693880" cy="263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means of transportation have we got when we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would you like to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68280" y="3568680"/>
            <a:ext cx="653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shanghai to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Jingjing to Wu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Wuxi to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Dalian to Qing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51600" y="4356000"/>
            <a:ext cx="3233520" cy="172404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4383000" y="2409840"/>
            <a:ext cx="363600" cy="260280"/>
          </a:xfrm>
          <a:custGeom>
            <a:avLst/>
            <a:gdLst>
              <a:gd name="textAreaLeft" fmla="*/ 16560 w 363600"/>
              <a:gd name="textAreaRight" fmla="*/ 347040 w 3636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0162" h="21600">
                <a:moveTo>
                  <a:pt x="0" y="0"/>
                </a:moveTo>
                <a:lnTo>
                  <a:pt x="30162" y="0"/>
                </a:lnTo>
                <a:lnTo>
                  <a:pt x="30162" y="21600"/>
                </a:lnTo>
                <a:lnTo>
                  <a:pt x="0" y="21600"/>
                </a:lnTo>
                <a:close/>
              </a:path>
              <a:path fill="lightenLess" w="30162" h="21600">
                <a:moveTo>
                  <a:pt x="0" y="0"/>
                </a:moveTo>
                <a:lnTo>
                  <a:pt x="30162" y="0"/>
                </a:lnTo>
                <a:lnTo>
                  <a:pt x="28762" y="1400"/>
                </a:lnTo>
                <a:lnTo>
                  <a:pt x="1400" y="1400"/>
                </a:lnTo>
                <a:close/>
              </a:path>
              <a:path fill="darken" w="30162" h="21600">
                <a:moveTo>
                  <a:pt x="30162" y="0"/>
                </a:moveTo>
                <a:lnTo>
                  <a:pt x="30162" y="21600"/>
                </a:lnTo>
                <a:lnTo>
                  <a:pt x="28762" y="20200"/>
                </a:lnTo>
                <a:lnTo>
                  <a:pt x="28762" y="1400"/>
                </a:lnTo>
                <a:close/>
              </a:path>
              <a:path fill="darkenLess" w="30162" h="21600">
                <a:moveTo>
                  <a:pt x="30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2" y="20200"/>
                </a:lnTo>
                <a:close/>
              </a:path>
              <a:path fill="lighten" w="30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0162" h="21600">
                <a:moveTo>
                  <a:pt x="9554" y="3985"/>
                </a:moveTo>
                <a:lnTo>
                  <a:pt x="16552" y="3985"/>
                </a:lnTo>
                <a:lnTo>
                  <a:pt x="20608" y="7484"/>
                </a:lnTo>
                <a:lnTo>
                  <a:pt x="20608" y="17615"/>
                </a:lnTo>
                <a:lnTo>
                  <a:pt x="9554" y="17615"/>
                </a:lnTo>
                <a:close/>
              </a:path>
              <a:path fill="darken" w="30162" h="21600">
                <a:moveTo>
                  <a:pt x="16552" y="3985"/>
                </a:moveTo>
                <a:lnTo>
                  <a:pt x="20608" y="7484"/>
                </a:lnTo>
                <a:lnTo>
                  <a:pt x="16552" y="748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ard the right bus, the right train, or the right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et on board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203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be on ti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66840" y="3497400"/>
            <a:ext cx="2854440" cy="1939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417920" y="1278000"/>
            <a:ext cx="2819520" cy="205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260360" y="1222200"/>
            <a:ext cx="2870280" cy="2135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437000" y="3530520"/>
            <a:ext cx="281160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03480" y="695160"/>
            <a:ext cx="43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announcements and write down the correct flight number, destination and g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42960" y="2233440"/>
          <a:ext cx="7450200" cy="2532240"/>
        </p:xfrm>
        <a:graphic>
          <a:graphicData uri="http://schemas.openxmlformats.org/drawingml/2006/table">
            <a:tbl>
              <a:tblPr/>
              <a:tblGrid>
                <a:gridCol w="1862280"/>
                <a:gridCol w="1863720"/>
                <a:gridCol w="1861920"/>
                <a:gridCol w="186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Flight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Dest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G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793880" y="537372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board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81200" y="893880"/>
            <a:ext cx="1963440" cy="519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73520" y="297648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A 4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30680" y="3701880"/>
            <a:ext cx="13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46440" y="429588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96244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 37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02320" y="37004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18160" y="43117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84520" y="297648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 1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85960" y="367200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42814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578400" y="233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435640" y="234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7307280" y="23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258040" y="3005280"/>
            <a:ext cx="262080" cy="361800"/>
          </a:xfrm>
          <a:custGeom>
            <a:avLst/>
            <a:gdLst>
              <a:gd name="textAreaLeft" fmla="*/ 16920 w 262080"/>
              <a:gd name="textAreaRight" fmla="*/ 245160 w 262080"/>
              <a:gd name="textAreaTop" fmla="*/ 16920 h 361800"/>
              <a:gd name="textAreaBottom" fmla="*/ 344880 h 361800"/>
            </a:gdLst>
            <a:ahLst/>
            <a:rect l="textAreaLeft" t="textAreaTop" r="textAreaRight" b="textAreaBottom"/>
            <a:pathLst>
              <a:path w="21600" h="29807">
                <a:moveTo>
                  <a:pt x="0" y="0"/>
                </a:moveTo>
                <a:lnTo>
                  <a:pt x="21600" y="0"/>
                </a:lnTo>
                <a:lnTo>
                  <a:pt x="21600" y="29807"/>
                </a:lnTo>
                <a:lnTo>
                  <a:pt x="0" y="29807"/>
                </a:lnTo>
                <a:close/>
              </a:path>
              <a:path fill="lightenLess" w="21600" h="29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07">
                <a:moveTo>
                  <a:pt x="21600" y="0"/>
                </a:moveTo>
                <a:lnTo>
                  <a:pt x="21600" y="29807"/>
                </a:lnTo>
                <a:lnTo>
                  <a:pt x="20200" y="28407"/>
                </a:lnTo>
                <a:lnTo>
                  <a:pt x="20200" y="1400"/>
                </a:lnTo>
                <a:close/>
              </a:path>
              <a:path fill="darkenLess" w="21600" h="29807">
                <a:moveTo>
                  <a:pt x="21600" y="29807"/>
                </a:moveTo>
                <a:lnTo>
                  <a:pt x="0" y="29807"/>
                </a:lnTo>
                <a:lnTo>
                  <a:pt x="1400" y="28407"/>
                </a:lnTo>
                <a:lnTo>
                  <a:pt x="20200" y="28407"/>
                </a:lnTo>
                <a:close/>
              </a:path>
              <a:path fill="lighten" w="21600" h="29807">
                <a:moveTo>
                  <a:pt x="0" y="29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07"/>
                </a:lnTo>
                <a:close/>
              </a:path>
              <a:path fill="darkenLess" w="21600" h="29807">
                <a:moveTo>
                  <a:pt x="5273" y="8089"/>
                </a:moveTo>
                <a:lnTo>
                  <a:pt x="12271" y="8089"/>
                </a:lnTo>
                <a:lnTo>
                  <a:pt x="16327" y="11588"/>
                </a:lnTo>
                <a:lnTo>
                  <a:pt x="16327" y="21719"/>
                </a:lnTo>
                <a:lnTo>
                  <a:pt x="5273" y="21719"/>
                </a:lnTo>
                <a:close/>
              </a:path>
              <a:path fill="darken" w="21600" h="29807">
                <a:moveTo>
                  <a:pt x="12271" y="8089"/>
                </a:moveTo>
                <a:lnTo>
                  <a:pt x="16327" y="11588"/>
                </a:lnTo>
                <a:lnTo>
                  <a:pt x="12271" y="1158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72440" y="37162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85040" y="42958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858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2429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0982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03480" y="69516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five world travellers and try to guess where they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78040" y="569448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spoken post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7080" y="1763640"/>
          <a:ext cx="7577280" cy="3657600"/>
        </p:xfrm>
        <a:graphic>
          <a:graphicData uri="http://schemas.openxmlformats.org/drawingml/2006/table">
            <a:tbl>
              <a:tblPr/>
              <a:tblGrid>
                <a:gridCol w="549360"/>
                <a:gridCol w="1800360"/>
                <a:gridCol w="3333600"/>
                <a:gridCol w="1893960"/>
              </a:tblGrid>
              <a:tr h="60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a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335240" y="251136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49280" y="310500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08240" y="4311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60360" y="490536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der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75120" y="2397240"/>
            <a:ext cx="34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bidden City; Great Wall; Tian’anmen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19400" y="2989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ffel Tower; Museum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“Mona Li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5000" y="436896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the earth;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9400" y="4933800"/>
            <a:ext cx="35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73520" y="5630760"/>
            <a:ext cx="12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9800" y="250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30840" y="30909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 and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02400" y="432432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pa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75400" y="49212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swi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6200" y="37432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uth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17960" y="3614760"/>
            <a:ext cx="34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alked in the snow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89800" y="3730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ane, on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19000" y="255600"/>
            <a:ext cx="1698840" cy="1441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008000" y="249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008000" y="3073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008000" y="368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1022400" y="430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022400" y="4916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447040" y="256860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48840" y="309888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8840" y="372744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459640" y="439596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47040" y="499284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22980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41506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31658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34572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5313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257040" y="0"/>
            <a:ext cx="9586800" cy="69883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996240" y="0"/>
            <a:ext cx="33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ac9"/>
                </a:solidFill>
                <a:latin typeface="Arial"/>
                <a:ea typeface="宋体"/>
              </a:rPr>
              <a:t>The tim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3040" y="1889280"/>
            <a:ext cx="4442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ould like to travel to the yea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a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ill be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5529240" y="6589800"/>
            <a:ext cx="654120" cy="268200"/>
          </a:xfrm>
          <a:custGeom>
            <a:avLst/>
            <a:gdLst>
              <a:gd name="textAreaLeft" fmla="*/ 17280 w 654120"/>
              <a:gd name="textAreaRight" fmla="*/ 636840 w 654120"/>
              <a:gd name="textAreaTop" fmla="*/ 17280 h 268200"/>
              <a:gd name="textAreaBottom" fmla="*/ 250920 h 268200"/>
            </a:gdLst>
            <a:ahLst/>
            <a:rect l="textAreaLeft" t="textAreaTop" r="textAreaRight" b="textAreaBottom"/>
            <a:pathLst>
              <a:path w="52639" h="21600">
                <a:moveTo>
                  <a:pt x="0" y="0"/>
                </a:moveTo>
                <a:lnTo>
                  <a:pt x="52639" y="0"/>
                </a:lnTo>
                <a:lnTo>
                  <a:pt x="52639" y="21600"/>
                </a:lnTo>
                <a:lnTo>
                  <a:pt x="0" y="21600"/>
                </a:lnTo>
                <a:close/>
              </a:path>
              <a:path fill="lightenLess" w="52639" h="21600">
                <a:moveTo>
                  <a:pt x="0" y="0"/>
                </a:moveTo>
                <a:lnTo>
                  <a:pt x="52639" y="0"/>
                </a:lnTo>
                <a:lnTo>
                  <a:pt x="51239" y="1400"/>
                </a:lnTo>
                <a:lnTo>
                  <a:pt x="1400" y="1400"/>
                </a:lnTo>
                <a:close/>
              </a:path>
              <a:path fill="darken" w="52639" h="21600">
                <a:moveTo>
                  <a:pt x="52639" y="0"/>
                </a:moveTo>
                <a:lnTo>
                  <a:pt x="52639" y="21600"/>
                </a:lnTo>
                <a:lnTo>
                  <a:pt x="51239" y="20200"/>
                </a:lnTo>
                <a:lnTo>
                  <a:pt x="51239" y="1400"/>
                </a:lnTo>
                <a:close/>
              </a:path>
              <a:path fill="darkenLess" w="52639" h="21600">
                <a:moveTo>
                  <a:pt x="5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39" y="20200"/>
                </a:lnTo>
                <a:close/>
              </a:path>
              <a:path fill="lighten" w="5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639" h="21600">
                <a:moveTo>
                  <a:pt x="19313" y="10800"/>
                </a:moveTo>
                <a:lnTo>
                  <a:pt x="33326" y="3794"/>
                </a:lnTo>
                <a:lnTo>
                  <a:pt x="333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999360"/>
            <a:ext cx="555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ask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200" y="2161800"/>
            <a:ext cx="377676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trav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means of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ps on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nderstand boarding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school bus"/>
          <p:cNvPicPr/>
          <p:nvPr/>
        </p:nvPicPr>
        <p:blipFill>
          <a:blip r:embed="rId1"/>
          <a:stretch/>
        </p:blipFill>
        <p:spPr>
          <a:xfrm>
            <a:off x="4383000" y="2666880"/>
            <a:ext cx="432432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Have a pleasant trip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042920" y="2013120"/>
            <a:ext cx="2382840" cy="268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925800" y="1552680"/>
            <a:ext cx="2710080" cy="2120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6424560" y="3505320"/>
            <a:ext cx="2043000" cy="26049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613320" y="3889440"/>
            <a:ext cx="2006280" cy="1920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ore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1520" y="2700360"/>
            <a:ext cx="419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travell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hik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adventure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’ve been to many places of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75280" y="2873520"/>
            <a:ext cx="3771720" cy="258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8280" y="409320"/>
            <a:ext cx="6870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experience nature and life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81000" y="1363680"/>
            <a:ext cx="3022560" cy="2014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11240" y="3471840"/>
            <a:ext cx="3073320" cy="2071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568760" y="3498840"/>
            <a:ext cx="2938680" cy="2062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554360" y="1406520"/>
            <a:ext cx="2994120" cy="1969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at about you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9840" y="2509920"/>
            <a:ext cx="432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 you like trav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ere have you b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y do you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9000" y="2382840"/>
            <a:ext cx="183204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395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y do people travel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17280" y="1959120"/>
            <a:ext cx="6327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increas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meet new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keep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experience life in differe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try new kinds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get away from hot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483240" y="4794120"/>
            <a:ext cx="18511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79480" y="1319040"/>
            <a:ext cx="2887920" cy="2165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848120" y="1308240"/>
            <a:ext cx="2906640" cy="2179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902120" y="3662280"/>
            <a:ext cx="2873520" cy="2156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787400" y="3605040"/>
            <a:ext cx="287496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driving too f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085760" y="1712880"/>
            <a:ext cx="3265560" cy="2449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65520" y="1639800"/>
            <a:ext cx="3749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0:44:32Z</dcterms:created>
  <dc:creator>张纯</dc:creator>
  <dc:description/>
  <dc:language>en-US</dc:language>
  <cp:lastModifiedBy>张纯</cp:lastModifiedBy>
  <dcterms:modified xsi:type="dcterms:W3CDTF">2003-09-26T09:05:00Z</dcterms:modified>
  <cp:revision>45</cp:revision>
  <dc:subject/>
  <dc:title>Ms. Dawson’s 3rd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