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3AD-68EB-410A-83AD-7E87B484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058-EF6C-420B-8CA5-4F7E3BB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05E-EC02-409E-A213-A572820C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4D0-7A55-4234-B89B-8F6EB4D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C5E9-C877-4AFB-A228-4B5A84AB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6ED-5D95-434E-AAFA-DAA70360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3D54-6383-49D6-954A-65768E3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869B-80F7-4409-9DF9-0BD56CB2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7392-3437-43AA-9E01-0C8595C9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8DC1-C6D1-4BA7-A313-6E7C617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44BF-60A8-46F2-AABA-C3FD177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103-4161-4DF0-BC69-D980802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393B-09DD-4E84-9F2C-C642EC97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F412-3DFE-4379-B07A-89B1B3E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C18-C0B0-4D04-940F-E6CE7F9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0C9-E5F1-47CB-9839-1595B77F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35AE-640A-424C-B8A2-37F5AC5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459-28E5-4E25-95D3-36023B22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BC4-0220-4E4F-9748-57293F59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D5E-9C12-439E-9D0D-E159E320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40D-90AE-4D9F-8DC7-ECFA5CE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BB6-8016-4AAF-A5F6-FC741FE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1BA-8674-4F27-9DE4-80D16D3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799-53D3-419C-A32D-697198C8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F37-8BA9-4789-A805-864518320EE7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7FD2-6E42-49C8-A2E8-36075B2E29AE}" type="slidenum">
              <a:rPr b="0" lang="zh-CN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i="1" lang="zh-CN" sz="4800" spc="-1" strike="noStrike">
                <a:solidFill>
                  <a:srgbClr val="ff0000"/>
                </a:solidFill>
                <a:latin typeface="Times New Roman"/>
              </a:rPr>
              <a:t>定语从句高考点例析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的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493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. Whose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从句可转换为“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of +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关系代词”型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They live in a house, whose door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657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1055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04760" y="18493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 which the door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s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y lived in a house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door of which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open to the s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an you work them out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900" spc="-1" strike="noStrike">
                <a:solidFill>
                  <a:srgbClr val="ff0066"/>
                </a:solidFill>
                <a:latin typeface="Times New Roman"/>
              </a:rPr>
              <a:t>?</a:t>
            </a:r>
            <a:r>
              <a:rPr b="1" lang="en-US" sz="8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 in the blanks with proper preposition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The sun gives us heat and light, ________ which we can’t liv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The student ________ whom we were talking just now is the best student in our class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3. I’ll never forget the day _____ which she said good-bye to m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4. Who can give me the reason ______ which he hasn’t turned up y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095880" y="5028840"/>
            <a:ext cx="914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640" y="3200400"/>
            <a:ext cx="11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1160" y="4114800"/>
            <a:ext cx="61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286000"/>
            <a:ext cx="151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考点四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关系副词的运用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在限定性和非限定性从句中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时间名词，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where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的先行词是地点名词，分别在定语从句中做状语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</a:rPr>
              <a:t>e.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After living in Paris for 50 years he returned to the small town ______ he grew up as a chi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which    B. where    C. that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t was an exciting moment for these people this year, ______ for the first time their team won the World Cup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. that    B. while    C. which    D. 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752480" y="3352680"/>
            <a:ext cx="289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考点五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a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which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导的定语从句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两者均可引导非限制性定语从句，有时可以互换，但下列情况多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关系代词引导的定语从句居句首时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we all know, the earth is roun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当与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such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或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e same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连用时，一般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as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Such books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 tell me are interesting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I have the same pla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you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1219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当从句和主句语义一致时，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反之则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She has married again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was      unexpected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1371600" cy="6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Go on please!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在从句中作主语时，后面常接行为动词的被动语态，如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known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sai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66b1b"/>
                </a:solidFill>
                <a:latin typeface="Times New Roman"/>
              </a:rPr>
              <a:t>be reported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等，如从句中行为动词是主动语态，一般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作主语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She has been late again,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was expect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Tom has made great progress,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made us happ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3874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1. I’m using the pen which he bought it yester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. Is that factory which your father once worked in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3. The man whom I spoke is from Canad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4. July 1,1999 is the day when we’ll never forge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8098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895480"/>
            <a:ext cx="60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4860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286000"/>
            <a:ext cx="167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ic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720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0384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3124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on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. I still remember the holidays I stayed with the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6. I’m going to work in the hospital where needs 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7. Those that haven’t been to the West Lake will gather at the school gat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8. I don’t like the way which you talked to your frien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724280"/>
            <a:ext cx="609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057400"/>
            <a:ext cx="2057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990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9880"/>
            <a:ext cx="21333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3505320"/>
            <a:ext cx="914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3048120"/>
            <a:ext cx="28954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at/which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3920" y="1828440"/>
            <a:ext cx="838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9.This is the last time when I’ve given you lesson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0. Soon they came to a farm house,and in front of which sat a small bo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1. We heard the news which our team won the gam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2. The reason which he explained it sounds reasonabl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391160" y="2742840"/>
            <a:ext cx="106668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3080" y="19051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1320" y="4495680"/>
            <a:ext cx="7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5720" y="54100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840" y="3276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5000" y="5029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3. Those at the desk want to buy tickets write down your name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4. That was the reason because she looked old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5. Miss Chen is the only one of the few teachers who give us wonderful English lessons in our scho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6. Taiwan, that we know, belongs to China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5409720"/>
            <a:ext cx="9144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2920" y="2209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8000" y="3048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148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2520" y="4267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1440" y="4648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41000" y="3429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4840" y="19810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  <a:ea typeface="黑体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指出关系代词（副词）在定语从句中的成份：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1.The ma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came to our school is Mr. Wang.            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2.The girl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om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I met is Lucy.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3.A child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parents are dead is called Tom.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4.I like the book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which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bought yesterday.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                                                    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19560" y="2819160"/>
            <a:ext cx="1523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7. It is the one of the best films that have been shown recentl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8. The third place which we are going to visit is Hangzhou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9. Which is known to all, many satellite are going around in the sk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20. The students and things which you spoke of are known to u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76360" y="3352320"/>
            <a:ext cx="1066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21520" y="4952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0760" y="3733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4880" y="22096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308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21160" y="5334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852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82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orrect the sentences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11480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1.Einstein is such a great scientist that we must learn from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2. The student who’s book I had borrowed didn’t come to school toda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3. Who is the worker who took some pictures of the factor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24. The bike by which I travelled was h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409720" y="22093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7280" y="31240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9400" y="403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360" y="4419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7800" y="4952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4120" y="5334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59600" y="1905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badi MT Condensed Light"/>
              </a:rPr>
              <a:t>Homework:</a:t>
            </a:r>
            <a:endParaRPr b="0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1008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1) Finish off the exercises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0">
              <a:lnSpc>
                <a:spcPct val="16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   </a:t>
            </a:r>
            <a:r>
              <a:rPr b="1" lang="en-US" sz="4000" spc="-1" strike="noStrike">
                <a:solidFill>
                  <a:srgbClr val="00cc00"/>
                </a:solidFill>
                <a:latin typeface="Abadi MT Condensed Light"/>
              </a:rPr>
              <a:t>2) Preview Lesson 89.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95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666880" y="48006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ff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ff99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Impact"/>
              </a:rPr>
              <a:t>Have a try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5. His parents wouldn’t let him marry anyone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family  was poor.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6. I like the person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to whom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you just talk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7. We shall never forget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spent together.                                              (           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8. We shall never the days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we lived together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52720" y="17524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介宾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宾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状语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情况，引导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which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为不定代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ver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muc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ny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nothi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Finally, the thief handed everything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had stol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先行词前有形容词最高级、序数词修饰时，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This is the best book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(that)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’ve ever rea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一：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that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和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先行词被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onl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very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e last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修饰时，用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He is the only person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I want to see now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4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先行词同时指人和指物时，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talked about the things and persons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we saw the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5. 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定语从句内容为解释名词的性质、概念时，需用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that</a:t>
            </a:r>
            <a:r>
              <a:rPr b="1" lang="zh-CN" sz="2800" spc="-1" strike="noStrike">
                <a:solidFill>
                  <a:srgbClr val="003300"/>
                </a:solidFill>
                <a:latin typeface="幼圆"/>
                <a:ea typeface="幼圆"/>
              </a:rPr>
              <a:t>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e.g.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A plane is a machine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幼圆"/>
              </a:rPr>
              <a:t>that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can fly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考点二：连接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which</a:t>
            </a:r>
            <a:r>
              <a:rPr b="1" lang="zh-CN" sz="44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用法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Which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引导非限定性定语从句，其先行词可是一个词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幼圆"/>
              </a:rPr>
              <a:t>也可是整个主句或主句的某一部分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  <a:ea typeface="幼圆"/>
              </a:rPr>
              <a:t>e.g.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1. She heard a terrible noise, ______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brought her heart into her mouth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it    B. which    C. this    D. th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2. The weather turned out to be good,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___ was more than we could expect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           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幼圆"/>
              </a:rPr>
              <a:t>A. what    B. which    C. that    D. it        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4616280"/>
          <a:ext cx="140976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616280"/>
                    <a:ext cx="14097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1599840"/>
            <a:ext cx="62485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  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828800" y="2057400"/>
            <a:ext cx="49528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Handwriting"/>
              </a:rPr>
              <a:t>Good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Handwriting"/>
              <a:ea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考点三：介词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+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关系代词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****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of + which/whom”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可用来限定名词、代词、分数词、数词等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1. In the dark street, there wasn’t a single person ____________ she could turn for help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at    B. who    C. from whom    D. to who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2. He paid the boy $10 for washing the windows, most of ________ hadn’t been cleaned  for at least a year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993300"/>
                </a:solidFill>
                <a:latin typeface="Times New Roman"/>
              </a:rPr>
              <a:t>A. these    B. those    C. that    D. which  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95480" y="4343040"/>
            <a:ext cx="609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84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根据从句中动词与先行词的逻辑关系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Is that the newspape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for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you often write articles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从句中动词或形容词的习惯搭配，如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Can you explain to me how to use these  idioms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out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I’m sur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根据先行词与介词的搭配习惯，请体会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1949 was the year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which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 the P.R.C. was founded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关系代词前介词的确定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非限制性定与从句中，要表示先行词的一部分时，可用“数词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代词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+ of + </a:t>
            </a:r>
            <a:r>
              <a:rPr b="1" lang="zh-CN" sz="3600" spc="-1" strike="noStrike">
                <a:solidFill>
                  <a:srgbClr val="003300"/>
                </a:solidFill>
                <a:latin typeface="宋体"/>
              </a:rPr>
              <a:t>关系代词”的结构，如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e.g.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There are 50 students in our class,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two-    thirds of whom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 have been to Beijing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13:56:08Z</dcterms:created>
  <dc:creator>dx</dc:creator>
  <dc:description/>
  <dc:language>en-US</dc:language>
  <cp:lastModifiedBy>user</cp:lastModifiedBy>
  <dcterms:modified xsi:type="dcterms:W3CDTF">2005-04-03T12:18:11Z</dcterms:modified>
  <cp:revision>15</cp:revision>
  <dc:subject/>
  <dc:title>Have a try</dc:title>
</cp:coreProperties>
</file>