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jpeg" ContentType="image/jpeg"/>
  <Override PartName="/ppt/media/image9.gif" ContentType="image/gif"/>
  <Override PartName="/ppt/media/image14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6B06-5EFA-4816-AFDF-A5B7C330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8C6-D6CC-4B96-8E67-4F6A6426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C5A1-6E25-4C67-8D68-5971D4AF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2AA-32D4-41E9-BF87-D0611293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2CE5-0FB4-4A6B-AB9F-E950DFC96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A140-90F9-4773-9406-BCF9EEBD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6C4F-62DF-4D1B-8966-1C5ADF2C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7218-0BCC-4819-B3C7-07CB2436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539E-FD9E-4F2C-85CD-2682794E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C459-83A2-4727-A1A7-7BAA5842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8A66-1C2A-4784-94E6-ED557358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B9E-92B3-4903-9385-22960D65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06A66-9257-4272-90C8-D2FD5C87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8EF8-961B-4945-A177-2058E83A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B3D5-8927-4FC3-9838-F29B9E88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645E-CA89-401C-A3D0-C97AB013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F1EB6-C183-4E76-BDB6-5C5CF8026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3BDD-2C41-4FF8-A89D-EA7576C2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9CCD-D618-4A51-9ED1-ADD610285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D943-1E53-475D-8172-E8EC1265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95DE-7256-4C5C-9A33-61660C1BB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D915-9A40-4943-87CF-84DA82558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585-7F69-4BD0-9450-48B1B0E5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2DED-FFFF-44BA-A359-FC721F1D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98DF-A521-49A1-8504-40B9C941FB6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8A0B-BB07-4452-A84C-8F2BCD37D3D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00"/>
                </a:solidFill>
                <a:latin typeface="Monotype Corsiva"/>
              </a:rPr>
              <a:t>UNIT 9  REVICE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238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Book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438280" y="14475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played basketball the day before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going to play basketball tomorr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playing basketball now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cnimg_net_0012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2057400" cy="4952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666880" y="1523880"/>
            <a:ext cx="54104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456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day before yester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41760" y="2971800"/>
            <a:ext cx="192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omorr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3962520"/>
            <a:ext cx="97488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2743200" y="2057040"/>
            <a:ext cx="5943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danced yesterday even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e often dan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895480" y="1904760"/>
            <a:ext cx="381024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esterday eve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cnimg_net_031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182880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22680" y="3112920"/>
            <a:ext cx="1600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2819520" y="1676160"/>
            <a:ext cx="58672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 moment ag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drew a picture a moment ag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cnimg_net_032" descr=""/>
          <p:cNvPicPr/>
          <p:nvPr/>
        </p:nvPicPr>
        <p:blipFill>
          <a:blip r:embed="rId1"/>
          <a:stretch/>
        </p:blipFill>
        <p:spPr>
          <a:xfrm>
            <a:off x="990720" y="685800"/>
            <a:ext cx="16002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86200" y="1676160"/>
            <a:ext cx="4952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wo years ago,  Unc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ng,Work,  in Chi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Uncle Wang worked in China two years ag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cnimg_net_09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895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66ff"/>
                </a:solidFill>
                <a:latin typeface="Times New Roman"/>
              </a:rPr>
              <a:t>Let’s do exercises together</a:t>
            </a: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acti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一、写出下列单词的过去式形式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me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ad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ind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l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know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ud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an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swer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r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rg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m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v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09480" y="114300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en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cam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a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un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lp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aw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knew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ar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tudi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nt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answer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ere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work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forgo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s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moved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按要求改变句子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07696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was bor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on September 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was bor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in Chin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Feng did his homework after supp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变为否定句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————————————————————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i Fang went to school on foo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last Monda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lived in Chin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for about ten year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_______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0520" y="1447560"/>
            <a:ext cx="906804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were you bo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re was he born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 Feng didn’t do his homework after supper yesterd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did Wei Fang go to school on foo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long did they live in Chi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</a:rPr>
              <a:t>用所给动词的正确形式填空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1641240"/>
            <a:ext cx="85345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______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)your sister bor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you enjoy _______(live) with 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_________(watch) TV just 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____________(watch) TV n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ucy ________(play) games with Tom sometime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 you ______ (live) in China las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08760" y="2085840"/>
            <a:ext cx="125028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iv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3680" y="1447920"/>
            <a:ext cx="105516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8280" y="2743200"/>
            <a:ext cx="170748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tch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0200" y="3429000"/>
            <a:ext cx="227916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s watch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53960" y="4143240"/>
            <a:ext cx="11498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lay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7720" y="5486400"/>
            <a:ext cx="87084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i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743560" y="5410080"/>
            <a:ext cx="869400" cy="7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l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66"/>
                </a:solidFill>
                <a:latin typeface="Comic Sans MS"/>
              </a:rPr>
              <a:t>THE END</a:t>
            </a:r>
            <a:r>
              <a:rPr b="0" lang="en-US" sz="6600" spc="-1" strike="noStrike">
                <a:solidFill>
                  <a:srgbClr val="cc99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9900"/>
                </a:solidFill>
                <a:latin typeface="Monotype Corsiva"/>
              </a:rPr>
              <a:t>Thanks very much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276720" y="304920"/>
            <a:ext cx="54100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hen were you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I was born in/on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Where were you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Palatino Linotype"/>
              </a:rPr>
              <a:t>I was born in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23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880" y="4495680"/>
            <a:ext cx="64008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was he born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was born on May 18, 1999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85800"/>
            <a:ext cx="4648320" cy="1905120"/>
          </a:xfrm>
          <a:prstGeom prst="wedgeEllipseCallout">
            <a:avLst>
              <a:gd name="adj1" fmla="val 44601"/>
              <a:gd name="adj2" fmla="val 59749"/>
            </a:avLst>
          </a:prstGeom>
          <a:solidFill>
            <a:srgbClr val="ffff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Name: Tom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Birthday:  1999,5,18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8960" y="4266720"/>
            <a:ext cx="75438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was 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was born in Beijing .</a:t>
            </a:r>
            <a:br>
              <a:rPr sz="28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04920" y="4571640"/>
            <a:ext cx="85341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en was she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he was born 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September 10,199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0"/>
            <a:ext cx="4343400" cy="2057400"/>
          </a:xfrm>
          <a:prstGeom prst="wedgeEllipseCallout">
            <a:avLst>
              <a:gd name="adj1" fmla="val 57199"/>
              <a:gd name="adj2" fmla="val 49074"/>
            </a:avLst>
          </a:prstGeom>
          <a:solidFill>
            <a:srgbClr val="33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me:      Luc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rthday: 1999,9,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here was she bor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he was born in New York. (America/ the USA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8600" y="40381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When was s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She was born on October 29, 2000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48320" y="533520"/>
            <a:ext cx="4495680" cy="2209680"/>
          </a:xfrm>
          <a:prstGeom prst="wedgeEllipseCallout">
            <a:avLst>
              <a:gd name="adj1" fmla="val -46750"/>
              <a:gd name="adj2" fmla="val 29384"/>
            </a:avLst>
          </a:prstGeom>
          <a:solidFill>
            <a:srgbClr val="0066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rthda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000, 10,2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294920" y="3809880"/>
            <a:ext cx="617220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was she bor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he was born in Japan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066680" y="0"/>
            <a:ext cx="7239240" cy="4952880"/>
            <a:chOff x="1066680" y="0"/>
            <a:chExt cx="7239240" cy="4952880"/>
          </a:xfrm>
        </p:grpSpPr>
        <p:sp>
          <p:nvSpPr>
            <p:cNvPr id="107" name=""/>
            <p:cNvSpPr/>
            <p:nvPr/>
          </p:nvSpPr>
          <p:spPr>
            <a:xfrm>
              <a:off x="1066680" y="0"/>
              <a:ext cx="7239240" cy="4952880"/>
            </a:xfrm>
            <a:custGeom>
              <a:avLst/>
              <a:gdLst>
                <a:gd name="textAreaLeft" fmla="*/ 1652400 w 7239240"/>
                <a:gd name="textAreaRight" fmla="*/ 5586840 w 7239240"/>
                <a:gd name="textAreaTop" fmla="*/ 1130760 h 4952880"/>
                <a:gd name="textAreaBottom" fmla="*/ 3822120 h 495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652" y="12384"/>
                  </a:lnTo>
                  <a:lnTo>
                    <a:pt x="786" y="14846"/>
                  </a:lnTo>
                  <a:lnTo>
                    <a:pt x="3839" y="15321"/>
                  </a:lnTo>
                  <a:lnTo>
                    <a:pt x="3163" y="18437"/>
                  </a:lnTo>
                  <a:lnTo>
                    <a:pt x="6159" y="17681"/>
                  </a:lnTo>
                  <a:lnTo>
                    <a:pt x="6580" y="20741"/>
                  </a:lnTo>
                  <a:lnTo>
                    <a:pt x="9074" y="18919"/>
                  </a:lnTo>
                  <a:lnTo>
                    <a:pt x="10800" y="21600"/>
                  </a:lnTo>
                  <a:lnTo>
                    <a:pt x="12384" y="18948"/>
                  </a:lnTo>
                  <a:lnTo>
                    <a:pt x="14846" y="20814"/>
                  </a:lnTo>
                  <a:lnTo>
                    <a:pt x="15321" y="17761"/>
                  </a:lnTo>
                  <a:lnTo>
                    <a:pt x="18437" y="18437"/>
                  </a:lnTo>
                  <a:lnTo>
                    <a:pt x="17681" y="15441"/>
                  </a:lnTo>
                  <a:lnTo>
                    <a:pt x="20741" y="15020"/>
                  </a:lnTo>
                  <a:lnTo>
                    <a:pt x="18919" y="12526"/>
                  </a:lnTo>
                  <a:lnTo>
                    <a:pt x="21600" y="10800"/>
                  </a:lnTo>
                  <a:lnTo>
                    <a:pt x="18948" y="9216"/>
                  </a:lnTo>
                  <a:lnTo>
                    <a:pt x="20814" y="6754"/>
                  </a:lnTo>
                  <a:lnTo>
                    <a:pt x="17761" y="6279"/>
                  </a:lnTo>
                  <a:lnTo>
                    <a:pt x="18437" y="3163"/>
                  </a:lnTo>
                  <a:lnTo>
                    <a:pt x="15441" y="3919"/>
                  </a:lnTo>
                  <a:lnTo>
                    <a:pt x="15020" y="859"/>
                  </a:lnTo>
                  <a:lnTo>
                    <a:pt x="12526" y="2681"/>
                  </a:lnTo>
                  <a:lnTo>
                    <a:pt x="10800" y="0"/>
                  </a:lnTo>
                  <a:lnTo>
                    <a:pt x="9216" y="2652"/>
                  </a:lnTo>
                  <a:lnTo>
                    <a:pt x="6754" y="786"/>
                  </a:lnTo>
                  <a:lnTo>
                    <a:pt x="6279" y="3839"/>
                  </a:lnTo>
                  <a:lnTo>
                    <a:pt x="3163" y="3163"/>
                  </a:lnTo>
                  <a:lnTo>
                    <a:pt x="3919" y="6159"/>
                  </a:lnTo>
                  <a:lnTo>
                    <a:pt x="859" y="6580"/>
                  </a:lnTo>
                  <a:lnTo>
                    <a:pt x="2681" y="9074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00cccc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4568"/>
                  </a:solidFill>
                  <a:latin typeface="Times New Roman"/>
                </a:rPr>
                <a:t>Now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8" name="cnimg_net_004" descr=""/>
            <p:cNvPicPr/>
            <p:nvPr/>
          </p:nvPicPr>
          <p:blipFill>
            <a:blip r:embed="rId1"/>
            <a:stretch/>
          </p:blipFill>
          <p:spPr>
            <a:xfrm>
              <a:off x="2971800" y="990720"/>
              <a:ext cx="36576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3920" y="1752480"/>
            <a:ext cx="4800600" cy="51055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He  didn’t sing yesterday.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d he sing yesterday?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Yes ,he did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441972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is singing now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 sang  yesterd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e often sing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2209320"/>
            <a:ext cx="12952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160" y="3352680"/>
            <a:ext cx="183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Yester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840" y="4724280"/>
            <a:ext cx="11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4568"/>
                </a:solidFill>
                <a:latin typeface="Times New Roman"/>
              </a:rPr>
              <a:t>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4114800"/>
            <a:ext cx="53352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cc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3:05:56Z</dcterms:created>
  <dc:creator>zlm</dc:creator>
  <dc:description/>
  <dc:language>en-US</dc:language>
  <cp:lastModifiedBy>dtyl</cp:lastModifiedBy>
  <dcterms:modified xsi:type="dcterms:W3CDTF">2004-05-12T12:21:46Z</dcterms:modified>
  <cp:revision>30</cp:revision>
  <dc:subject/>
  <dc:title>REVICE  UNIT 9</dc:title>
</cp:coreProperties>
</file>