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71A-1848-489D-AC29-B45D245C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5E5-0C0B-4C46-B2DA-4252E4E9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7E5-4121-4794-B771-C9072F37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644-2C76-4C14-9AA3-6316B440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679A-B253-4CD1-825A-97D16247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99E3-BE8F-4D6B-9B47-02370BFB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7E6D-486F-4CAE-A0BA-450AADFE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3144-02DF-49B3-92DC-4DB8377E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56D4-D09D-4F3A-BD4C-307EC493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F045-A892-45AB-A7C8-D7DC1B94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1207-DB6B-458C-A0D5-DB624A0E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58F-4A1E-46DF-BAEB-D212B040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FBDD-2A4F-4B88-AD41-6FE994DD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E5E6-04CC-4F03-B942-069A325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0B5D-9BB2-4A08-8D12-482727B8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B6BB-6C00-4CD8-82D3-E33102B1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30A3-276D-40E4-9234-677828C0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53E-B31C-4250-8A02-A411B36E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5C3-8C56-42E5-A3D8-28ED9D36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D57-2807-4560-A4EB-97399579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C3E-5EB7-42F4-9A03-F8351BA0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252-F4D1-4939-BC09-4015601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366-F50D-4F5F-AD1E-34262FE8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A2BB-0434-4559-ACF3-7F9E3B94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5A5E-EE52-423D-A58F-845D5A4CEFC0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EFB-68DB-4C36-AA5C-FAE7C9B2AD38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hurrica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80880" y="228600"/>
            <a:ext cx="2590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Haettenschweiler"/>
              </a:rPr>
              <a:t>Lesson 42</a:t>
            </a:r>
            <a:endParaRPr b="1" lang="en-US" sz="8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5486400"/>
            <a:ext cx="6553440" cy="64260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湖南省怀化市第一中学  宫可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75248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e Hurrica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hurricane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66400" cy="3733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22860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Haettenschweiler"/>
              </a:rPr>
              <a:t>Could you describe the picture according to the third para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905120"/>
            <a:ext cx="8001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Many trees had been blown down by the high winds, blocking roads. Electricity lines as well as telephone poles were brought down by falling trees or branches</a:t>
            </a:r>
            <a:r>
              <a:rPr b="1" lang="en-US" sz="4800" spc="-1" strike="noStrike">
                <a:solidFill>
                  <a:srgbClr val="ff0000"/>
                </a:solidFill>
                <a:latin typeface="Arthritis (BRK)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371600"/>
            <a:ext cx="9144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.The winter of 1962in England was one of the coldest  _____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.________January 1st ______March 20th the temperature below 0°C nearly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3.The paths were difficult to walk on, especially ______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4.There were many snow storms,with winds of up ________80 k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5.Many branches of trees broke because ______ the weight _______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362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2362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3886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4952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5562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6095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1676520"/>
            <a:ext cx="85345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Trucks ran ______each other on the roads, which were covered _________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_________the day-time schoolchildren had great fun in 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One day in March two children were skating ______ a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.The ice broke and one of them fell ______ the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1676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2133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ith/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2743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666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/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4191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4800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2193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subtitlewhathappens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1371600"/>
          </a:xfrm>
          <a:prstGeom prst="rect">
            <a:avLst/>
          </a:prstGeom>
          <a:ln w="0">
            <a:noFill/>
          </a:ln>
        </p:spPr>
      </p:pic>
      <p:pic>
        <p:nvPicPr>
          <p:cNvPr id="269" name="benitezsnapshot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meetstacy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271" name="meetpatrick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272" name="meetkristen" descr=""/>
          <p:cNvPicPr/>
          <p:nvPr/>
        </p:nvPicPr>
        <p:blipFill>
          <a:blip r:embed="rId3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273" name="meetpatricia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BS00554_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2832120" cy="2097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275" name=""/>
          <p:cNvSpPr txBox="1"/>
          <p:nvPr/>
        </p:nvSpPr>
        <p:spPr>
          <a:xfrm>
            <a:off x="533520" y="3581280"/>
            <a:ext cx="3124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13372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Ex. 2  on page 12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E07677_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278" name="tree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iris_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00400" y="0"/>
            <a:ext cx="5943600" cy="155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A hurricane is a powerful storm that measures several hundred miles in diameter 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直径</a:t>
            </a: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). Hurricanes have two main part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titlehowhurrwork" descr=""/>
          <p:cNvPicPr/>
          <p:nvPr/>
        </p:nvPicPr>
        <p:blipFill>
          <a:blip r:embed="rId2"/>
          <a:stretch/>
        </p:blipFill>
        <p:spPr>
          <a:xfrm>
            <a:off x="-457200" y="5257800"/>
            <a:ext cx="6324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hurricane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18" name="PubRRectCallout"/>
          <p:cNvSpPr/>
          <p:nvPr/>
        </p:nvSpPr>
        <p:spPr>
          <a:xfrm flipV="1">
            <a:off x="3962520" y="4266360"/>
            <a:ext cx="5181480" cy="2590920"/>
          </a:xfrm>
          <a:custGeom>
            <a:avLst/>
            <a:gdLst>
              <a:gd name="textAreaLeft" fmla="*/ 34560 w 5181480"/>
              <a:gd name="textAreaRight" fmla="*/ 5135760 w 5181480"/>
              <a:gd name="textAreaTop" fmla="*/ 16920 h 2590920"/>
              <a:gd name="textAreaBottom" fmla="*/ 2051640 h 25909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0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The second part is the wall of clouds that surrounds the calm eye. This is where the hurricane's strongest winds and heaviest rain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ubRRectCallout"/>
          <p:cNvSpPr/>
          <p:nvPr/>
        </p:nvSpPr>
        <p:spPr>
          <a:xfrm flipH="1">
            <a:off x="-720" y="0"/>
            <a:ext cx="8534520" cy="2133720"/>
          </a:xfrm>
          <a:custGeom>
            <a:avLst/>
            <a:gdLst>
              <a:gd name="textAreaLeft" fmla="*/ 57240 w 8534520"/>
              <a:gd name="textAreaRight" fmla="*/ 8459280 w 8534520"/>
              <a:gd name="textAreaTop" fmla="*/ 14040 h 2133720"/>
              <a:gd name="textAreaBottom" fmla="*/ 1689840 h 2133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445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The first is the eye(</a:t>
            </a:r>
            <a:r>
              <a:rPr b="1" i="1" lang="zh-CN" sz="2400" spc="-1" strike="noStrike">
                <a:solidFill>
                  <a:srgbClr val="ff0066"/>
                </a:solidFill>
                <a:latin typeface="Times New Roman"/>
              </a:rPr>
              <a:t>风眼</a:t>
            </a: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) of the hurricane,which is a calm area in the center of the storm.  Usually, the eye of a hurricane measures about 20 miles in diameter, and has very few cloud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subtitlehowdohurrwork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3581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rail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hurricane2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810240" cy="3200400"/>
          </a:xfrm>
          <a:prstGeom prst="rect">
            <a:avLst/>
          </a:prstGeom>
          <a:ln w="0">
            <a:noFill/>
          </a:ln>
        </p:spPr>
      </p:pic>
      <p:pic>
        <p:nvPicPr>
          <p:cNvPr id="223" name="hurricane-boat" descr=""/>
          <p:cNvPicPr/>
          <p:nvPr/>
        </p:nvPicPr>
        <p:blipFill>
          <a:blip r:embed="rId3"/>
          <a:stretch/>
        </p:blipFill>
        <p:spPr>
          <a:xfrm>
            <a:off x="4648320" y="30492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224" name="buffalo2" descr=""/>
          <p:cNvPicPr/>
          <p:nvPr/>
        </p:nvPicPr>
        <p:blipFill>
          <a:blip r:embed="rId4"/>
          <a:stretch/>
        </p:blipFill>
        <p:spPr>
          <a:xfrm>
            <a:off x="4648320" y="3276720"/>
            <a:ext cx="3733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85800"/>
            <a:ext cx="86104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The reason why nineteen people died in the hurricane perhaps was that_______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 it rained heavily and they were washed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 ver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 the big trees fell down where they were sl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 they were missing in the d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From the passage the greatest harm to the towns and villages was that______ in the hurric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there was no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water supply was cut off without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people could't get touch with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a great man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838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114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1066680"/>
            <a:ext cx="84582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At that night some people couldn't get to sleep, which made them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safe the whole night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nervous all th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lucky all night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protect themselves as possible as they c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With the help of the soldiers and the workers from other parts of Britain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 everything would be  better as soon a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 things were got back as they were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the towns and villages were much better than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the people had nothing to worry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2860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hurricane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2120" y="1523880"/>
            <a:ext cx="761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ntsyPants"/>
              </a:rPr>
              <a:t>A hurricane stuck the southeast of England. Between the hours of midnight and 6 a.m. the hurricane crossed the southeast corner of England with winds of up to 160 kph. Nineteen people lost their li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85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What happened on Friday October, 1987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ages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819160"/>
          </a:xfrm>
          <a:prstGeom prst="rect">
            <a:avLst/>
          </a:prstGeom>
          <a:ln w="0">
            <a:noFill/>
          </a:ln>
        </p:spPr>
      </p:pic>
      <p:pic>
        <p:nvPicPr>
          <p:cNvPr id="238" name="rain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114800" cy="33530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876920" y="22860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  <a:ea typeface="华文新魏"/>
              </a:rPr>
              <a:t>What’s the weather like in Engl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1447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</a:rPr>
              <a:t>England usually has plenty of rain every month of th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12408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0000"/>
                </a:solidFill>
                <a:latin typeface="Alfredo's Dance"/>
              </a:rPr>
              <a:t>What about the rain that n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44956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000"/>
                </a:solidFill>
                <a:latin typeface="Alfredo's Dance"/>
              </a:rPr>
              <a:t>That night was the worst one in the history. It had been raining heavily for two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2:14:36Z</dcterms:created>
  <dc:creator>gong</dc:creator>
  <dc:description/>
  <dc:language>en-US</dc:language>
  <cp:lastModifiedBy>gong</cp:lastModifiedBy>
  <dcterms:modified xsi:type="dcterms:W3CDTF">2002-12-01T01:52:08Z</dcterms:modified>
  <cp:revision>39</cp:revision>
  <dc:subject/>
  <dc:title>PowerPoint 演示文稿</dc:title>
</cp:coreProperties>
</file>