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B32-B82B-4E02-AF8E-A89BFAA2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D01-25BB-449D-B923-1E0CD655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744-1E81-4259-868D-9D9FAF70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056-1420-4FD0-88F6-CA3F6062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A394-AEFD-4A21-8006-2678CD06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D86F-7636-4423-9A0C-D80200F3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EFDF-9226-4292-88B2-30296FE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2D73-8005-4477-8A4F-1FBB992D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93DB-4BB1-44DD-94E1-36C75BD8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2653-80EC-4BF7-A4C4-06DD4679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E8FF-BBE5-417F-B864-F07668A4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35B-0647-4FC1-9915-756CCC0D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B0D6-7A4C-4321-8691-5EA70BF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E159-1F5D-43B6-9467-9CCDD8E7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070F-4B57-459D-B06D-954F8DDD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F90F-F404-4009-BA8E-3A998D8C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0A31-F885-4583-882F-15127602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E85-5E0B-4BC4-A1E6-C24855D8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EFC-2C56-4101-9B64-F7CC053F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A8C-DB8B-46DA-AB50-2E46327A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777-40C6-4BB2-96FB-B557B52C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53C-4E08-49DA-B64D-5BABD320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ED8-1233-498D-877F-65101BBE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9FB-CFFA-4470-820D-3BA7E618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E36F-D1A4-48A3-BD76-910254D380D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2D95-CA7C-485B-B4F3-3D2B2C1B2B7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ewpag41" descr=""/>
          <p:cNvPicPr/>
          <p:nvPr/>
        </p:nvPicPr>
        <p:blipFill>
          <a:blip r:embed="rId1"/>
          <a:stretch/>
        </p:blipFill>
        <p:spPr>
          <a:xfrm>
            <a:off x="1590840" y="1030320"/>
            <a:ext cx="5962320" cy="479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lang="en-US" sz="4800" spc="-1" strike="noStrike">
                <a:solidFill>
                  <a:srgbClr val="ffcc66"/>
                </a:solidFill>
                <a:latin typeface="Monotype Corsiva"/>
              </a:rPr>
              <a:t>That is all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thank you!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34920" y="249192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chen  long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Tai Shan Foreign   Language Sch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ver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Guess : who is he or sh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e is an excellent </a:t>
            </a:r>
            <a:r>
              <a:rPr b="1" lang="zh-CN" sz="2800" spc="-1" strike="noStrike" u="sng">
                <a:solidFill>
                  <a:srgbClr val="ff1045"/>
                </a:solidFill>
                <a:uFillTx/>
                <a:latin typeface="Times New Roman"/>
              </a:rPr>
              <a:t>gymnast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won three golden Olympic Games medals, and now he works in International </a:t>
            </a:r>
            <a:r>
              <a:rPr b="1" i="1" lang="zh-CN" sz="3200" spc="-1" strike="noStrike" u="sng">
                <a:solidFill>
                  <a:srgbClr val="ff1045"/>
                </a:solidFill>
                <a:uFillTx/>
                <a:latin typeface="Times New Roman"/>
              </a:rPr>
              <a:t>Gymnastics</a:t>
            </a:r>
            <a:r>
              <a:rPr b="1" i="1" lang="zh-CN" sz="3200" spc="-1" strike="noStrike">
                <a:solidFill>
                  <a:srgbClr val="ff1045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Union . He runs a firm selling shoes and T-shirts and so 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李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480" y="10666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In 1998, a young and beautiful Chinese girl was doing exercises on a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beam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in the USA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hen sh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lande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unfortunately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she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ell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over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hurt badly. Now she is a disabled one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桑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you like doing sport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If you hurt yourself, what will do at onc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see the doctor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use  special medicine 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rub down , put hot and cold cloth on the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damaged par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(hot-cloth-and –frozen-peas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The temperatures makes the blood move a,the damaged part begin to repai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cc66"/>
                </a:solidFill>
                <a:latin typeface="Ravie"/>
              </a:rPr>
              <a:t>isten and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1808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1,What is the matter with Sharon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2,What does the doctor tell her to do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1  is that she has hurt her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隶书"/>
                <a:ea typeface="隶书"/>
              </a:rPr>
              <a:t>shoul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2  is that the doctor tells her to use a special treatment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o the questions with your partn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 is Shar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id she hurt her shoul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was she very   fortunate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es the doctor advise her to u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us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often does she must tak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think it is effectiv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ymn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Do exercises, high-and low bar, land,fell forward, too close,knocked into,fell ov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othing seriou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ut hot wet cloth one minute,frozen peas for one minute again and aga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wice a day for a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You were sharon,tell the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 </a:t>
            </a: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practise with your partner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one to be sharon and one to be doc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ake (have )a look at s.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ave a walk/re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to do st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for s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38320" y="3504960"/>
            <a:ext cx="3048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AN02122_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601720" cy="260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If you were a patient at doctor’s ,and make  a dialogue with your friend.(</a:t>
            </a:r>
            <a:r>
              <a:rPr b="0" i="1" lang="en-US" sz="2800" spc="-1" strike="noStrike">
                <a:solidFill>
                  <a:srgbClr val="ffcc66"/>
                </a:solidFill>
                <a:latin typeface="Tw Cen MT Condensed Extra Bold"/>
              </a:rPr>
              <a:t>headache </a:t>
            </a: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…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E02716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772080" cy="355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DFPhonetic"/>
                <a:ea typeface="MingLiU"/>
              </a:rPr>
              <a:t>exercises to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ercises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c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ul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1480" y="12949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o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14:11Z</dcterms:created>
  <dc:creator>陈金钱</dc:creator>
  <dc:description/>
  <dc:language>en-US</dc:language>
  <cp:lastModifiedBy>User</cp:lastModifiedBy>
  <dcterms:modified xsi:type="dcterms:W3CDTF">2004-03-15T14:44:52Z</dcterms:modified>
  <cp:revision>7</cp:revision>
  <dc:subject/>
  <dc:title>    Guess : who is he or she</dc:title>
</cp:coreProperties>
</file>