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5513-5097-403C-9E1E-1D8BAFE0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A581-EBC7-49C8-B8C7-E75665B7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87C-1736-40D4-AC9C-774B71AC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5AFA-FA91-4192-83A1-8FB0B628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E3D7-C073-454F-AFA2-8E5484A2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8530-F484-4801-9916-A4419A9F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8BFA-FC01-4C29-A308-18FE0960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AF83-CFBE-416D-BBAC-DC9F4333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AE56-2F09-4937-994F-E7C42156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5FAC-66DA-423C-91EE-B221D3B3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9550-0BB8-440C-905B-527A466B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52B7-A1A4-4DE0-8660-6E985401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ECEA-4AA4-4D24-8AD9-84BA8955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F938-5B67-42BA-9247-5801C864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6EBC-5A08-435D-AA7C-3F83F6A0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E2BF-4BE1-463D-97C8-A48DBDB0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A7AB-CAF3-4A3C-A7B3-FAB5CD8F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43CE-D848-4CD2-B7C7-86151998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A113-AB3E-4692-BE49-1FA4EE2C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96C-3AA8-4C30-B3C8-1C0130A8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3069-A24E-4C0B-BFB1-411DA86C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529C-1ECC-49A5-AB3A-4604D0CD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5826-6F1F-4FAB-8014-F96014CD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76FD-3A41-4425-A50B-BC243BDA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AAB8-863E-4466-B281-366C5A10F59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AF4E-30DB-4771-AF6A-6EA3969AF8C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87840" y="0"/>
            <a:ext cx="48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eep one’s word/prom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0520" y="457200"/>
            <a:ext cx="784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must keep your word if you promis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the children to the cin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5200" y="1447920"/>
            <a:ext cx="40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kept my word to 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7000" y="2057400"/>
            <a:ext cx="307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pon one’s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07920" y="20574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真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发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1240" y="2514600"/>
            <a:ext cx="74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on my word,this is an interesting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297180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eak one’s word to s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47160" y="3048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失信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3680" y="3505320"/>
            <a:ext cx="22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ve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4320" y="3581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留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00" y="3962520"/>
            <a:ext cx="28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ive one’s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6560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保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3962520"/>
            <a:ext cx="317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prom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2240" y="4572000"/>
            <a:ext cx="35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comes tha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98240" y="47242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有消息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5240" y="5105520"/>
            <a:ext cx="27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at one’s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22760" y="518148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记错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收回前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道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84600" y="5562720"/>
            <a:ext cx="71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said he would throw me downstair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 I made him eat his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36640" y="449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30640" y="399960"/>
            <a:ext cx="27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7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deed  ad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24640" y="1390680"/>
            <a:ext cx="48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es,she is honest indee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4280" y="2305080"/>
            <a:ext cx="47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like it very much ind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23200" y="3295800"/>
            <a:ext cx="43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’ve very glad ind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70920" y="4210200"/>
            <a:ext cx="619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friend in need is a friend ind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93880" y="45720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el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放于句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“确实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定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72560" y="1066680"/>
            <a:ext cx="353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ll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放于句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用于进一步说明对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表示惊奇或含蓄的怀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7560" y="1905120"/>
            <a:ext cx="417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ee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放于句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用于肯定对方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加强自己的语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74040" y="2762280"/>
            <a:ext cx="531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ely you don’t believ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25720" y="3448080"/>
            <a:ext cx="34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ill surely w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20680" y="4133880"/>
            <a:ext cx="46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really want to g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22840" y="497196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really doesn’t know 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1360" y="457200"/>
            <a:ext cx="30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8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mark  n.  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39760" y="1371600"/>
            <a:ext cx="51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remarks on /about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00800" y="1371600"/>
            <a:ext cx="21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对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.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加以评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8280" y="2000160"/>
            <a:ext cx="603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kept making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marks 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6480" y="2762280"/>
            <a:ext cx="77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ople made rude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marks ab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is d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92080" y="3371760"/>
            <a:ext cx="637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remarked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had better st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6720" y="419112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would be rude to remark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up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ear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200600" y="704880"/>
            <a:ext cx="260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9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light  vt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84960" y="1371600"/>
            <a:ext cx="728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delighted them with his perform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2360" y="2057400"/>
            <a:ext cx="59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visit last week delighted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37960" y="2743200"/>
            <a:ext cx="66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ews delighted the whole 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37240" y="3352680"/>
            <a:ext cx="613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s delighted at the good n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0400" y="4038480"/>
            <a:ext cx="23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t seeing 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87160" y="4724280"/>
            <a:ext cx="471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 my second article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akespe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868760" y="552600"/>
            <a:ext cx="292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.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对…很喜欢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以…为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24280" y="2000160"/>
            <a:ext cx="434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delighted in scand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23200" y="2838600"/>
            <a:ext cx="576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seem to delight in keep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one else wai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88320" y="202248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对丑闻津津乐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59000" y="407988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们好象以让别人都等着他们为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06120" y="609480"/>
            <a:ext cx="77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were all delight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recei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r le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84240" y="1219320"/>
            <a:ext cx="55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light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he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say t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12520" y="1752480"/>
            <a:ext cx="834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are delighted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have won the vi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08640" y="2438280"/>
            <a:ext cx="72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s delighte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were success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0320" y="3276720"/>
            <a:ext cx="36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. Take delight i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57480" y="3276720"/>
            <a:ext cx="19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乐于干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爱好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4120" y="4038480"/>
            <a:ext cx="496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takes delight in rea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13560" y="403848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joys 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89280" y="4724280"/>
            <a:ext cx="296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 one’s de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85320" y="5410080"/>
            <a:ext cx="723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our delight, we succeeded in win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27160" y="601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55400" y="476280"/>
            <a:ext cx="17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0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91720" y="1542960"/>
            <a:ext cx="73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he was riding along, the tyre bu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8160" y="2057400"/>
            <a:ext cx="48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heart burst with an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1960" y="2590920"/>
            <a:ext cx="772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hearing the news, they burst their si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laug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2240" y="3733920"/>
            <a:ext cx="46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iver burst its ba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88200" y="4419720"/>
            <a:ext cx="50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 into/in +place = br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95680" y="4971960"/>
            <a:ext cx="44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 into laughter/t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18640" y="5505480"/>
            <a:ext cx="47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 out crying/laugh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1640" y="5486400"/>
            <a:ext cx="312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 with a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507320" y="476280"/>
            <a:ext cx="15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1.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98440" y="1695600"/>
            <a:ext cx="42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did tha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ut of env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00600" y="2381400"/>
            <a:ext cx="30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I envy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99880" y="3295800"/>
            <a:ext cx="556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envied us for our suc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72960" y="4210200"/>
            <a:ext cx="53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envy you your good fortu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96280" y="704880"/>
            <a:ext cx="608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2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n boar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adj. Adv. Prep-p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6360" y="190512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hip had 500 passengers on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6000" y="2438280"/>
            <a:ext cx="71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were ten men on board the pla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0880" y="3048120"/>
            <a:ext cx="67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ll manage to get on board some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21880" y="3753000"/>
            <a:ext cx="18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69520" y="3774960"/>
            <a:ext cx="31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船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飞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登船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97120" y="4362480"/>
            <a:ext cx="251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the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34400" y="438480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在会上讨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布告牌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73800" y="5124600"/>
            <a:ext cx="26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the bo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36840" y="5070600"/>
            <a:ext cx="16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做演员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戏台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201680" y="399960"/>
            <a:ext cx="22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k  v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42560" y="1390680"/>
            <a:ext cx="717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il was leaking out of a hole in the ta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45080" y="2228760"/>
            <a:ext cx="713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one in the ministry had leaked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ory to the pr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68040" y="3448080"/>
            <a:ext cx="647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has leaked out that they intend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 the arms budg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25360" y="4667400"/>
            <a:ext cx="24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.  a gas l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76200" y="5505480"/>
            <a:ext cx="42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eak of nuclear w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78720" y="628560"/>
            <a:ext cx="26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short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40600" y="630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简言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55040" y="131436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93240" y="1316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换言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78000" y="207648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a / one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06560" y="2077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53960" y="2685960"/>
            <a:ext cx="28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for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5800" y="263196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逐字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字不差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08760" y="3448080"/>
            <a:ext cx="173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1640" y="354636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言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78600" y="4286160"/>
            <a:ext cx="48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out a word of ap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4040" y="5202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没有一句道歉的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655640" y="552600"/>
            <a:ext cx="450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4. (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e) on the point of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35080" y="1219320"/>
            <a:ext cx="739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s just on the point of going when y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me i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5560" y="1676520"/>
            <a:ext cx="528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was just going out…whe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38160" y="2057400"/>
            <a:ext cx="552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s about to go out…whe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19600" y="2685960"/>
            <a:ext cx="769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oach was on the point of giving u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ame when our team scored two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45080" y="3981600"/>
            <a:ext cx="65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ick man is at the point of de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80400" y="476280"/>
            <a:ext cx="36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5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ake charge (o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18840" y="990720"/>
            <a:ext cx="62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 responsible for, be in charg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44360" y="2076480"/>
            <a:ext cx="63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s Wang took charge of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91720" y="2990880"/>
            <a:ext cx="62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aunt was in charge of my bab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90640" y="3753000"/>
            <a:ext cx="74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baby was in the charge of my m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91360" y="4514760"/>
            <a:ext cx="66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teacher in charge of Class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68760" y="5200560"/>
            <a:ext cx="628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each take charge of the less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three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735560" y="247680"/>
            <a:ext cx="207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6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ill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46520" y="1162080"/>
            <a:ext cx="47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a man of strong w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21040" y="1924200"/>
            <a:ext cx="64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there is a will, there is a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71640" y="2685960"/>
            <a:ext cx="44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did i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gainst his wi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99760" y="2687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非出于自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68760" y="3219480"/>
            <a:ext cx="48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may go or sta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t w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30800" y="322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23920" y="38289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did i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f my own wi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975640" y="385128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愿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心所愿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47240" y="459108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has no will of his 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42040" y="4668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没有主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73280" y="45720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7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razy   ad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37240" y="1143000"/>
            <a:ext cx="614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then on he went crazy/ 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0120" y="182880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were crazy to lend that man your mo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0520" y="2305080"/>
            <a:ext cx="53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was crazy of you to len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0000" y="281952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rushed towards the river bank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ike craz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7920" y="331776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疯狂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拼命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5960" y="4057560"/>
            <a:ext cx="58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re crazy ab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op mus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63960" y="4059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着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2200" y="4819680"/>
            <a:ext cx="26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ive sb craz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33600" y="4897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把某人逼得发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7080" y="5505480"/>
            <a:ext cx="32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crazy with j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26920" y="5506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欣喜若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752480" y="9144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76920" y="1085760"/>
            <a:ext cx="24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8. Scold  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54200" y="1981080"/>
            <a:ext cx="76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colded him for having left the door o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3840" y="2590920"/>
            <a:ext cx="727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s scolded yesterday for having le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door o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76560" y="4133880"/>
            <a:ext cx="45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old sb for sth/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51080" y="504828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b be/get scolded for sth/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53120" y="933480"/>
            <a:ext cx="57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got a good scolding for ly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72600" y="1847880"/>
            <a:ext cx="697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mother gave him a scolding for h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ing dishon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3080" y="2743200"/>
            <a:ext cx="39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t a scolding for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84800" y="2819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某事挨一顿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10440" y="320040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ive sb a scolding for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45240" y="3276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某事训斥某人一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74880" y="4640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88920" y="3809880"/>
            <a:ext cx="38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cold/blame sb f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66320" y="4419720"/>
            <a:ext cx="29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lame sth on 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53880" y="449568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…归咎到某人的头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4920" y="5562720"/>
            <a:ext cx="22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e to bl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21400" y="4971960"/>
            <a:ext cx="67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’s no use blaming our defeat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97520" y="550548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o bl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12240" y="385128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…而责备某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446120" y="533520"/>
            <a:ext cx="290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9.Shoulder 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60560" y="1143000"/>
            <a:ext cx="729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gave the child a ride on his shoul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84960" y="1752480"/>
            <a:ext cx="65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took the task on my own shoul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65240" y="2362320"/>
            <a:ext cx="38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houlder to shoul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08640" y="2971800"/>
            <a:ext cx="71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patted him on the shoul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84240" y="3581280"/>
            <a:ext cx="758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must fight against the enemy should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shoul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58960" y="4648320"/>
            <a:ext cx="82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glanced over his shoulder, but saw no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08640" y="5181480"/>
            <a:ext cx="693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ny of us would rather someone e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houlde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ponsi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04800" y="5657760"/>
            <a:ext cx="7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113920" y="476280"/>
            <a:ext cx="33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0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eadily    ad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13560" y="1905120"/>
            <a:ext cx="62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health is getting steadily wo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12480" y="2743200"/>
            <a:ext cx="673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lked /drove/rode on steadily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92400" y="441972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should work stead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189880" y="781200"/>
            <a:ext cx="34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1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finite   adj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97000" y="1924200"/>
            <a:ext cx="75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’s definite/sure/certain that he will c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87480" y="1847880"/>
            <a:ext cx="16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73840" y="1847880"/>
            <a:ext cx="140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73680" y="2610000"/>
            <a:ext cx="64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plans are now perfectly defin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22840" y="3524400"/>
            <a:ext cx="53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s definite about my pl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02040" y="4438800"/>
            <a:ext cx="38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definite in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93840" y="5334120"/>
            <a:ext cx="31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definit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99880" y="552600"/>
            <a:ext cx="511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Change’s one’s mind/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20320" y="1467000"/>
            <a:ext cx="78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had planned to spend the holiday with m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sin, but now I have changed my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0600" y="2610000"/>
            <a:ext cx="810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you have made a decision, you’d better n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nge your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16840" y="3676680"/>
            <a:ext cx="546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d like to change this for t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89920" y="4438800"/>
            <a:ext cx="649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ease change a $5000 note into g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91360" y="5124600"/>
            <a:ext cx="72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nt to change seats with my neighb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27160" y="449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48200" y="324000"/>
            <a:ext cx="693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yho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in any way, by any mean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any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95200" y="1771560"/>
            <a:ext cx="72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ve tried, but I can’t manage it any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43280" y="2457360"/>
            <a:ext cx="737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hall go anyhow-whether it rains or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66600" y="3143160"/>
            <a:ext cx="773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may not like my visit, but I shall go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e him any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91360" y="4362480"/>
            <a:ext cx="775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clothes were thrown down just any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01680" y="628560"/>
            <a:ext cx="44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4.Argum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22120" y="1542960"/>
            <a:ext cx="66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were busy with their arg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83160" y="2057400"/>
            <a:ext cx="67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argument is that it is now too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19960" y="2610000"/>
            <a:ext cx="645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should try to settle the affair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gument, not by f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9960" y="3753000"/>
            <a:ext cx="558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gue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talk angrily with s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cause you don’t a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19600" y="4971960"/>
            <a:ext cx="76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often argue with my brother about mus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33040" y="704880"/>
            <a:ext cx="40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gue about/over sth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94320" y="706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某事争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6840" y="1314360"/>
            <a:ext cx="645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tudents argued about/over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rrectness of the ans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040" y="2362320"/>
            <a:ext cx="262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gue with 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2040" y="2971800"/>
            <a:ext cx="81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argued with the taxi driver about the f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280" y="3524400"/>
            <a:ext cx="53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gue sb into/out of 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6640" y="4038480"/>
            <a:ext cx="40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ersuade/talk/rea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8360" y="4514760"/>
            <a:ext cx="75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argued him into/out of leaving his j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25720" y="476280"/>
            <a:ext cx="373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3920" y="1542960"/>
            <a:ext cx="652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understandings between n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y lead to w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85320" y="2666880"/>
            <a:ext cx="63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ave a misunderstanding about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26320" y="331776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对…产生误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误解某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46160" y="4210200"/>
            <a:ext cx="71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think we just had a misunderstan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out your id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53960" y="628560"/>
            <a:ext cx="308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6. Ashamed  ad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48920" y="1619280"/>
            <a:ext cx="65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you ashamed of having done 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72240" y="2228760"/>
            <a:ext cx="741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 be ashamed of your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51800" y="3143160"/>
            <a:ext cx="520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m ashamed for what I s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00480" y="4362480"/>
            <a:ext cx="51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 ashamed of/at + n./d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r what-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85680" y="762120"/>
            <a:ext cx="70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 be ashamed to tell such 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2800" y="1600200"/>
            <a:ext cx="744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m quite ashamed to have to trouble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0320" y="2209680"/>
            <a:ext cx="38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 ashamed to do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6720" y="3124080"/>
            <a:ext cx="598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s ashamed that he had l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0160" y="3733920"/>
            <a:ext cx="74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felt ashamed that he had done so lit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080" y="4419720"/>
            <a:ext cx="34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 ashamed tha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73440" y="5276880"/>
            <a:ext cx="39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made him asha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</cp:lastModifiedBy>
  <dcterms:modified xsi:type="dcterms:W3CDTF">2004-10-10T11:49:27Z</dcterms:modified>
  <cp:revision>4</cp:revision>
  <dc:subject/>
  <dc:title>PowerPoint Presentation</dc:title>
</cp:coreProperties>
</file>