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26.gif" ContentType="image/gif"/>
  <Override PartName="/ppt/media/image24.gif" ContentType="image/gif"/>
  <Override PartName="/ppt/media/image23.gif" ContentType="image/gif"/>
  <Override PartName="/ppt/media/image17.gif" ContentType="image/gif"/>
  <Override PartName="/ppt/media/image27.jpeg" ContentType="image/jpeg"/>
  <Override PartName="/ppt/media/image16.gif" ContentType="image/gif"/>
  <Override PartName="/ppt/media/image14.gif" ContentType="image/gif"/>
  <Override PartName="/ppt/media/image21.gif" ContentType="image/gif"/>
  <Override PartName="/ppt/media/image19.gif" ContentType="image/gif"/>
  <Override PartName="/ppt/media/image41.jpeg" ContentType="image/jpeg"/>
  <Override PartName="/ppt/media/image9.jpeg" ContentType="image/jpeg"/>
  <Override PartName="/ppt/media/image11.jpeg" ContentType="image/jpeg"/>
  <Override PartName="/ppt/media/image31.gif" ContentType="image/gif"/>
  <Override PartName="/ppt/media/image10.png" ContentType="image/png"/>
  <Override PartName="/ppt/media/image30.gif" ContentType="image/gif"/>
  <Override PartName="/ppt/media/image33.png" ContentType="image/png"/>
  <Override PartName="/ppt/media/image40.gif" ContentType="image/gif"/>
  <Override PartName="/ppt/media/image38.gif" ContentType="image/gif"/>
  <Override PartName="/ppt/media/image12.png" ContentType="image/png"/>
  <Override PartName="/ppt/media/image32.gif" ContentType="image/gif"/>
  <Override PartName="/ppt/media/image34.jpeg" ContentType="image/jpeg"/>
  <Override PartName="/ppt/media/image35.gif" ContentType="image/gif"/>
  <Override PartName="/ppt/media/image7.jpeg" ContentType="image/jpeg"/>
  <Override PartName="/ppt/media/image5.jpeg" ContentType="image/jpeg"/>
  <Override PartName="/ppt/media/image15.gif" ContentType="image/gif"/>
  <Override PartName="/ppt/media/image36.png" ContentType="image/png"/>
  <Override PartName="/ppt/media/image39.png" ContentType="image/png"/>
  <Override PartName="/ppt/media/image13.jpeg" ContentType="image/jpeg"/>
  <Override PartName="/ppt/media/image18.gif" ContentType="image/gif"/>
  <Override PartName="/ppt/media/image20.gif" ContentType="image/gif"/>
  <Override PartName="/ppt/media/image8.jpeg" ContentType="image/jpeg"/>
  <Override PartName="/ppt/media/image6.jpeg" ContentType="image/jpeg"/>
  <Override PartName="/ppt/media/image25.gif" ContentType="image/gif"/>
  <Override PartName="/ppt/media/image4.jpeg" ContentType="image/jpeg"/>
  <Override PartName="/ppt/media/image22.gif" ContentType="image/gif"/>
  <Override PartName="/ppt/media/image28.wmf" ContentType="image/x-wmf"/>
  <Override PartName="/ppt/media/image37.jpeg" ContentType="image/jpeg"/>
  <Override PartName="/ppt/media/image3.jpeg" ContentType="image/jpeg"/>
  <Override PartName="/ppt/media/image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3B54-5E1F-4F65-AE4B-C8BB00264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79FA-1670-48DC-8A07-564E007B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926C-9519-4C27-802B-06CE1C54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E9A5-968A-47B9-A7A7-4ABAF64A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F69A-EFE0-47D5-9724-1A70723B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5218-B8E5-4F86-9B13-FDD407FE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146A-E4A0-48F1-827D-65058E61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9FD7-ADB1-43A7-BB5E-26805E80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2FB4-A333-43C6-B6A6-E5947044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6776-EEA1-432E-A7D8-D99B3187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9A51-C0D1-4733-A65A-616CFE72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0303-D9CB-416D-A127-5066E8FD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71A1-3DBB-469D-AAB2-DE5F405EE3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bj.le365.com/zh_cn/play/yule/11023178/20041029/73423.html" TargetMode="External"/><Relationship Id="rId2" Type="http://schemas.openxmlformats.org/officeDocument/2006/relationships/image" Target="../media/image34.jpe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image" Target="../media/image37.jpeg"/><Relationship Id="rId5" Type="http://schemas.openxmlformats.org/officeDocument/2006/relationships/image" Target="../media/image38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image" Target="../media/image5.jpeg"/><Relationship Id="rId5" Type="http://schemas.openxmlformats.org/officeDocument/2006/relationships/image" Target="../media/image8.jpeg"/><Relationship Id="rId6" Type="http://schemas.openxmlformats.org/officeDocument/2006/relationships/image" Target="../media/image7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" Target="slide13.xml"/><Relationship Id="rId3" Type="http://schemas.openxmlformats.org/officeDocument/2006/relationships/image" Target="../media/image17.gif"/><Relationship Id="rId4" Type="http://schemas.openxmlformats.org/officeDocument/2006/relationships/slide" Target="slide16.xml"/><Relationship Id="rId5" Type="http://schemas.openxmlformats.org/officeDocument/2006/relationships/image" Target="../media/image18.gif"/><Relationship Id="rId6" Type="http://schemas.openxmlformats.org/officeDocument/2006/relationships/slide" Target="slide11.xml"/><Relationship Id="rId7" Type="http://schemas.openxmlformats.org/officeDocument/2006/relationships/image" Target="../media/image19.gif"/><Relationship Id="rId8" Type="http://schemas.openxmlformats.org/officeDocument/2006/relationships/slide" Target="slide14.xml"/><Relationship Id="rId9" Type="http://schemas.openxmlformats.org/officeDocument/2006/relationships/image" Target="../media/image20.gif"/><Relationship Id="rId10" Type="http://schemas.openxmlformats.org/officeDocument/2006/relationships/slide" Target="slide17.xml"/><Relationship Id="rId11" Type="http://schemas.openxmlformats.org/officeDocument/2006/relationships/image" Target="../media/image21.gif"/><Relationship Id="rId12" Type="http://schemas.openxmlformats.org/officeDocument/2006/relationships/slide" Target="slide12.xml"/><Relationship Id="rId13" Type="http://schemas.openxmlformats.org/officeDocument/2006/relationships/image" Target="../media/image22.gif"/><Relationship Id="rId14" Type="http://schemas.openxmlformats.org/officeDocument/2006/relationships/slide" Target="slide15.xml"/><Relationship Id="rId15" Type="http://schemas.openxmlformats.org/officeDocument/2006/relationships/image" Target="../media/image23.gif"/><Relationship Id="rId16" Type="http://schemas.openxmlformats.org/officeDocument/2006/relationships/slide" Target="slide18.xml"/><Relationship Id="rId17" Type="http://schemas.openxmlformats.org/officeDocument/2006/relationships/image" Target="../media/image24.gif"/><Relationship Id="rId18" Type="http://schemas.openxmlformats.org/officeDocument/2006/relationships/image" Target="../media/image15.gif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743200" y="1219320"/>
            <a:ext cx="2446200" cy="3581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86544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45435" t="0" r="0" b="26765"/>
          <a:stretch/>
        </p:blipFill>
        <p:spPr>
          <a:xfrm>
            <a:off x="2438280" y="1066680"/>
            <a:ext cx="2638440" cy="3810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3520" y="558720"/>
            <a:ext cx="8650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111640" cy="3335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86544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4419720" cy="3219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8650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2712960" cy="3291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62120" y="762120"/>
            <a:ext cx="8650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14600" y="1268280"/>
            <a:ext cx="4194000" cy="4248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8650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666880" y="1600200"/>
            <a:ext cx="2778120" cy="3200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86544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515960"/>
            <a:ext cx="3886200" cy="3681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8650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1676520"/>
            <a:ext cx="5457960" cy="3600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80880" y="380880"/>
            <a:ext cx="86544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8000" y="260280"/>
            <a:ext cx="8424720" cy="20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sk your partner about his or her school trip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here did they g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hat did they do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116000" y="1773360"/>
          <a:ext cx="6913440" cy="2774880"/>
        </p:xfrm>
        <a:graphic>
          <a:graphicData uri="http://schemas.openxmlformats.org/drawingml/2006/table">
            <a:tbl>
              <a:tblPr/>
              <a:tblGrid>
                <a:gridCol w="2230560"/>
                <a:gridCol w="2341440"/>
                <a:gridCol w="2341440"/>
              </a:tblGrid>
              <a:tr h="581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Nam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la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ctivit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280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nzho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nt to the zo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99"/>
                      </a:solidFill>
                    </a:lnL>
                    <a:lnR w="280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324000" y="4653000"/>
            <a:ext cx="8564400" cy="159588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Here is our repor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In my group,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eter 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went  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to Wenzhou. He 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went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 to the zoo.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Tom 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___________.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Mike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_________. And I_________We  all had  great fun on the school trip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77080" y="0"/>
            <a:ext cx="1952640" cy="1809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5048280"/>
            <a:ext cx="1952640" cy="1809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732720" y="0"/>
            <a:ext cx="24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ff"/>
                </a:solidFill>
                <a:latin typeface="Times New Roman"/>
              </a:rPr>
              <a:t>Group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5333760" cy="3313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395280" y="333360"/>
            <a:ext cx="832500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方正舒体"/>
              </a:rPr>
              <a:t>Unit 8 How was your school trip ?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164360" y="1700280"/>
            <a:ext cx="16556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华文彩云"/>
              </a:rPr>
              <a:t>Period  2</a:t>
            </a:r>
            <a:endParaRPr b="0" lang="en-US" sz="3200" spc="1" strike="noStrike">
              <a:ln w="1908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华文彩云"/>
              <a:ea typeface="华文彩云"/>
            </a:endParaRPr>
          </a:p>
        </p:txBody>
      </p:sp>
      <p:sp>
        <p:nvSpPr>
          <p:cNvPr id="45" name=""/>
          <p:cNvSpPr/>
          <p:nvPr/>
        </p:nvSpPr>
        <p:spPr>
          <a:xfrm>
            <a:off x="3995640" y="566100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邹城八中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Xu  Hui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1447920"/>
            <a:ext cx="6624720" cy="452592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f you’re  a reporter from CCTV-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ow you are going to interview the students in Class Eight 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How was your last tri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Did you go… ? /   Where did you g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Were there …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What did you do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Did you see…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Did you buy a souven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>
            <a:hlinkClick r:id="rId1" action="ppaction://hlinksldjump"/>
          </p:cNvPr>
          <p:cNvPicPr/>
          <p:nvPr/>
        </p:nvPicPr>
        <p:blipFill>
          <a:blip r:embed="rId2"/>
          <a:srcRect l="15133" t="0" r="27432" b="18338"/>
          <a:stretch/>
        </p:blipFill>
        <p:spPr>
          <a:xfrm>
            <a:off x="7086600" y="3933720"/>
            <a:ext cx="2057400" cy="2924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324000" y="333360"/>
            <a:ext cx="5414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CCTV's talk show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7543800" y="304920"/>
            <a:ext cx="1333440" cy="13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47280" cy="7254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981080" y="152388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2637000"/>
            <a:ext cx="617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ke a survey about what your friends or your parents did on the school trip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62120" y="6324480"/>
            <a:ext cx="8381880" cy="2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-300600" y="0"/>
            <a:ext cx="6627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99"/>
                </a:solidFill>
                <a:latin typeface="Curlz MT"/>
              </a:rPr>
              <a:t>Thank you 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11280" cy="2666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700360" y="3429000"/>
            <a:ext cx="2556000" cy="2565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3357720"/>
            <a:ext cx="2521080" cy="2592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627280" y="0"/>
            <a:ext cx="2592360" cy="2637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219640" y="26028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eat  ice c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23320" y="1468440"/>
            <a:ext cx="244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take pho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19640" y="4218120"/>
            <a:ext cx="39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go to the aqua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14320" y="2830680"/>
            <a:ext cx="31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go to the b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27280" cy="2637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987640" y="0"/>
            <a:ext cx="2521080" cy="2637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3284640"/>
            <a:ext cx="2700360" cy="2736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203640" y="3068640"/>
            <a:ext cx="2519280" cy="2736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89960" y="692280"/>
            <a:ext cx="26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see some se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24160" y="1757520"/>
            <a:ext cx="20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see a sh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864400" y="2852640"/>
            <a:ext cx="26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buy a souve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34160" y="4221000"/>
            <a:ext cx="32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see some dolph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076720" y="4437000"/>
            <a:ext cx="2176560" cy="2421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2411280" cy="2349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50920" y="2349360"/>
            <a:ext cx="2376360" cy="2087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627280" y="2276640"/>
            <a:ext cx="2521080" cy="2160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2556000" y="4437000"/>
            <a:ext cx="2592360" cy="2421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2627280" y="0"/>
            <a:ext cx="2521080" cy="2349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250920" y="4365720"/>
            <a:ext cx="2340000" cy="2492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012000" y="268200"/>
            <a:ext cx="313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un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day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te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eek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Fri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1187280" y="0"/>
            <a:ext cx="5410080" cy="1143000"/>
            <a:chOff x="1187280" y="0"/>
            <a:chExt cx="5410080" cy="1143000"/>
          </a:xfrm>
        </p:grpSpPr>
        <p:pic>
          <p:nvPicPr>
            <p:cNvPr id="71" name="" descr=""/>
            <p:cNvPicPr/>
            <p:nvPr/>
          </p:nvPicPr>
          <p:blipFill>
            <a:blip r:embed="rId1"/>
            <a:srcRect l="11387" t="7402" r="8859" b="22236"/>
            <a:stretch/>
          </p:blipFill>
          <p:spPr>
            <a:xfrm>
              <a:off x="1187280" y="0"/>
              <a:ext cx="54100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 txBox="1"/>
            <p:nvPr/>
          </p:nvSpPr>
          <p:spPr>
            <a:xfrm>
              <a:off x="1358640" y="67320"/>
              <a:ext cx="4950360" cy="94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4673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3399ff"/>
                      </a:gs>
                      <a:gs pos="100000">
                        <a:srgbClr val="006699"/>
                      </a:gs>
                    </a:gsLst>
                    <a:lin ang="5400000"/>
                  </a:gradFill>
                  <a:latin typeface="Academy Engraved LET"/>
                </a:rPr>
                <a:t>Let's listen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cademy Engraved LET"/>
                <a:ea typeface="Academy Engraved LET"/>
              </a:endParaRPr>
            </a:p>
          </p:txBody>
        </p:sp>
      </p:grpSp>
      <p:graphicFrame>
        <p:nvGraphicFramePr>
          <p:cNvPr id="73" name="ShockwaveFlash1"/>
          <p:cNvGraphicFramePr/>
          <p:nvPr/>
        </p:nvGraphicFramePr>
        <p:xfrm>
          <a:off x="0" y="1197000"/>
          <a:ext cx="9144000" cy="566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97000"/>
                    <a:ext cx="9144000" cy="5661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sten and check(        )the questions you  h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24000" y="765000"/>
            <a:ext cx="6324840" cy="3665160"/>
          </a:xfrm>
          <a:prstGeom prst="rect">
            <a:avLst/>
          </a:prstGeom>
          <a:solidFill>
            <a:srgbClr val="99ccff">
              <a:alpha val="25000"/>
            </a:srgbClr>
          </a:solidFill>
          <a:ln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______ Did you buy that hat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______ What else did you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______ Did you see any sha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______ Did you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in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that 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______ Did you get hi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utograph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______ Were there any se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______ Did you take any phot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52080" t="2990" r="0" b="0"/>
          <a:stretch/>
        </p:blipFill>
        <p:spPr>
          <a:xfrm>
            <a:off x="755640" y="4781520"/>
            <a:ext cx="2736720" cy="2076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rcRect l="0" t="0" r="52343" b="0"/>
          <a:stretch/>
        </p:blipFill>
        <p:spPr>
          <a:xfrm>
            <a:off x="5867280" y="4802040"/>
            <a:ext cx="2592360" cy="205596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3276720" y="0"/>
            <a:ext cx="761040" cy="609120"/>
            <a:chOff x="3276720" y="0"/>
            <a:chExt cx="761040" cy="609120"/>
          </a:xfrm>
        </p:grpSpPr>
        <p:sp>
          <p:nvSpPr>
            <p:cNvPr id="80" name=""/>
            <p:cNvSpPr/>
            <p:nvPr/>
          </p:nvSpPr>
          <p:spPr>
            <a:xfrm>
              <a:off x="3276720" y="304560"/>
              <a:ext cx="151560" cy="3045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3428280" y="0"/>
              <a:ext cx="609480" cy="609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627280" y="1196640"/>
            <a:ext cx="533160" cy="380520"/>
            <a:chOff x="2627280" y="1196640"/>
            <a:chExt cx="533160" cy="380520"/>
          </a:xfrm>
        </p:grpSpPr>
        <p:sp>
          <p:nvSpPr>
            <p:cNvPr id="83" name=""/>
            <p:cNvSpPr/>
            <p:nvPr/>
          </p:nvSpPr>
          <p:spPr>
            <a:xfrm>
              <a:off x="2627280" y="1387080"/>
              <a:ext cx="106200" cy="190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733480" y="1196640"/>
              <a:ext cx="426960" cy="38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627280" y="2276280"/>
            <a:ext cx="533160" cy="380520"/>
            <a:chOff x="2627280" y="2276280"/>
            <a:chExt cx="533160" cy="380520"/>
          </a:xfrm>
        </p:grpSpPr>
        <p:sp>
          <p:nvSpPr>
            <p:cNvPr id="86" name=""/>
            <p:cNvSpPr/>
            <p:nvPr/>
          </p:nvSpPr>
          <p:spPr>
            <a:xfrm>
              <a:off x="2627280" y="2466720"/>
              <a:ext cx="106200" cy="190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733480" y="2276280"/>
              <a:ext cx="426960" cy="3805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556000" y="2852640"/>
            <a:ext cx="532800" cy="380880"/>
            <a:chOff x="2556000" y="2852640"/>
            <a:chExt cx="532800" cy="380880"/>
          </a:xfrm>
        </p:grpSpPr>
        <p:sp>
          <p:nvSpPr>
            <p:cNvPr id="89" name=""/>
            <p:cNvSpPr/>
            <p:nvPr/>
          </p:nvSpPr>
          <p:spPr>
            <a:xfrm>
              <a:off x="2556000" y="3043080"/>
              <a:ext cx="106200" cy="190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662200" y="2852640"/>
              <a:ext cx="426600" cy="380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 flipH="1">
            <a:off x="179280" y="549360"/>
            <a:ext cx="194328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15920"/>
            <a:ext cx="1325520" cy="806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32000" y="101520"/>
            <a:ext cx="78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sten again and circle “T” (true) or “F ” (fals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413000"/>
            <a:ext cx="8062920" cy="47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5000"/>
              </a:lnSpc>
              <a:spcBef>
                <a:spcPts val="200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ina met a famous actor.                 T    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. Tina got Jake Dean’s auto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   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. Toby won a prize.                              T   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4. Tina won a ha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   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5. There were many actors at the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quarium.                                           T    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32720" y="1341360"/>
            <a:ext cx="722160" cy="446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24720" y="2565360"/>
            <a:ext cx="722520" cy="446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32720" y="3213000"/>
            <a:ext cx="722160" cy="446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51640" y="4437000"/>
            <a:ext cx="722520" cy="446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96360" y="5661000"/>
            <a:ext cx="722160" cy="446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26370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ina took Jake Dean’s pho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4437000"/>
            <a:ext cx="439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ina bought a 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00360" y="5734080"/>
            <a:ext cx="46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he only saw J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567640" y="4797360"/>
            <a:ext cx="576360" cy="240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1371600" cy="762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191120" y="2057400"/>
            <a:ext cx="1295280" cy="777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781680" y="205740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523880" y="3657600"/>
            <a:ext cx="1371600" cy="701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191120" y="3581280"/>
            <a:ext cx="1371600" cy="701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781680" y="3581280"/>
            <a:ext cx="1219320" cy="685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1447920" y="5181480"/>
            <a:ext cx="1447560" cy="701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4267080" y="5181480"/>
            <a:ext cx="1295640" cy="70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6858000" y="5105520"/>
            <a:ext cx="1219320" cy="761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800" y="981000"/>
            <a:ext cx="491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id you  _______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hat did you do on you school tri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0"/>
            <a:ext cx="297504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Guessing Game</a:t>
            </a:r>
            <a:endParaRPr b="0" lang="en-US" sz="3200" spc="1" strike="noStrike">
              <a:ln w="12600">
                <a:solidFill>
                  <a:srgbClr val="ff66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8"/>
          <a:stretch/>
        </p:blipFill>
        <p:spPr>
          <a:xfrm>
            <a:off x="179280" y="4457880"/>
            <a:ext cx="576360" cy="2400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07:45:51Z</dcterms:created>
  <dc:creator>MC SYSTEM</dc:creator>
  <dc:description/>
  <dc:language>en-US</dc:language>
  <cp:lastModifiedBy>MC SYSTEM</cp:lastModifiedBy>
  <dcterms:modified xsi:type="dcterms:W3CDTF">2005-11-22T07:56:39Z</dcterms:modified>
  <cp:revision>28</cp:revision>
  <dc:subject/>
  <dc:title>幻灯片 1</dc:title>
</cp:coreProperties>
</file>