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DB7-2A63-48EE-9964-4E7EEDC1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890-6569-4642-A0FB-9307AF12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115-2EBB-4A06-9B3E-9A0EAA6A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E0A-AC89-4C84-942E-C5C36E08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462-0838-4418-BA86-896C215E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E04-AD9A-4068-AC52-616F69B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ADB-565D-4168-B5B1-A2577D15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9DC-89CE-4F3A-8DED-0BAEDE8D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8CE-46F9-4A47-B041-4A9038FC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014-F199-4F38-9844-68072860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6FF-F527-4B92-8E36-DBE4755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273-F3EB-41E6-B94B-8E6A9FDD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27C2-28B3-4519-8800-D49F4006149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198108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ve been thinking for a long time about what we do in our lif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從很久以前就想著在我這一身我要做些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1617840" cy="171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886200" y="2590920"/>
            <a:ext cx="2133720" cy="123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733920" y="449568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17520" y="345960"/>
            <a:ext cx="20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ak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36880" y="422280"/>
            <a:ext cx="21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 to 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y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7960" y="251460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list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rounding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90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ave mo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pend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my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8920" y="4765680"/>
            <a:ext cx="13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495680"/>
            <a:ext cx="29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raoke I'll never 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ing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事情簡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6765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打開我的心去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733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聽更多關於我身邊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更多時間和我的朋友同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旅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788840" cy="763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1633680" cy="175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1752480" cy="1346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500480" cy="17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4200" y="3459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sea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33760" y="49860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make my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ook tasty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70520" y="25560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j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frien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m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1280" y="3013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t love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7520" y="4613400"/>
            <a:ext cx="25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be happ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n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my friend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6800" y="5029200"/>
            <a:ext cx="178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676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時間在海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去做最好吃的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溶入溫暖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一點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高興獲得朋友的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起達到共同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724280" y="23623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5029200" y="4114800"/>
            <a:ext cx="2057400" cy="1574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43560" y="304920"/>
            <a:ext cx="22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can’t be s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orths tr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286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ll, 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want, but I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ice guy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680" y="259092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co-ope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ea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nasty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94800" y="2479680"/>
            <a:ext cx="18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glass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8840" y="457200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I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won’t stop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2760" y="56386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my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能確定但這值得一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說你想要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是個好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4876920" cy="394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876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do not know whether it is good for everybody,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’m sure that at least I will have had a wonderful time… which by the way is what counts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133720"/>
            <a:ext cx="2210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知道是不是對每個人都是好的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至少我將有美好的時光照我的方式來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認為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1400040" cy="27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3280" y="66600"/>
            <a:ext cx="50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tart by being taught in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become good citiz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8600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pend a great part of 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ildhood study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5160" y="4572000"/>
            <a:ext cx="70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finally we get the diploma that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sure us “the position we deserv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066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在學校開始被教育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要成為一個好的國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276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花了很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童年的時光在學習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我們獲得了一張文憑來確保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00800" y="34596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articipate to the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28954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il we find a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3880" y="4613400"/>
            <a:ext cx="41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ough hard tests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pted in the world of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參與了一場場不被錄用面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505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找到了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通過了艱難的測試獲了一份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1955520" cy="21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48520" y="345960"/>
            <a:ext cx="52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erform a good professional ca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led with activity and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1400" y="2438280"/>
            <a:ext cx="32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t, a lot of effor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75080" y="40798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we fall down exhaust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are great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ur valuable market sha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19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了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我們在工作上有好的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很多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精疲力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95480" y="43434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7848720" y="4191120"/>
            <a:ext cx="709560" cy="139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90360" y="3459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keeps 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, a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8200" y="53352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e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targ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0400" y="2666880"/>
            <a:ext cx="20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weet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our lif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6800" y="251460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ever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17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onate hu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800" y="434340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here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aby into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4280" y="510552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mned ni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n’t close my e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當時間慢慢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1447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改變新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遇見了生命中的另一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且承諾這段永恆的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激情過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家中增加了新的成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少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能合上我的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1569960" cy="15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334120" y="411480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43360" y="34596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keep on adv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0"/>
            <a:ext cx="285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ying to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es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971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re th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ver we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51460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we are fi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3520" y="480060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im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iumph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44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繼續提升社會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523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表現更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無論到那都是受矚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變成有錢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35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是我們需要更多的時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獲得完全的勝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648320" y="4038480"/>
            <a:ext cx="1628640" cy="181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9080" y="270000"/>
            <a:ext cx="32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sh! One day they 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3280" y="121932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is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think ge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az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1760" y="286056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troy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36232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t mean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99120" y="480060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t off from ever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7000" y="4267080"/>
            <a:ext cx="189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w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not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lon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ill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s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天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一天公司對你說不再需要你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80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這時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快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感到破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失去和他人溝通的意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79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被所有事擊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603576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時間不再長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你失去了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685800" cy="177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70160" y="345960"/>
            <a:ext cx="25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been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f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3400" y="9144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searc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lly tar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1640" y="24382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13560" y="240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ing to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ene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0040" y="4343400"/>
            <a:ext cx="20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a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nging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urs to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92640" y="461340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生活在霧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追求可笑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像行屍走肉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想要消滅所有的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渴望時間趕快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你倒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95720" y="205740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on this evaluation, a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me to my mi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how to improve m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03848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上述評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腦中出現新的點子來改善我的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0:52:34Z</dcterms:created>
  <dc:creator>Javier Peña</dc:creator>
  <dc:description/>
  <dc:language>en-US</dc:language>
  <cp:lastModifiedBy>Adigu</cp:lastModifiedBy>
  <cp:lastPrinted>2000-11-23T23:44:47Z</cp:lastPrinted>
  <dcterms:modified xsi:type="dcterms:W3CDTF">2001-02-25T19:35:51Z</dcterms:modified>
  <cp:revision>32</cp:revision>
  <dc:subject/>
  <dc:title>Sin título de diapositiva</dc:title>
</cp:coreProperties>
</file>