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5458-41C7-4FCB-AB0D-96AE5491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FFF2-FFD3-42FE-83F9-B6A2E8BF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0F96-9969-42B0-B0F6-38D8B9B6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1B7-8F7F-4988-A14E-5E108A9E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EA19-D382-4B60-88E4-EDB3130F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3898-7563-494C-8C96-FC22B7C9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7ACF-5BEA-40AA-8DDC-1AEAFFA9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7F2C-D1C6-4AA2-9E39-85F4FEB1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894D-3A72-48AA-9384-7586BD28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F498-F2C9-41E6-BC8C-C211C67F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BD6F-BAEB-443A-89F6-68ED0544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5A22-90DE-4812-BD13-3A0B1C37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218F-64FB-4AF4-8277-3C7A1D9275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ast Participle used as Object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body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ought the battle l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ith my watch l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 didn’t know what time it w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ound two of the windows brok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anted their buildings constru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 way to look unnatu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only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anted traditional materials u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is to B what C is to 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言正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29840" y="3199320"/>
            <a:ext cx="46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to them what fish is to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ertain Sm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ertain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 certain de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certain r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ome r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must be some mis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remember reading about him in some magaz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260280"/>
            <a:ext cx="784692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’d prefer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prefer something that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’d rather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 like is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’m interested in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ould feel happy if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’t stand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don’t get very excited about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4-09-06T15:10:21Z</dcterms:modified>
  <cp:revision>2</cp:revision>
  <dc:subject/>
  <dc:title>PowerPoint Presentation</dc:title>
</cp:coreProperties>
</file>