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515-3D63-47AD-9664-76FCFAE5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1E8-6B7F-43F2-8FFA-FE996A42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A1B-775A-4A69-B571-FA8B033B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DA7-FB20-4D6A-8F81-1E7DA889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8B8-97C9-4385-83BC-635CFF67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A60-C319-4AC6-B755-B3158854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D98-6AEB-4671-8299-4E53B3E2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8B1-88A0-4D59-BC4A-B24A4645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2F1-365F-466C-A300-CA39A9D2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77D-5CB9-4929-B4DA-E4651B5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174-23F9-490B-A850-BFB8429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C45-8179-4B46-A0A4-2899BC45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D195-922E-4E0A-8D2C-004C673F38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14720" y="1714680"/>
            <a:ext cx="47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ok at the picture and describe the architecture using your own word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decorat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the modern design and ancient a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by famous archit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angzhou new air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670040"/>
            <a:ext cx="70567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4:59:47Z</dcterms:modified>
  <cp:revision>4</cp:revision>
  <dc:subject/>
  <dc:title>PowerPoint Presentation</dc:title>
</cp:coreProperties>
</file>