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.wmf" ContentType="image/x-wmf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9.wmf" ContentType="image/x-wmf"/>
  <Override PartName="/ppt/media/image34.wmf" ContentType="image/x-wmf"/>
  <Override PartName="/ppt/media/image25.jpeg" ContentType="image/jpeg"/>
  <Override PartName="/ppt/media/image10.wmf" ContentType="image/x-wmf"/>
  <Override PartName="/ppt/media/image27.jpeg" ContentType="image/jpeg"/>
  <Override PartName="/ppt/media/image6.jpeg" ContentType="image/jpeg"/>
  <Override PartName="/ppt/media/image4.jpeg" ContentType="image/jpeg"/>
  <Override PartName="/ppt/media/image8.wmf" ContentType="image/x-wmf"/>
  <Override PartName="/ppt/media/image12.jpeg" ContentType="image/jpeg"/>
  <Override PartName="/ppt/media/image29.wmf" ContentType="image/x-wmf"/>
  <Override PartName="/ppt/media/image30.png" ContentType="image/png"/>
  <Override PartName="/ppt/media/image11.jpeg" ContentType="image/jpeg"/>
  <Override PartName="/ppt/media/image36.wmf" ContentType="image/x-wmf"/>
  <Override PartName="/ppt/media/image5.jpeg" ContentType="image/jpeg"/>
  <Override PartName="/ppt/media/image26.jpeg" ContentType="image/jpeg"/>
  <Override PartName="/ppt/media/image13.jpeg" ContentType="image/jpeg"/>
  <Override PartName="/ppt/media/image33.wmf" ContentType="image/x-wmf"/>
  <Override PartName="/ppt/media/image3.wmf" ContentType="image/x-wmf"/>
  <Override PartName="/ppt/media/image15.jpeg" ContentType="image/jpeg"/>
  <Override PartName="/ppt/media/whoosh.wav" ContentType="audio/x-wav"/>
  <Override PartName="/ppt/media/image23.wmf" ContentType="image/x-wmf"/>
  <Override PartName="/ppt/media/image28.jpeg" ContentType="image/jpeg"/>
  <Override PartName="/ppt/media/image31.wmf" ContentType="image/x-wmf"/>
  <Override PartName="/ppt/media/image7.jpeg" ContentType="image/jpeg"/>
  <Override PartName="/ppt/media/image1.wmf" ContentType="image/x-wmf"/>
  <Override PartName="/ppt/media/image24.wmf" ContentType="image/x-wmf"/>
  <Override PartName="/ppt/media/image14.jpeg" ContentType="image/jpeg"/>
  <Override PartName="/ppt/media/image16.jpeg" ContentType="image/jpeg"/>
  <Override PartName="/ppt/media/image3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BC56-7526-4584-A744-31B642263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5067-BF79-4242-81B3-1AF6572B9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05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9077-455F-4021-B559-370BB1DF1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59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84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59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84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3E2E-E8C0-408E-8A3B-325CCCAF5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1AE39-EE5E-4B22-8967-F2AE2B5EE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2F647-BC41-4D7A-97E0-448FADE0A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62F0C-8B88-402D-A25A-8B2B05F4A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E9C35-6C3C-4676-ADAE-50F3D3352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E781E-E6FB-4070-9737-D3FE0D5C4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CBAA7-0913-4BA1-9E7B-E964F29B8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8BE2A-F1F5-4C48-924B-51591EC6E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E6FA-F6CF-4A79-B632-2E618BF92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7505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F37AA-CFA0-41B1-9C29-A2ED9ABC9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185B6-354D-460E-9839-90F9EFB40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335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1D46D-0407-4660-826B-EC39C7801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7505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184C3-DEEF-482E-A533-3DE6C0902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159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984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335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159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984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ED507-7335-4D66-9EA3-EAE3179AC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9E26C-2E2B-4092-9C36-BD8D3A780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39A2A-2710-462F-BFB4-7B7CBCC3E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670A7-EBD9-40B3-883C-E23360F2C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AE3C1-0E0E-43A8-9822-3B179D3B6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D80CD-C4B6-47D4-A19B-D01C1E1B7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2C45-D233-4446-A85D-C948EB422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50B17-BD8E-4619-904E-BAAB4A7B0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F7900-0DA9-4429-B935-D72FEF3C6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7505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78516-04E9-4012-A61B-1015D878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EAAA4-304B-4C4F-A63F-3F9F63C71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335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A84B2-3660-4E9C-B5FD-3FAEB929F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7505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BF7EC-E53A-4788-9891-C393F3DE9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159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984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5335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159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984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F94D1-8F98-468F-8176-015525B13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8632-89AA-4691-9E1E-DD2014007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0CBE-2F11-4945-A079-B8A7057B5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90E0-9CE2-4F13-8691-D4F8DCB67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2C82-B7F8-4D9B-8EBD-BC8C0990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05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EFA7-C340-4AAE-9EE1-51D7749C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66CD-6133-4443-B8DB-02453F92B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E6A45-4C9A-42C8-9688-2E13C1DED3A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b2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b2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b2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F86C1-3EDA-4B0A-A1A4-AB51CD5BED17}" type="slidenum"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5E879-4443-4B27-844C-6CF483B84906}" type="slidenum"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" Target="slide19.xml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2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2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2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62320" y="1684080"/>
            <a:ext cx="58672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omic Sans MS"/>
                <a:ea typeface="宋体"/>
              </a:rPr>
              <a:t>Unit 3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  <a:ea typeface="宋体"/>
              </a:rPr>
              <a:t>   </a:t>
            </a:r>
            <a:r>
              <a:rPr b="1" lang="en-US" sz="4400" spc="-1" strike="noStrike">
                <a:solidFill>
                  <a:srgbClr val="333399"/>
                </a:solidFill>
                <a:latin typeface="Comic Sans MS"/>
                <a:ea typeface="宋体"/>
              </a:rPr>
              <a:t>Travel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3276360" y="3352680"/>
            <a:ext cx="43434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  <a:ea typeface="宋体"/>
              </a:rPr>
              <a:t>Welcome everybod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71400" y="309240"/>
            <a:ext cx="687096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  <a:ea typeface="宋体"/>
              </a:rPr>
              <a:t>Tip on travel: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  <a:ea typeface="宋体"/>
              </a:rPr>
              <a:t>obey rule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617640" y="5025600"/>
            <a:ext cx="470700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e is throwing rubbish on the groun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098720" y="1811160"/>
          <a:ext cx="3395520" cy="231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8720" y="1811160"/>
                    <a:ext cx="3395520" cy="23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4726080" y="1698480"/>
            <a:ext cx="3400200" cy="2536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  <a:ea typeface="宋体"/>
              </a:rPr>
              <a:t>Tip on travel: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  <a:ea typeface="宋体"/>
              </a:rPr>
              <a:t>obey rule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674440" y="5011200"/>
            <a:ext cx="470700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he man is smoking where he shouldn’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039680" y="1873080"/>
            <a:ext cx="2916360" cy="21877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371840" y="1785960"/>
            <a:ext cx="2897280" cy="238752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  <a:ea typeface="宋体"/>
              </a:rPr>
              <a:t>Tip on travel: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  <a:ea typeface="宋体"/>
              </a:rPr>
              <a:t>obey rule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225600" y="4997520"/>
            <a:ext cx="422748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he car is parked at the wrong pla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068480" y="1944720"/>
            <a:ext cx="2973240" cy="22305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4525920" y="1989000"/>
            <a:ext cx="2844720" cy="212904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  <a:ea typeface="宋体"/>
              </a:rPr>
              <a:t>Means of transportation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36" name=""/>
          <p:cNvSpPr/>
          <p:nvPr/>
        </p:nvSpPr>
        <p:spPr>
          <a:xfrm>
            <a:off x="1019160" y="1957320"/>
            <a:ext cx="7456680" cy="13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What do you have to consider before you decide which means of transportation you will u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965240" y="3452760"/>
            <a:ext cx="3322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ist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o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mfort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5475240" y="3357720"/>
            <a:ext cx="2693880" cy="263016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  <a:ea typeface="宋体"/>
              </a:rPr>
              <a:t>Means of transportation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40" name=""/>
          <p:cNvSpPr/>
          <p:nvPr/>
        </p:nvSpPr>
        <p:spPr>
          <a:xfrm>
            <a:off x="1019160" y="1957320"/>
            <a:ext cx="7456680" cy="13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What means of transportation have we got when we trave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w would you like to g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68280" y="3568680"/>
            <a:ext cx="6531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From shanghai to Lond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From Jingjing to Wux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From Wuxi to Beij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From Dalian to Qingd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5151600" y="4356000"/>
            <a:ext cx="3233520" cy="1724040"/>
          </a:xfrm>
          <a:prstGeom prst="rect">
            <a:avLst/>
          </a:prstGeom>
          <a:ln w="0">
            <a:noFill/>
          </a:ln>
        </p:spPr>
      </p:pic>
      <p:sp>
        <p:nvSpPr>
          <p:cNvPr id="243" name="">
            <a:hlinkClick r:id="rId2" action="ppaction://hlinksldjump"/>
          </p:cNvPr>
          <p:cNvSpPr/>
          <p:nvPr/>
        </p:nvSpPr>
        <p:spPr>
          <a:xfrm>
            <a:off x="4383000" y="2409840"/>
            <a:ext cx="363600" cy="260280"/>
          </a:xfrm>
          <a:custGeom>
            <a:avLst/>
            <a:gdLst>
              <a:gd name="textAreaLeft" fmla="*/ 16560 w 363600"/>
              <a:gd name="textAreaRight" fmla="*/ 347040 w 36360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30162" h="21600">
                <a:moveTo>
                  <a:pt x="0" y="0"/>
                </a:moveTo>
                <a:lnTo>
                  <a:pt x="30162" y="0"/>
                </a:lnTo>
                <a:lnTo>
                  <a:pt x="30162" y="21600"/>
                </a:lnTo>
                <a:lnTo>
                  <a:pt x="0" y="21600"/>
                </a:lnTo>
                <a:close/>
              </a:path>
              <a:path fill="lightenLess" w="30162" h="21600">
                <a:moveTo>
                  <a:pt x="0" y="0"/>
                </a:moveTo>
                <a:lnTo>
                  <a:pt x="30162" y="0"/>
                </a:lnTo>
                <a:lnTo>
                  <a:pt x="28762" y="1400"/>
                </a:lnTo>
                <a:lnTo>
                  <a:pt x="1400" y="1400"/>
                </a:lnTo>
                <a:close/>
              </a:path>
              <a:path fill="darken" w="30162" h="21600">
                <a:moveTo>
                  <a:pt x="30162" y="0"/>
                </a:moveTo>
                <a:lnTo>
                  <a:pt x="30162" y="21600"/>
                </a:lnTo>
                <a:lnTo>
                  <a:pt x="28762" y="20200"/>
                </a:lnTo>
                <a:lnTo>
                  <a:pt x="28762" y="1400"/>
                </a:lnTo>
                <a:close/>
              </a:path>
              <a:path fill="darkenLess" w="30162" h="21600">
                <a:moveTo>
                  <a:pt x="301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62" y="20200"/>
                </a:lnTo>
                <a:close/>
              </a:path>
              <a:path fill="lighten" w="301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0162" h="21600">
                <a:moveTo>
                  <a:pt x="9554" y="3985"/>
                </a:moveTo>
                <a:lnTo>
                  <a:pt x="16552" y="3985"/>
                </a:lnTo>
                <a:lnTo>
                  <a:pt x="20608" y="7484"/>
                </a:lnTo>
                <a:lnTo>
                  <a:pt x="20608" y="17615"/>
                </a:lnTo>
                <a:lnTo>
                  <a:pt x="9554" y="17615"/>
                </a:lnTo>
                <a:close/>
              </a:path>
              <a:path fill="darken" w="30162" h="21600">
                <a:moveTo>
                  <a:pt x="16552" y="3985"/>
                </a:moveTo>
                <a:lnTo>
                  <a:pt x="20608" y="7484"/>
                </a:lnTo>
                <a:lnTo>
                  <a:pt x="16552" y="7484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  <a:ea typeface="宋体"/>
              </a:rPr>
              <a:t>Tips on travel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60120" y="2381400"/>
            <a:ext cx="4584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bey traffic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bserve public 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oard the right bus, the right train, or the right pl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Get on board in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5845320" y="3979800"/>
            <a:ext cx="1565280" cy="115416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9933"/>
                                </p:to>
                              </p:animClr>
                              <p:animClr clrSpc="rgb">
                                <p:cBhvr>
                                  <p:cTn id="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99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99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220320"/>
            <a:ext cx="687060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omic Sans MS"/>
                <a:ea typeface="宋体"/>
              </a:rPr>
              <a:t>Tip on travel: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  <a:ea typeface="宋体"/>
              </a:rPr>
              <a:t> 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  <a:ea typeface="宋体"/>
              </a:rPr>
              <a:t>be on time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266840" y="3497400"/>
            <a:ext cx="2854440" cy="193968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4417920" y="1278000"/>
            <a:ext cx="2819520" cy="205884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1260360" y="1222200"/>
            <a:ext cx="2870280" cy="213552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4"/>
          <a:stretch/>
        </p:blipFill>
        <p:spPr>
          <a:xfrm>
            <a:off x="4437000" y="3530520"/>
            <a:ext cx="2811600" cy="191304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3003480" y="695160"/>
            <a:ext cx="4340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isten to the announcements and write down the correct flight number, destination and g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642960" y="2233440"/>
          <a:ext cx="7450200" cy="2532240"/>
        </p:xfrm>
        <a:graphic>
          <a:graphicData uri="http://schemas.openxmlformats.org/drawingml/2006/table">
            <a:tbl>
              <a:tblPr/>
              <a:tblGrid>
                <a:gridCol w="1862280"/>
                <a:gridCol w="1863720"/>
                <a:gridCol w="1861920"/>
                <a:gridCol w="1862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Arial"/>
                          <a:ea typeface="宋体"/>
                        </a:rPr>
                        <a:t>Flight numb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Arial"/>
                          <a:ea typeface="宋体"/>
                        </a:rPr>
                        <a:t>Dest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60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Arial"/>
                          <a:ea typeface="宋体"/>
                        </a:rPr>
                        <a:t>G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ae3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ae3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ae3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ae3fe"/>
                    </a:solidFill>
                  </a:tcPr>
                </a:tc>
              </a:tr>
            </a:tbl>
          </a:graphicData>
        </a:graphic>
      </p:graphicFrame>
      <p:sp>
        <p:nvSpPr>
          <p:cNvPr id="254" name=""/>
          <p:cNvSpPr/>
          <p:nvPr/>
        </p:nvSpPr>
        <p:spPr>
          <a:xfrm>
            <a:off x="1793880" y="5373720"/>
            <a:ext cx="6870600" cy="7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  <a:ea typeface="宋体"/>
              </a:rPr>
              <a:t>Listening practice:</a:t>
            </a:r>
            <a:r>
              <a:rPr b="0" lang="en-US" sz="4000" spc="-1" strike="noStrike">
                <a:solidFill>
                  <a:srgbClr val="333399"/>
                </a:solidFill>
                <a:latin typeface="Comic Sans MS"/>
                <a:ea typeface="宋体"/>
              </a:rPr>
              <a:t>  </a:t>
            </a:r>
            <a:r>
              <a:rPr b="0" lang="en-US" sz="3200" spc="-1" strike="noStrike">
                <a:solidFill>
                  <a:srgbClr val="ff3300"/>
                </a:solidFill>
                <a:latin typeface="Comic Sans MS"/>
                <a:ea typeface="宋体"/>
              </a:rPr>
              <a:t>boarding c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781200" y="893880"/>
            <a:ext cx="1963440" cy="5191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4673520" y="2976480"/>
            <a:ext cx="11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UA 4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630680" y="3701880"/>
            <a:ext cx="13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hangs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546440" y="4295880"/>
            <a:ext cx="11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516720" y="2962440"/>
            <a:ext cx="11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E 37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502320" y="3700440"/>
            <a:ext cx="12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ar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518160" y="4311720"/>
            <a:ext cx="9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684520" y="2976480"/>
            <a:ext cx="155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A 11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85960" y="3672000"/>
            <a:ext cx="13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oky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428148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3578400" y="2332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3"/>
          <a:stretch/>
        </p:blipFill>
        <p:spPr>
          <a:xfrm>
            <a:off x="5435640" y="2347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4"/>
          <a:stretch/>
        </p:blipFill>
        <p:spPr>
          <a:xfrm>
            <a:off x="7307280" y="23176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8258040" y="3005280"/>
            <a:ext cx="262080" cy="361800"/>
          </a:xfrm>
          <a:custGeom>
            <a:avLst/>
            <a:gdLst>
              <a:gd name="textAreaLeft" fmla="*/ 16920 w 262080"/>
              <a:gd name="textAreaRight" fmla="*/ 245160 w 262080"/>
              <a:gd name="textAreaTop" fmla="*/ 16920 h 361800"/>
              <a:gd name="textAreaBottom" fmla="*/ 344880 h 361800"/>
            </a:gdLst>
            <a:ahLst/>
            <a:rect l="textAreaLeft" t="textAreaTop" r="textAreaRight" b="textAreaBottom"/>
            <a:pathLst>
              <a:path w="21600" h="29807">
                <a:moveTo>
                  <a:pt x="0" y="0"/>
                </a:moveTo>
                <a:lnTo>
                  <a:pt x="21600" y="0"/>
                </a:lnTo>
                <a:lnTo>
                  <a:pt x="21600" y="29807"/>
                </a:lnTo>
                <a:lnTo>
                  <a:pt x="0" y="29807"/>
                </a:lnTo>
                <a:close/>
              </a:path>
              <a:path fill="lightenLess" w="21600" h="298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807">
                <a:moveTo>
                  <a:pt x="21600" y="0"/>
                </a:moveTo>
                <a:lnTo>
                  <a:pt x="21600" y="29807"/>
                </a:lnTo>
                <a:lnTo>
                  <a:pt x="20200" y="28407"/>
                </a:lnTo>
                <a:lnTo>
                  <a:pt x="20200" y="1400"/>
                </a:lnTo>
                <a:close/>
              </a:path>
              <a:path fill="darkenLess" w="21600" h="29807">
                <a:moveTo>
                  <a:pt x="21600" y="29807"/>
                </a:moveTo>
                <a:lnTo>
                  <a:pt x="0" y="29807"/>
                </a:lnTo>
                <a:lnTo>
                  <a:pt x="1400" y="28407"/>
                </a:lnTo>
                <a:lnTo>
                  <a:pt x="20200" y="28407"/>
                </a:lnTo>
                <a:close/>
              </a:path>
              <a:path fill="lighten" w="21600" h="29807">
                <a:moveTo>
                  <a:pt x="0" y="298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407"/>
                </a:lnTo>
                <a:close/>
              </a:path>
              <a:path fill="darkenLess" w="21600" h="29807">
                <a:moveTo>
                  <a:pt x="5273" y="8089"/>
                </a:moveTo>
                <a:lnTo>
                  <a:pt x="12271" y="8089"/>
                </a:lnTo>
                <a:lnTo>
                  <a:pt x="16327" y="11588"/>
                </a:lnTo>
                <a:lnTo>
                  <a:pt x="16327" y="21719"/>
                </a:lnTo>
                <a:lnTo>
                  <a:pt x="5273" y="21719"/>
                </a:lnTo>
                <a:close/>
              </a:path>
              <a:path fill="darken" w="21600" h="29807">
                <a:moveTo>
                  <a:pt x="12271" y="8089"/>
                </a:moveTo>
                <a:lnTo>
                  <a:pt x="16327" y="11588"/>
                </a:lnTo>
                <a:lnTo>
                  <a:pt x="12271" y="11588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272440" y="3716280"/>
            <a:ext cx="247680" cy="333360"/>
          </a:xfrm>
          <a:custGeom>
            <a:avLst/>
            <a:gdLst>
              <a:gd name="textAreaLeft" fmla="*/ 15840 w 247680"/>
              <a:gd name="textAreaRight" fmla="*/ 231840 w 247680"/>
              <a:gd name="textAreaTop" fmla="*/ 15840 h 333360"/>
              <a:gd name="textAreaBottom" fmla="*/ 317520 h 333360"/>
            </a:gdLst>
            <a:ahLst/>
            <a:rect l="textAreaLeft" t="textAreaTop" r="textAreaRight" b="textAreaBottom"/>
            <a:pathLst>
              <a:path w="21600" h="29061">
                <a:moveTo>
                  <a:pt x="0" y="0"/>
                </a:moveTo>
                <a:lnTo>
                  <a:pt x="21600" y="0"/>
                </a:lnTo>
                <a:lnTo>
                  <a:pt x="21600" y="29061"/>
                </a:lnTo>
                <a:lnTo>
                  <a:pt x="0" y="29061"/>
                </a:lnTo>
                <a:close/>
              </a:path>
              <a:path fill="lightenLess" w="21600" h="290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061">
                <a:moveTo>
                  <a:pt x="21600" y="0"/>
                </a:moveTo>
                <a:lnTo>
                  <a:pt x="21600" y="29061"/>
                </a:lnTo>
                <a:lnTo>
                  <a:pt x="20200" y="27661"/>
                </a:lnTo>
                <a:lnTo>
                  <a:pt x="20200" y="1400"/>
                </a:lnTo>
                <a:close/>
              </a:path>
              <a:path fill="darkenLess" w="21600" h="29061">
                <a:moveTo>
                  <a:pt x="21600" y="29061"/>
                </a:moveTo>
                <a:lnTo>
                  <a:pt x="0" y="29061"/>
                </a:lnTo>
                <a:lnTo>
                  <a:pt x="1400" y="27661"/>
                </a:lnTo>
                <a:lnTo>
                  <a:pt x="20200" y="27661"/>
                </a:lnTo>
                <a:close/>
              </a:path>
              <a:path fill="lighten" w="21600" h="29061">
                <a:moveTo>
                  <a:pt x="0" y="290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7661"/>
                </a:lnTo>
                <a:close/>
              </a:path>
              <a:path fill="darkenLess" w="21600" h="29061">
                <a:moveTo>
                  <a:pt x="5273" y="7716"/>
                </a:moveTo>
                <a:lnTo>
                  <a:pt x="12271" y="7716"/>
                </a:lnTo>
                <a:lnTo>
                  <a:pt x="16327" y="11215"/>
                </a:lnTo>
                <a:lnTo>
                  <a:pt x="16327" y="21346"/>
                </a:lnTo>
                <a:lnTo>
                  <a:pt x="5273" y="21346"/>
                </a:lnTo>
                <a:close/>
              </a:path>
              <a:path fill="darken" w="21600" h="29061">
                <a:moveTo>
                  <a:pt x="12271" y="7716"/>
                </a:moveTo>
                <a:lnTo>
                  <a:pt x="16327" y="11215"/>
                </a:lnTo>
                <a:lnTo>
                  <a:pt x="12271" y="11215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285040" y="4295880"/>
            <a:ext cx="247680" cy="333360"/>
          </a:xfrm>
          <a:custGeom>
            <a:avLst/>
            <a:gdLst>
              <a:gd name="textAreaLeft" fmla="*/ 15840 w 247680"/>
              <a:gd name="textAreaRight" fmla="*/ 231840 w 247680"/>
              <a:gd name="textAreaTop" fmla="*/ 15840 h 333360"/>
              <a:gd name="textAreaBottom" fmla="*/ 317520 h 333360"/>
            </a:gdLst>
            <a:ahLst/>
            <a:rect l="textAreaLeft" t="textAreaTop" r="textAreaRight" b="textAreaBottom"/>
            <a:pathLst>
              <a:path w="21600" h="29061">
                <a:moveTo>
                  <a:pt x="0" y="0"/>
                </a:moveTo>
                <a:lnTo>
                  <a:pt x="21600" y="0"/>
                </a:lnTo>
                <a:lnTo>
                  <a:pt x="21600" y="29061"/>
                </a:lnTo>
                <a:lnTo>
                  <a:pt x="0" y="29061"/>
                </a:lnTo>
                <a:close/>
              </a:path>
              <a:path fill="lightenLess" w="21600" h="290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061">
                <a:moveTo>
                  <a:pt x="21600" y="0"/>
                </a:moveTo>
                <a:lnTo>
                  <a:pt x="21600" y="29061"/>
                </a:lnTo>
                <a:lnTo>
                  <a:pt x="20200" y="27661"/>
                </a:lnTo>
                <a:lnTo>
                  <a:pt x="20200" y="1400"/>
                </a:lnTo>
                <a:close/>
              </a:path>
              <a:path fill="darkenLess" w="21600" h="29061">
                <a:moveTo>
                  <a:pt x="21600" y="29061"/>
                </a:moveTo>
                <a:lnTo>
                  <a:pt x="0" y="29061"/>
                </a:lnTo>
                <a:lnTo>
                  <a:pt x="1400" y="27661"/>
                </a:lnTo>
                <a:lnTo>
                  <a:pt x="20200" y="27661"/>
                </a:lnTo>
                <a:close/>
              </a:path>
              <a:path fill="lighten" w="21600" h="29061">
                <a:moveTo>
                  <a:pt x="0" y="290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7661"/>
                </a:lnTo>
                <a:close/>
              </a:path>
              <a:path fill="darkenLess" w="21600" h="29061">
                <a:moveTo>
                  <a:pt x="5273" y="7716"/>
                </a:moveTo>
                <a:lnTo>
                  <a:pt x="12271" y="7716"/>
                </a:lnTo>
                <a:lnTo>
                  <a:pt x="16327" y="11215"/>
                </a:lnTo>
                <a:lnTo>
                  <a:pt x="16327" y="21346"/>
                </a:lnTo>
                <a:lnTo>
                  <a:pt x="5273" y="21346"/>
                </a:lnTo>
                <a:close/>
              </a:path>
              <a:path fill="darken" w="21600" h="29061">
                <a:moveTo>
                  <a:pt x="12271" y="7716"/>
                </a:moveTo>
                <a:lnTo>
                  <a:pt x="16327" y="11215"/>
                </a:lnTo>
                <a:lnTo>
                  <a:pt x="12271" y="11215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" restart="whenNotActive" nodeType="interactiveSeq" fill="hold">
                <p:stCondLst>
                  <p:cond evt="onClick">
                    <p:tgtEl>
                      <p:spTgt spid="265"/>
                    </p:tgtEl>
                  </p:cond>
                </p:stCondLst>
                <p:childTnLst>
                  <p:par>
                    <p:cTn id="194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7" dur="18588" fill="hold"/>
                                        <p:tgtEl>
                                          <p:spTgt spid="2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199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2" dur="22429" fill="hold"/>
                                        <p:tgtEl>
                                          <p:spTgt spid="2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204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7" dur="20982" fill="hold"/>
                                        <p:tgtEl>
                                          <p:spTgt spid="2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003480" y="695160"/>
            <a:ext cx="434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isten to the five world travellers and try to guess where they 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78040" y="5694480"/>
            <a:ext cx="6870600" cy="7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  <a:ea typeface="宋体"/>
              </a:rPr>
              <a:t>Listening practice:</a:t>
            </a:r>
            <a:r>
              <a:rPr b="0" lang="en-US" sz="4000" spc="-1" strike="noStrike">
                <a:solidFill>
                  <a:srgbClr val="333399"/>
                </a:solidFill>
                <a:latin typeface="Comic Sans MS"/>
                <a:ea typeface="宋体"/>
              </a:rPr>
              <a:t>  </a:t>
            </a:r>
            <a:r>
              <a:rPr b="0" lang="en-US" sz="3200" spc="-1" strike="noStrike">
                <a:solidFill>
                  <a:srgbClr val="ff3300"/>
                </a:solidFill>
                <a:latin typeface="Comic Sans MS"/>
                <a:ea typeface="宋体"/>
              </a:rPr>
              <a:t>spoken postc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757080" y="1763640"/>
          <a:ext cx="7577280" cy="3657600"/>
        </p:xfrm>
        <a:graphic>
          <a:graphicData uri="http://schemas.openxmlformats.org/drawingml/2006/table">
            <a:tbl>
              <a:tblPr/>
              <a:tblGrid>
                <a:gridCol w="549360"/>
                <a:gridCol w="1800360"/>
                <a:gridCol w="3333600"/>
                <a:gridCol w="1893960"/>
              </a:tblGrid>
              <a:tr h="609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Wha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H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c9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7f9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c9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7e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7e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7e7f9"/>
                    </a:solidFill>
                  </a:tcPr>
                </a:tc>
              </a:tr>
            </a:tbl>
          </a:graphicData>
        </a:graphic>
      </p:graphicFrame>
      <p:sp>
        <p:nvSpPr>
          <p:cNvPr id="274" name=""/>
          <p:cNvSpPr/>
          <p:nvPr/>
        </p:nvSpPr>
        <p:spPr>
          <a:xfrm>
            <a:off x="1335240" y="2511360"/>
            <a:ext cx="104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eij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349280" y="3105000"/>
            <a:ext cx="98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a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308240" y="431172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260360" y="4905360"/>
            <a:ext cx="171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Under the s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075120" y="2397240"/>
            <a:ext cx="34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orbidden City; Great Wall; Tian’anmen 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119400" y="2989440"/>
            <a:ext cx="27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iffel Tower; Museum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aw “Mona Lis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105000" y="4368960"/>
            <a:ext cx="33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ooked at the earth; jum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119400" y="4933800"/>
            <a:ext cx="358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ooked at f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873520" y="5630760"/>
            <a:ext cx="12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589800" y="25099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630840" y="3090960"/>
            <a:ext cx="13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us and l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602400" y="4324320"/>
            <a:ext cx="165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pace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575400" y="4921200"/>
            <a:ext cx="15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y swim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76200" y="374328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outh P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17960" y="3614760"/>
            <a:ext cx="346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alked in the snow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aw anim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589800" y="373068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lane, on fo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819000" y="255600"/>
            <a:ext cx="1698840" cy="144144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1008000" y="24940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3"/>
          <a:stretch/>
        </p:blipFill>
        <p:spPr>
          <a:xfrm>
            <a:off x="1008000" y="30733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4"/>
          <a:stretch/>
        </p:blipFill>
        <p:spPr>
          <a:xfrm>
            <a:off x="1008000" y="36831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5"/>
          <a:stretch/>
        </p:blipFill>
        <p:spPr>
          <a:xfrm>
            <a:off x="1022400" y="4308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6"/>
          <a:stretch/>
        </p:blipFill>
        <p:spPr>
          <a:xfrm>
            <a:off x="1022400" y="49165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8447040" y="2568600"/>
            <a:ext cx="203400" cy="276120"/>
          </a:xfrm>
          <a:custGeom>
            <a:avLst/>
            <a:gdLst>
              <a:gd name="textAreaLeft" fmla="*/ 12960 w 203400"/>
              <a:gd name="textAreaRight" fmla="*/ 190440 w 203400"/>
              <a:gd name="textAreaTop" fmla="*/ 12960 h 276120"/>
              <a:gd name="textAreaBottom" fmla="*/ 263160 h 276120"/>
            </a:gdLst>
            <a:ahLst/>
            <a:rect l="textAreaLeft" t="textAreaTop" r="textAreaRight" b="textAreaBottom"/>
            <a:pathLst>
              <a:path w="21600" h="29309">
                <a:moveTo>
                  <a:pt x="0" y="0"/>
                </a:moveTo>
                <a:lnTo>
                  <a:pt x="21600" y="0"/>
                </a:lnTo>
                <a:lnTo>
                  <a:pt x="21600" y="29309"/>
                </a:lnTo>
                <a:lnTo>
                  <a:pt x="0" y="29309"/>
                </a:lnTo>
                <a:close/>
              </a:path>
              <a:path fill="lightenLess" w="21600" h="293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309">
                <a:moveTo>
                  <a:pt x="21600" y="0"/>
                </a:moveTo>
                <a:lnTo>
                  <a:pt x="21600" y="29309"/>
                </a:lnTo>
                <a:lnTo>
                  <a:pt x="20200" y="27909"/>
                </a:lnTo>
                <a:lnTo>
                  <a:pt x="20200" y="1400"/>
                </a:lnTo>
                <a:close/>
              </a:path>
              <a:path fill="darkenLess" w="21600" h="29309">
                <a:moveTo>
                  <a:pt x="21600" y="29309"/>
                </a:moveTo>
                <a:lnTo>
                  <a:pt x="0" y="29309"/>
                </a:lnTo>
                <a:lnTo>
                  <a:pt x="1400" y="27909"/>
                </a:lnTo>
                <a:lnTo>
                  <a:pt x="20200" y="27909"/>
                </a:lnTo>
                <a:close/>
              </a:path>
              <a:path fill="lighten" w="21600" h="29309">
                <a:moveTo>
                  <a:pt x="0" y="293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909"/>
                </a:lnTo>
                <a:close/>
              </a:path>
              <a:path fill="darkenLess" w="21600" h="29309">
                <a:moveTo>
                  <a:pt x="5273" y="7839"/>
                </a:moveTo>
                <a:lnTo>
                  <a:pt x="12271" y="7839"/>
                </a:lnTo>
                <a:lnTo>
                  <a:pt x="16327" y="11338"/>
                </a:lnTo>
                <a:lnTo>
                  <a:pt x="16327" y="21469"/>
                </a:lnTo>
                <a:lnTo>
                  <a:pt x="5273" y="21469"/>
                </a:lnTo>
                <a:close/>
              </a:path>
              <a:path fill="darken" w="21600" h="29309">
                <a:moveTo>
                  <a:pt x="12271" y="7839"/>
                </a:moveTo>
                <a:lnTo>
                  <a:pt x="16327" y="11338"/>
                </a:lnTo>
                <a:lnTo>
                  <a:pt x="12271" y="11338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448840" y="3098880"/>
            <a:ext cx="203040" cy="27612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76120"/>
              <a:gd name="textAreaBottom" fmla="*/ 263160 h 276120"/>
            </a:gdLst>
            <a:ahLst/>
            <a:rect l="textAreaLeft" t="textAreaTop" r="textAreaRight" b="textAreaBottom"/>
            <a:pathLst>
              <a:path w="21600" h="29361">
                <a:moveTo>
                  <a:pt x="0" y="0"/>
                </a:moveTo>
                <a:lnTo>
                  <a:pt x="21600" y="0"/>
                </a:lnTo>
                <a:lnTo>
                  <a:pt x="21600" y="29361"/>
                </a:lnTo>
                <a:lnTo>
                  <a:pt x="0" y="29361"/>
                </a:lnTo>
                <a:close/>
              </a:path>
              <a:path fill="lightenLess" w="21600" h="293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361">
                <a:moveTo>
                  <a:pt x="21600" y="0"/>
                </a:moveTo>
                <a:lnTo>
                  <a:pt x="21600" y="29361"/>
                </a:lnTo>
                <a:lnTo>
                  <a:pt x="20200" y="27961"/>
                </a:lnTo>
                <a:lnTo>
                  <a:pt x="20200" y="1400"/>
                </a:lnTo>
                <a:close/>
              </a:path>
              <a:path fill="darkenLess" w="21600" h="29361">
                <a:moveTo>
                  <a:pt x="21600" y="29361"/>
                </a:moveTo>
                <a:lnTo>
                  <a:pt x="0" y="29361"/>
                </a:lnTo>
                <a:lnTo>
                  <a:pt x="1400" y="27961"/>
                </a:lnTo>
                <a:lnTo>
                  <a:pt x="20200" y="27961"/>
                </a:lnTo>
                <a:close/>
              </a:path>
              <a:path fill="lighten" w="21600" h="29361">
                <a:moveTo>
                  <a:pt x="0" y="293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7961"/>
                </a:lnTo>
                <a:close/>
              </a:path>
              <a:path fill="darkenLess" w="21600" h="29361">
                <a:moveTo>
                  <a:pt x="5273" y="7865"/>
                </a:moveTo>
                <a:lnTo>
                  <a:pt x="12271" y="7865"/>
                </a:lnTo>
                <a:lnTo>
                  <a:pt x="16327" y="11364"/>
                </a:lnTo>
                <a:lnTo>
                  <a:pt x="16327" y="21495"/>
                </a:lnTo>
                <a:lnTo>
                  <a:pt x="5273" y="21495"/>
                </a:lnTo>
                <a:close/>
              </a:path>
              <a:path fill="darken" w="21600" h="29361">
                <a:moveTo>
                  <a:pt x="12271" y="7865"/>
                </a:moveTo>
                <a:lnTo>
                  <a:pt x="16327" y="11364"/>
                </a:lnTo>
                <a:lnTo>
                  <a:pt x="12271" y="11364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448840" y="3727440"/>
            <a:ext cx="203040" cy="27612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76120"/>
              <a:gd name="textAreaBottom" fmla="*/ 263160 h 276120"/>
            </a:gdLst>
            <a:ahLst/>
            <a:rect l="textAreaLeft" t="textAreaTop" r="textAreaRight" b="textAreaBottom"/>
            <a:pathLst>
              <a:path w="21600" h="29361">
                <a:moveTo>
                  <a:pt x="0" y="0"/>
                </a:moveTo>
                <a:lnTo>
                  <a:pt x="21600" y="0"/>
                </a:lnTo>
                <a:lnTo>
                  <a:pt x="21600" y="29361"/>
                </a:lnTo>
                <a:lnTo>
                  <a:pt x="0" y="29361"/>
                </a:lnTo>
                <a:close/>
              </a:path>
              <a:path fill="lightenLess" w="21600" h="293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361">
                <a:moveTo>
                  <a:pt x="21600" y="0"/>
                </a:moveTo>
                <a:lnTo>
                  <a:pt x="21600" y="29361"/>
                </a:lnTo>
                <a:lnTo>
                  <a:pt x="20200" y="27961"/>
                </a:lnTo>
                <a:lnTo>
                  <a:pt x="20200" y="1400"/>
                </a:lnTo>
                <a:close/>
              </a:path>
              <a:path fill="darkenLess" w="21600" h="29361">
                <a:moveTo>
                  <a:pt x="21600" y="29361"/>
                </a:moveTo>
                <a:lnTo>
                  <a:pt x="0" y="29361"/>
                </a:lnTo>
                <a:lnTo>
                  <a:pt x="1400" y="27961"/>
                </a:lnTo>
                <a:lnTo>
                  <a:pt x="20200" y="27961"/>
                </a:lnTo>
                <a:close/>
              </a:path>
              <a:path fill="lighten" w="21600" h="29361">
                <a:moveTo>
                  <a:pt x="0" y="293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7961"/>
                </a:lnTo>
                <a:close/>
              </a:path>
              <a:path fill="darkenLess" w="21600" h="29361">
                <a:moveTo>
                  <a:pt x="5273" y="7865"/>
                </a:moveTo>
                <a:lnTo>
                  <a:pt x="12271" y="7865"/>
                </a:lnTo>
                <a:lnTo>
                  <a:pt x="16327" y="11364"/>
                </a:lnTo>
                <a:lnTo>
                  <a:pt x="16327" y="21495"/>
                </a:lnTo>
                <a:lnTo>
                  <a:pt x="5273" y="21495"/>
                </a:lnTo>
                <a:close/>
              </a:path>
              <a:path fill="darken" w="21600" h="29361">
                <a:moveTo>
                  <a:pt x="12271" y="7865"/>
                </a:moveTo>
                <a:lnTo>
                  <a:pt x="16327" y="11364"/>
                </a:lnTo>
                <a:lnTo>
                  <a:pt x="12271" y="11364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459640" y="4395960"/>
            <a:ext cx="203400" cy="276120"/>
          </a:xfrm>
          <a:custGeom>
            <a:avLst/>
            <a:gdLst>
              <a:gd name="textAreaLeft" fmla="*/ 12960 w 203400"/>
              <a:gd name="textAreaRight" fmla="*/ 190440 w 203400"/>
              <a:gd name="textAreaTop" fmla="*/ 12960 h 276120"/>
              <a:gd name="textAreaBottom" fmla="*/ 263160 h 276120"/>
            </a:gdLst>
            <a:ahLst/>
            <a:rect l="textAreaLeft" t="textAreaTop" r="textAreaRight" b="textAreaBottom"/>
            <a:pathLst>
              <a:path w="21600" h="29309">
                <a:moveTo>
                  <a:pt x="0" y="0"/>
                </a:moveTo>
                <a:lnTo>
                  <a:pt x="21600" y="0"/>
                </a:lnTo>
                <a:lnTo>
                  <a:pt x="21600" y="29309"/>
                </a:lnTo>
                <a:lnTo>
                  <a:pt x="0" y="29309"/>
                </a:lnTo>
                <a:close/>
              </a:path>
              <a:path fill="lightenLess" w="21600" h="293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309">
                <a:moveTo>
                  <a:pt x="21600" y="0"/>
                </a:moveTo>
                <a:lnTo>
                  <a:pt x="21600" y="29309"/>
                </a:lnTo>
                <a:lnTo>
                  <a:pt x="20200" y="27909"/>
                </a:lnTo>
                <a:lnTo>
                  <a:pt x="20200" y="1400"/>
                </a:lnTo>
                <a:close/>
              </a:path>
              <a:path fill="darkenLess" w="21600" h="29309">
                <a:moveTo>
                  <a:pt x="21600" y="29309"/>
                </a:moveTo>
                <a:lnTo>
                  <a:pt x="0" y="29309"/>
                </a:lnTo>
                <a:lnTo>
                  <a:pt x="1400" y="27909"/>
                </a:lnTo>
                <a:lnTo>
                  <a:pt x="20200" y="27909"/>
                </a:lnTo>
                <a:close/>
              </a:path>
              <a:path fill="lighten" w="21600" h="29309">
                <a:moveTo>
                  <a:pt x="0" y="293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909"/>
                </a:lnTo>
                <a:close/>
              </a:path>
              <a:path fill="darkenLess" w="21600" h="29309">
                <a:moveTo>
                  <a:pt x="5273" y="7839"/>
                </a:moveTo>
                <a:lnTo>
                  <a:pt x="12271" y="7839"/>
                </a:lnTo>
                <a:lnTo>
                  <a:pt x="16327" y="11338"/>
                </a:lnTo>
                <a:lnTo>
                  <a:pt x="16327" y="21469"/>
                </a:lnTo>
                <a:lnTo>
                  <a:pt x="5273" y="21469"/>
                </a:lnTo>
                <a:close/>
              </a:path>
              <a:path fill="darken" w="21600" h="29309">
                <a:moveTo>
                  <a:pt x="12271" y="7839"/>
                </a:moveTo>
                <a:lnTo>
                  <a:pt x="16327" y="11338"/>
                </a:lnTo>
                <a:lnTo>
                  <a:pt x="12271" y="11338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447040" y="4992840"/>
            <a:ext cx="203400" cy="276120"/>
          </a:xfrm>
          <a:custGeom>
            <a:avLst/>
            <a:gdLst>
              <a:gd name="textAreaLeft" fmla="*/ 12960 w 203400"/>
              <a:gd name="textAreaRight" fmla="*/ 190440 w 203400"/>
              <a:gd name="textAreaTop" fmla="*/ 12960 h 276120"/>
              <a:gd name="textAreaBottom" fmla="*/ 263160 h 276120"/>
            </a:gdLst>
            <a:ahLst/>
            <a:rect l="textAreaLeft" t="textAreaTop" r="textAreaRight" b="textAreaBottom"/>
            <a:pathLst>
              <a:path w="21600" h="29309">
                <a:moveTo>
                  <a:pt x="0" y="0"/>
                </a:moveTo>
                <a:lnTo>
                  <a:pt x="21600" y="0"/>
                </a:lnTo>
                <a:lnTo>
                  <a:pt x="21600" y="29309"/>
                </a:lnTo>
                <a:lnTo>
                  <a:pt x="0" y="29309"/>
                </a:lnTo>
                <a:close/>
              </a:path>
              <a:path fill="lightenLess" w="21600" h="293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309">
                <a:moveTo>
                  <a:pt x="21600" y="0"/>
                </a:moveTo>
                <a:lnTo>
                  <a:pt x="21600" y="29309"/>
                </a:lnTo>
                <a:lnTo>
                  <a:pt x="20200" y="27909"/>
                </a:lnTo>
                <a:lnTo>
                  <a:pt x="20200" y="1400"/>
                </a:lnTo>
                <a:close/>
              </a:path>
              <a:path fill="darkenLess" w="21600" h="29309">
                <a:moveTo>
                  <a:pt x="21600" y="29309"/>
                </a:moveTo>
                <a:lnTo>
                  <a:pt x="0" y="29309"/>
                </a:lnTo>
                <a:lnTo>
                  <a:pt x="1400" y="27909"/>
                </a:lnTo>
                <a:lnTo>
                  <a:pt x="20200" y="27909"/>
                </a:lnTo>
                <a:close/>
              </a:path>
              <a:path fill="lighten" w="21600" h="29309">
                <a:moveTo>
                  <a:pt x="0" y="293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909"/>
                </a:lnTo>
                <a:close/>
              </a:path>
              <a:path fill="darkenLess" w="21600" h="29309">
                <a:moveTo>
                  <a:pt x="5273" y="7839"/>
                </a:moveTo>
                <a:lnTo>
                  <a:pt x="12271" y="7839"/>
                </a:lnTo>
                <a:lnTo>
                  <a:pt x="16327" y="11338"/>
                </a:lnTo>
                <a:lnTo>
                  <a:pt x="16327" y="21469"/>
                </a:lnTo>
                <a:lnTo>
                  <a:pt x="5273" y="21469"/>
                </a:lnTo>
                <a:close/>
              </a:path>
              <a:path fill="darken" w="21600" h="29309">
                <a:moveTo>
                  <a:pt x="12271" y="7839"/>
                </a:moveTo>
                <a:lnTo>
                  <a:pt x="16327" y="11338"/>
                </a:lnTo>
                <a:lnTo>
                  <a:pt x="12271" y="11338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259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2" dur="22980" fill="hold"/>
                                        <p:tgtEl>
                                          <p:spTgt spid="2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3" restart="whenNotActive" nodeType="interactiveSeq" fill="hold">
                <p:stCondLst>
                  <p:cond evt="onClick">
                    <p:tgtEl>
                      <p:spTgt spid="292"/>
                    </p:tgtEl>
                  </p:cond>
                </p:stCondLst>
                <p:childTnLst>
                  <p:par>
                    <p:cTn id="264" fill="hold">
                      <p:stCondLst>
                        <p:cond evt="onClick">
                          <p:tgtEl>
                            <p:spTgt spid="292"/>
                          </p:tgtEl>
                        </p:cond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7" dur="41506" fill="hold"/>
                                        <p:tgtEl>
                                          <p:spTgt spid="2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269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2" dur="31658" fill="hold"/>
                                        <p:tgtEl>
                                          <p:spTgt spid="2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3" restart="whenNotActive" nodeType="interactiveSeq" fill="hold">
                <p:stCondLst>
                  <p:cond evt="onClick">
                    <p:tgtEl>
                      <p:spTgt spid="294"/>
                    </p:tgtEl>
                  </p:cond>
                </p:stCondLst>
                <p:childTnLst>
                  <p:par>
                    <p:cTn id="274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7" dur="34572" fill="hold"/>
                                        <p:tgtEl>
                                          <p:spTgt spid="2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8" restart="whenNotActive" nodeType="interactiveSeq" fill="hold">
                <p:stCondLst>
                  <p:cond evt="onClick">
                    <p:tgtEl>
                      <p:spTgt spid="295"/>
                    </p:tgtEl>
                  </p:cond>
                </p:stCondLst>
                <p:childTnLst>
                  <p:par>
                    <p:cTn id="279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2" dur="25313" fill="hold"/>
                                        <p:tgtEl>
                                          <p:spTgt spid="2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-257040" y="0"/>
            <a:ext cx="9586800" cy="698832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6996240" y="0"/>
            <a:ext cx="33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ac9"/>
                </a:solidFill>
                <a:latin typeface="Arial"/>
                <a:ea typeface="宋体"/>
              </a:rPr>
              <a:t>The time mach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3040" y="1889280"/>
            <a:ext cx="44420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宋体"/>
              </a:rPr>
              <a:t>I would like to travel to the year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宋体"/>
              </a:rPr>
              <a:t>I want to see what life was lik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宋体"/>
              </a:rPr>
              <a:t>I want to see what life will be lik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>
            <a:hlinkClick r:id="rId2" action="ppaction://hlinksldjump"/>
          </p:cNvPr>
          <p:cNvSpPr/>
          <p:nvPr/>
        </p:nvSpPr>
        <p:spPr>
          <a:xfrm>
            <a:off x="5529240" y="6589800"/>
            <a:ext cx="654120" cy="268200"/>
          </a:xfrm>
          <a:custGeom>
            <a:avLst/>
            <a:gdLst>
              <a:gd name="textAreaLeft" fmla="*/ 17280 w 654120"/>
              <a:gd name="textAreaRight" fmla="*/ 636840 w 654120"/>
              <a:gd name="textAreaTop" fmla="*/ 17280 h 268200"/>
              <a:gd name="textAreaBottom" fmla="*/ 250920 h 268200"/>
            </a:gdLst>
            <a:ahLst/>
            <a:rect l="textAreaLeft" t="textAreaTop" r="textAreaRight" b="textAreaBottom"/>
            <a:pathLst>
              <a:path w="52639" h="21600">
                <a:moveTo>
                  <a:pt x="0" y="0"/>
                </a:moveTo>
                <a:lnTo>
                  <a:pt x="52639" y="0"/>
                </a:lnTo>
                <a:lnTo>
                  <a:pt x="52639" y="21600"/>
                </a:lnTo>
                <a:lnTo>
                  <a:pt x="0" y="21600"/>
                </a:lnTo>
                <a:close/>
              </a:path>
              <a:path fill="lightenLess" w="52639" h="21600">
                <a:moveTo>
                  <a:pt x="0" y="0"/>
                </a:moveTo>
                <a:lnTo>
                  <a:pt x="52639" y="0"/>
                </a:lnTo>
                <a:lnTo>
                  <a:pt x="51239" y="1400"/>
                </a:lnTo>
                <a:lnTo>
                  <a:pt x="1400" y="1400"/>
                </a:lnTo>
                <a:close/>
              </a:path>
              <a:path fill="darken" w="52639" h="21600">
                <a:moveTo>
                  <a:pt x="52639" y="0"/>
                </a:moveTo>
                <a:lnTo>
                  <a:pt x="52639" y="21600"/>
                </a:lnTo>
                <a:lnTo>
                  <a:pt x="51239" y="20200"/>
                </a:lnTo>
                <a:lnTo>
                  <a:pt x="51239" y="1400"/>
                </a:lnTo>
                <a:close/>
              </a:path>
              <a:path fill="darkenLess" w="52639" h="21600">
                <a:moveTo>
                  <a:pt x="52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239" y="20200"/>
                </a:lnTo>
                <a:close/>
              </a:path>
              <a:path fill="lighten" w="52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639" h="21600">
                <a:moveTo>
                  <a:pt x="19313" y="10800"/>
                </a:moveTo>
                <a:lnTo>
                  <a:pt x="33326" y="3794"/>
                </a:lnTo>
                <a:lnTo>
                  <a:pt x="3332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55200" y="999360"/>
            <a:ext cx="555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  <a:ea typeface="宋体"/>
              </a:rPr>
              <a:t>Task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28200" y="2161800"/>
            <a:ext cx="3776760" cy="31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alk about trave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alk about means of transpor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ips on tra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Understand boarding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school bus"/>
          <p:cNvPicPr/>
          <p:nvPr/>
        </p:nvPicPr>
        <p:blipFill>
          <a:blip r:embed="rId1"/>
          <a:stretch/>
        </p:blipFill>
        <p:spPr>
          <a:xfrm>
            <a:off x="4383000" y="2666880"/>
            <a:ext cx="4324320" cy="320364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  <a:ea typeface="宋体"/>
              </a:rPr>
              <a:t>Have a pleasant trip!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1042920" y="2013120"/>
            <a:ext cx="2382840" cy="268128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3925800" y="1552680"/>
            <a:ext cx="2710080" cy="21207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3"/>
          <a:stretch/>
        </p:blipFill>
        <p:spPr>
          <a:xfrm>
            <a:off x="6424560" y="3505320"/>
            <a:ext cx="2043000" cy="26049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4"/>
          <a:stretch/>
        </p:blipFill>
        <p:spPr>
          <a:xfrm>
            <a:off x="3613320" y="3889440"/>
            <a:ext cx="2006280" cy="19209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  <a:ea typeface="宋体"/>
              </a:rPr>
              <a:t>More About Me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41520" y="2700360"/>
            <a:ext cx="41925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 like travelling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 like hiking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 like adventure trav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’ve been to many places of inter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4175280" y="2873520"/>
            <a:ext cx="3771720" cy="258264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28280" y="409320"/>
            <a:ext cx="6870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omic Sans MS"/>
                <a:ea typeface="宋体"/>
              </a:rPr>
              <a:t>experience nature and life</a:t>
            </a:r>
            <a:endParaRPr b="0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981000" y="1363680"/>
            <a:ext cx="3022560" cy="20145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1011240" y="3471840"/>
            <a:ext cx="3073320" cy="20718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4568760" y="3498840"/>
            <a:ext cx="2938680" cy="20620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4"/>
          <a:stretch/>
        </p:blipFill>
        <p:spPr>
          <a:xfrm>
            <a:off x="4554360" y="1406520"/>
            <a:ext cx="2994120" cy="1969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  <a:ea typeface="宋体"/>
              </a:rPr>
              <a:t>What about you?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49840" y="2509920"/>
            <a:ext cx="4324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o you like travell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Where have you be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Why do you trave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089000" y="2382840"/>
            <a:ext cx="1832040" cy="279396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439560"/>
            <a:ext cx="68706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  <a:ea typeface="宋体"/>
              </a:rPr>
              <a:t>Why do people travel?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817280" y="1959120"/>
            <a:ext cx="6327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o increase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o meet new fri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o keep 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o have f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o experience life in different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o try new kinds of 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o get away from hot wea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…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6483240" y="4794120"/>
            <a:ext cx="1851120" cy="176220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  <a:ea typeface="宋体"/>
              </a:rPr>
              <a:t>Tips on travel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60120" y="2381400"/>
            <a:ext cx="4584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bey traffic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bserve public 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5845320" y="3979800"/>
            <a:ext cx="1565280" cy="115416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  <a:ea typeface="宋体"/>
              </a:rPr>
              <a:t>Tip on travel: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  <a:ea typeface="宋体"/>
              </a:rPr>
              <a:t>obey rule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779480" y="1319040"/>
            <a:ext cx="2887920" cy="21654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4848120" y="1308240"/>
            <a:ext cx="2906640" cy="21794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4902120" y="3662280"/>
            <a:ext cx="2873520" cy="21560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>
            <a:off x="1787400" y="3605040"/>
            <a:ext cx="2874960" cy="215604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  <a:ea typeface="宋体"/>
              </a:rPr>
              <a:t>Tip on travel: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  <a:ea typeface="宋体"/>
              </a:rPr>
              <a:t>obey rule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617640" y="5025600"/>
            <a:ext cx="470700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00"/>
              </a:spcBef>
              <a:buClr>
                <a:srgbClr val="ff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e is driving too fa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085760" y="1712880"/>
            <a:ext cx="3265560" cy="24494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4565520" y="1639800"/>
            <a:ext cx="3749760" cy="279720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4T00:44:32Z</dcterms:created>
  <dc:creator>张纯</dc:creator>
  <dc:description/>
  <dc:language>en-US</dc:language>
  <cp:lastModifiedBy>张纯</cp:lastModifiedBy>
  <dcterms:modified xsi:type="dcterms:W3CDTF">2003-09-26T09:05:00Z</dcterms:modified>
  <cp:revision>45</cp:revision>
  <dc:subject/>
  <dc:title>Ms. Dawson’s 3rd Grade Cla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87211033</vt:lpwstr>
  </property>
</Properties>
</file>