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23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E52-EB34-4EF9-B38A-82ACED4B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A3E-86C9-41FA-81BE-CED3D59D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20D-F5C8-47D1-B645-DD477686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D2F-4C8E-4999-8F95-53C291D7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637D-2B9F-4E8F-BA46-8F38A4E2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082C-E154-4D20-B87A-E3D6B4CA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0410-AF0A-4D76-966E-1A3D7A38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0E9A-E1C4-4A9B-B1B7-712E88D7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C1EA-56AA-413A-B243-CA353F5A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E142-7D9E-4886-8714-979D251A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CA7B-5B40-42D5-B351-C5B09475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4C4-311A-44ED-A122-481AAC22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BE7B-F2B4-4E2C-BFBA-A41F7111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430A-5D7A-428B-9B5E-321E439E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CBAB-2D8D-49EA-916F-B4664D5B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2D53-F879-4433-94B4-8B9ECC3E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972B-43A7-4AE1-B9BE-D9551E84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1E1-6C97-4392-91F9-90D2ACE1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8E9-C123-4940-903E-9E8C7392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425-7DA0-424D-AA88-A71DD016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58C-7505-4370-A13A-3DE66037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B29-E475-40FC-AFAE-8D4318A0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D84-CCA3-48DD-8691-0F2C56F1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15E-AAD5-4E21-8720-E4301B30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B9E5-BF6F-4B34-9921-10B2EE58547A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C127-DAAA-4C36-96FC-546D05C0A9D2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hurrica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80880" y="228600"/>
            <a:ext cx="2590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Haettenschweiler"/>
              </a:rPr>
              <a:t>Lesson 42</a:t>
            </a:r>
            <a:endParaRPr b="1" lang="en-US" sz="80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5486400"/>
            <a:ext cx="6553440" cy="64260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湖南省怀化市第一中学  宫可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75248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e Hurrica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hurricane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366400" cy="3733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920" y="22860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Haettenschweiler"/>
              </a:rPr>
              <a:t>Could you describe the picture according to the third paragrap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905120"/>
            <a:ext cx="8001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舒体"/>
                <a:ea typeface="方正舒体"/>
              </a:rPr>
              <a:t>Many trees had been blown down by the high winds, blocking roads. Electricity lines as well as telephone poles were brought down by falling trees or branches</a:t>
            </a:r>
            <a:r>
              <a:rPr b="1" lang="en-US" sz="4800" spc="-1" strike="noStrike">
                <a:solidFill>
                  <a:srgbClr val="ff0000"/>
                </a:solidFill>
                <a:latin typeface="Arthritis (BRK)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Times New Roman"/>
              </a:rPr>
              <a:t>Practi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Fill in the blanks with suitable  pre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371600"/>
            <a:ext cx="91440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1.The winter of 1962in England was one of the coldest  _____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2.________January 1st ______March 20th the temperature below 0°C nearly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3.The paths were difficult to walk on, especially ______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4.There were many snow storms,with winds of up ________80 k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5.Many branches of trees broke because ______ the weight _______the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362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2362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3886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4952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5562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6095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1676520"/>
            <a:ext cx="853452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Trucks ran ______each other on the roads, which were covered _________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_________the day-time schoolchildren had great fun in the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One day in March two children were skating ______ a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.The ice broke and one of them fell ______ the 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Practi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Fill in the blanks with suitable  pre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1676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2133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with/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27432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666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/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4191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4800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0948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2193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subtitlewhathappens" descr=""/>
          <p:cNvPicPr/>
          <p:nvPr/>
        </p:nvPicPr>
        <p:blipFill>
          <a:blip r:embed="rId1"/>
          <a:stretch/>
        </p:blipFill>
        <p:spPr>
          <a:xfrm>
            <a:off x="0" y="380880"/>
            <a:ext cx="6248520" cy="1371600"/>
          </a:xfrm>
          <a:prstGeom prst="rect">
            <a:avLst/>
          </a:prstGeom>
          <a:ln w="0">
            <a:noFill/>
          </a:ln>
        </p:spPr>
      </p:pic>
      <p:pic>
        <p:nvPicPr>
          <p:cNvPr id="269" name="benitezsnapshot" descr=""/>
          <p:cNvPicPr/>
          <p:nvPr/>
        </p:nvPicPr>
        <p:blipFill>
          <a:blip r:embed="rId2"/>
          <a:stretch/>
        </p:blipFill>
        <p:spPr>
          <a:xfrm>
            <a:off x="838080" y="2057400"/>
            <a:ext cx="739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meetstacy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271" name="meetpatrick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272" name="meetkristen" descr=""/>
          <p:cNvPicPr/>
          <p:nvPr/>
        </p:nvPicPr>
        <p:blipFill>
          <a:blip r:embed="rId3"/>
          <a:stretch/>
        </p:blipFill>
        <p:spPr>
          <a:xfrm>
            <a:off x="0" y="335268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273" name="meetpatricia" descr=""/>
          <p:cNvPicPr/>
          <p:nvPr/>
        </p:nvPicPr>
        <p:blipFill>
          <a:blip r:embed="rId4"/>
          <a:stretch/>
        </p:blipFill>
        <p:spPr>
          <a:xfrm>
            <a:off x="4572000" y="335268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BS00554_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2832120" cy="20970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275" name=""/>
          <p:cNvSpPr txBox="1"/>
          <p:nvPr/>
        </p:nvSpPr>
        <p:spPr>
          <a:xfrm>
            <a:off x="533520" y="3581280"/>
            <a:ext cx="3124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omewor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213372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Ex. 2  on page 12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E07677_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676520" cy="1523880"/>
          </a:xfrm>
          <a:prstGeom prst="rect">
            <a:avLst/>
          </a:prstGeom>
          <a:ln w="0">
            <a:noFill/>
          </a:ln>
        </p:spPr>
      </p:pic>
      <p:pic>
        <p:nvPicPr>
          <p:cNvPr id="278" name="tree" descr=""/>
          <p:cNvPicPr/>
          <p:nvPr/>
        </p:nvPicPr>
        <p:blipFill>
          <a:blip r:embed="rId3"/>
          <a:stretch/>
        </p:blipFill>
        <p:spPr>
          <a:xfrm>
            <a:off x="4800600" y="0"/>
            <a:ext cx="434340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iris_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00400" y="0"/>
            <a:ext cx="5943600" cy="155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Verdana"/>
              </a:rPr>
              <a:t>A hurricane is a powerful storm that measures several hundred miles in diameter 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直径</a:t>
            </a:r>
            <a:r>
              <a:rPr b="1" i="1" lang="zh-CN" sz="2400" spc="-1" strike="noStrike">
                <a:solidFill>
                  <a:srgbClr val="ff0000"/>
                </a:solidFill>
                <a:latin typeface="Verdana"/>
              </a:rPr>
              <a:t>). Hurricanes have two main parts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titlehowhurrwork" descr=""/>
          <p:cNvPicPr/>
          <p:nvPr/>
        </p:nvPicPr>
        <p:blipFill>
          <a:blip r:embed="rId2"/>
          <a:stretch/>
        </p:blipFill>
        <p:spPr>
          <a:xfrm>
            <a:off x="-457200" y="5257800"/>
            <a:ext cx="6324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hurricane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18" name="PubRRectCallout"/>
          <p:cNvSpPr/>
          <p:nvPr/>
        </p:nvSpPr>
        <p:spPr>
          <a:xfrm flipV="1">
            <a:off x="3962520" y="4266360"/>
            <a:ext cx="5181480" cy="2590920"/>
          </a:xfrm>
          <a:custGeom>
            <a:avLst/>
            <a:gdLst>
              <a:gd name="textAreaLeft" fmla="*/ 34560 w 5181480"/>
              <a:gd name="textAreaRight" fmla="*/ 5135760 w 5181480"/>
              <a:gd name="textAreaTop" fmla="*/ 16920 h 2590920"/>
              <a:gd name="textAreaBottom" fmla="*/ 2051640 h 25909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0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Verdana"/>
              </a:rPr>
              <a:t>The second part is the wall of clouds that surrounds the calm eye. This is where the hurricane's strongest winds and heaviest rain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ubRRectCallout"/>
          <p:cNvSpPr/>
          <p:nvPr/>
        </p:nvSpPr>
        <p:spPr>
          <a:xfrm flipH="1">
            <a:off x="-720" y="0"/>
            <a:ext cx="8534520" cy="2133720"/>
          </a:xfrm>
          <a:custGeom>
            <a:avLst/>
            <a:gdLst>
              <a:gd name="textAreaLeft" fmla="*/ 57240 w 8534520"/>
              <a:gd name="textAreaRight" fmla="*/ 8459280 w 8534520"/>
              <a:gd name="textAreaTop" fmla="*/ 14040 h 2133720"/>
              <a:gd name="textAreaBottom" fmla="*/ 1689840 h 21337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445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66"/>
                </a:solidFill>
                <a:latin typeface="Verdana"/>
              </a:rPr>
              <a:t>The first is the eye(</a:t>
            </a:r>
            <a:r>
              <a:rPr b="1" i="1" lang="zh-CN" sz="2400" spc="-1" strike="noStrike">
                <a:solidFill>
                  <a:srgbClr val="ff0066"/>
                </a:solidFill>
                <a:latin typeface="Times New Roman"/>
              </a:rPr>
              <a:t>风眼</a:t>
            </a:r>
            <a:r>
              <a:rPr b="1" i="1" lang="zh-CN" sz="2400" spc="-1" strike="noStrike">
                <a:solidFill>
                  <a:srgbClr val="ff0066"/>
                </a:solidFill>
                <a:latin typeface="Verdana"/>
              </a:rPr>
              <a:t>) of the hurricane,which is a calm area in the center of the storm.  Usually, the eye of a hurricane measures about 20 miles in diameter, and has very few clouds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subtitlehowdohurrwork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3581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rail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81024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hurricane2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810240" cy="3200400"/>
          </a:xfrm>
          <a:prstGeom prst="rect">
            <a:avLst/>
          </a:prstGeom>
          <a:ln w="0">
            <a:noFill/>
          </a:ln>
        </p:spPr>
      </p:pic>
      <p:pic>
        <p:nvPicPr>
          <p:cNvPr id="223" name="hurricane-boat" descr=""/>
          <p:cNvPicPr/>
          <p:nvPr/>
        </p:nvPicPr>
        <p:blipFill>
          <a:blip r:embed="rId3"/>
          <a:stretch/>
        </p:blipFill>
        <p:spPr>
          <a:xfrm>
            <a:off x="4648320" y="304920"/>
            <a:ext cx="3733560" cy="2971800"/>
          </a:xfrm>
          <a:prstGeom prst="rect">
            <a:avLst/>
          </a:prstGeom>
          <a:ln w="0">
            <a:noFill/>
          </a:ln>
        </p:spPr>
      </p:pic>
      <p:pic>
        <p:nvPicPr>
          <p:cNvPr id="224" name="buffalo2" descr=""/>
          <p:cNvPicPr/>
          <p:nvPr/>
        </p:nvPicPr>
        <p:blipFill>
          <a:blip r:embed="rId4"/>
          <a:stretch/>
        </p:blipFill>
        <p:spPr>
          <a:xfrm>
            <a:off x="4648320" y="3276720"/>
            <a:ext cx="3733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5530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Reading comprehension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685800"/>
            <a:ext cx="861048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The reason why nineteen people died in the hurricane perhaps was that_______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 it rained heavily and they were washed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 very tall trees were brown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 the big trees fell down where they were slee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 they were missing in the d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From the passage the greatest harm to the towns and villages was that______ in the hurric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there was no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water supply was cut off without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people could't get touch with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a great many tall trees were brown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838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4114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1066680"/>
            <a:ext cx="84582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At that night some people couldn't get to sleep, which made them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.safe the whole night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.nervous all th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.lucky all night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.protect themselves as possible as they c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With the help of the soldiers and the workers from other parts of Britain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. everything would be  better as soon as pos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. things were got back as they were 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.the towns and villages were much better than 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.the people had nothing to worry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28600"/>
            <a:ext cx="65530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Reading comprehension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886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hurricane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62120" y="1523880"/>
            <a:ext cx="761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ntsyPants"/>
              </a:rPr>
              <a:t>A hurricane stuck the southeast of England. Between the hours of midnight and 6 a.m. the hurricane crossed the southeast corner of England with winds of up to 160 kph. Nineteen people lost their li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685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9a0000"/>
                </a:solidFill>
                <a:latin typeface="Times New Roman"/>
              </a:rPr>
              <a:t>What happened on Friday October, 1987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ages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2819160"/>
          </a:xfrm>
          <a:prstGeom prst="rect">
            <a:avLst/>
          </a:prstGeom>
          <a:ln w="0">
            <a:noFill/>
          </a:ln>
        </p:spPr>
      </p:pic>
      <p:pic>
        <p:nvPicPr>
          <p:cNvPr id="238" name="rain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4114800" cy="33530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876920" y="228600"/>
            <a:ext cx="373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Asimov"/>
                <a:ea typeface="华文新魏"/>
              </a:rPr>
              <a:t>What’s the weather like in Engla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14479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Asimov"/>
              </a:rPr>
              <a:t>England usually has plenty of rain every month of the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12408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a0000"/>
                </a:solidFill>
                <a:latin typeface="Alfredo's Dance"/>
              </a:rPr>
              <a:t>What about the rain that nigh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44956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000"/>
                </a:solidFill>
                <a:latin typeface="Alfredo's Dance"/>
              </a:rPr>
              <a:t>That night was the worst one in the history. It had been raining heavily for two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2:14:36Z</dcterms:created>
  <dc:creator>gong</dc:creator>
  <dc:description/>
  <dc:language>en-US</dc:language>
  <cp:lastModifiedBy>gong</cp:lastModifiedBy>
  <dcterms:modified xsi:type="dcterms:W3CDTF">2002-12-01T01:52:08Z</dcterms:modified>
  <cp:revision>39</cp:revision>
  <dc:subject/>
  <dc:title>PowerPoint 演示文稿</dc:title>
</cp:coreProperties>
</file>