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LAP.WAV" ContentType="audio/x-wav"/>
  <Override PartName="/ppt/media/image2.png" ContentType="image/png"/>
  <Override PartName="/ppt/media/image1.png" ContentType="image/png"/>
  <Override PartName="/ppt/media/image7.png" ContentType="image/png"/>
  <Override PartName="/ppt/media/DRUMROLL.WAV" ContentType="audio/x-wav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TIMBALES.WAV" ContentType="audio/x-wav"/>
  <Override PartName="/ppt/media/ISRAELFL.WAV" ContentType="audio/x-wav"/>
  <Override PartName="/ppt/media/image13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1EB-8CEA-4C61-9916-5ADF3927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3C5-CF37-4DCD-A19D-17BE4C86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D0C-C485-4554-9CAC-5861FC9D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BEA-543D-42F8-838F-9FBD7A4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181C-D80A-48DC-9CE6-40B9A3C3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5809-7703-4269-B30D-EBBA0700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5558-C8BC-4E46-A7C0-5B2AC4D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1709-37B3-4238-A077-D91B07B7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0D6A-7561-4290-817C-726E89A7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0B8A-32EF-4827-BD47-3021CAA8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265F-DA71-4CA6-AF4A-75D047B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EBF-2EA2-4F0F-8ABC-97EA4335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C511-5E44-4E83-96CA-0851410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87E9-F1A9-4F21-9A66-9573582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AFC3-18A8-4B1E-936C-6ED4FC4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334B-F3B0-4C9D-BCEA-66B37CBD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70DE-F589-444F-970A-F01B7952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E3D-4E8F-4B78-AE0B-8AD4A25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C16-1CA7-4B73-A3B4-CD3EFB96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63A-7FE7-42BC-A01D-08126021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75C-F8A7-4FA4-953D-2F971C05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248-B954-46AA-A1A8-17052066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F80-7AE4-4E2B-A503-29DCA2D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95E-E525-4404-B513-6A488C95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F480-27E5-4639-A153-C9F4C9F5BDBA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EF65-C8F5-4182-B41A-978D1D2E0679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3808440"/>
            <a:ext cx="41911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60879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835200"/>
          <a:ext cx="632160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5200"/>
                    <a:ext cx="63216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11360" y="193032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gymnast performs swing, handstand and other movements on the parallel bars. He also does holding positions which require him to remain motionless for one or two second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508200" y="0"/>
          <a:ext cx="24703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4703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908000" y="1063800"/>
          <a:ext cx="5943600" cy="50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63800"/>
                    <a:ext cx="594360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2208240"/>
            <a:ext cx="7391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the horizontal upper bar, the gymnast must perform acrobatic moves without coming to a stop.  The exercise ends with a dismount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08200" y="57240"/>
          <a:ext cx="220680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57240"/>
                    <a:ext cx="22068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3808440"/>
            <a:ext cx="27432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Wo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978200" y="1063800"/>
          <a:ext cx="58734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1063800"/>
                    <a:ext cx="58734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95280" y="213516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women’s vault uses the same equipment as the men’s vault.  However, women gymnasts vault across the horses width rather than its leng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78400" y="46080"/>
          <a:ext cx="19872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46080"/>
                    <a:ext cx="19872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828800" y="993600"/>
          <a:ext cx="602280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02280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2514600"/>
            <a:ext cx="70866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uneven parallel bars event requires the gymnast to execute difficult maneuvers on both bars while in constant motion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81280" y="50760"/>
          <a:ext cx="205740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0760"/>
                    <a:ext cx="20574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828800" y="1143000"/>
          <a:ext cx="60930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60930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600200" y="685800"/>
          <a:ext cx="6480000" cy="56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648000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2235240"/>
            <a:ext cx="73915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On the balance beam, the gymnast tries to use the entire length of the beam.  The advanced gymnast may perform somersaults, backhandswheel or cartwheel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63360"/>
          <a:ext cx="198144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63360"/>
                    <a:ext cx="19814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908000" y="1143000"/>
          <a:ext cx="6013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43000"/>
                    <a:ext cx="6013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2665440"/>
            <a:ext cx="7086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In the floor exercise, the gymnast demonstrates her skills of acrobatics, tumbling and dancing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657600" y="0"/>
          <a:ext cx="213372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0"/>
                    <a:ext cx="21337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828800" y="1063800"/>
          <a:ext cx="6093000" cy="52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3800"/>
                    <a:ext cx="609300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0968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hythmic gymnasts are judged on the grace and difficulty of various maneuvers performed with equipment such as a ribbon, clubs or a hoop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86200" y="0"/>
          <a:ext cx="20574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6880" y="2592360"/>
            <a:ext cx="426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2268360"/>
            <a:ext cx="739152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In a floor exercise a gymnast must perform continuous series movements that require flexibility, balance and strength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657600" y="22320"/>
          <a:ext cx="217188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320"/>
                    <a:ext cx="21718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679400" y="914400"/>
          <a:ext cx="604692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60469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1981080"/>
            <a:ext cx="762012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a pommel horse,  the gymnast must support his weight entirely with his hands while performing a series of swing maneuvers.  This maneuver is known as the scissor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736800" y="11160"/>
          <a:ext cx="21956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11160"/>
                    <a:ext cx="21956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600200" y="835200"/>
          <a:ext cx="632160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5200"/>
                    <a:ext cx="63216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95280" y="220824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the ring exercise, the gymnast must try to keep the rings motionless, while he executes a number of difficult maneuvers with his body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08200" y="0"/>
          <a:ext cx="251460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514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1828800" y="993600"/>
          <a:ext cx="64119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4119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95280" y="2208240"/>
            <a:ext cx="69343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man’s vault uses the same equipment as the women’s vault.  However, men gymnasts vault across the horse’s length rather than its wid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78400" y="0"/>
          <a:ext cx="22158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0"/>
                    <a:ext cx="22158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9:36:30Z</dcterms:created>
  <dc:creator>ll</dc:creator>
  <dc:description/>
  <dc:language>en-US</dc:language>
  <cp:lastModifiedBy>fan</cp:lastModifiedBy>
  <dcterms:modified xsi:type="dcterms:W3CDTF">2001-03-19T11:01:59Z</dcterms:modified>
  <cp:revision>123</cp:revision>
  <dc:subject/>
  <dc:title>Gymnastics</dc:title>
</cp:coreProperties>
</file>