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5795-35D5-4960-B7FC-DFCEE3C8E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JGH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021E-FC71-4555-A506-2C4638E5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B857-6DA2-4FE9-B577-46257CCB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688-B28A-4434-9846-6EBB0AA0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0C4E-9517-4B0A-84E7-F68AB942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E85-B885-4E1E-BCF6-0B12EBF0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CCD0-98B6-4C54-A3A8-90ACAEB8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4E34-6897-48C0-BE61-0B60E062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39F-63DB-4DB9-88D3-8CD7B029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A9BD-CAE7-4FAB-A76F-2B36D65D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5E7A-C111-4724-A391-BD9B2115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0C8-5091-499D-BB60-430354C2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A2C-698A-467F-A941-DB7225B9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B32A-40DE-4DEB-BF28-3E01E3090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685800"/>
            <a:ext cx="6934320" cy="6172200"/>
          </a:xfrm>
          <a:prstGeom prst="rightArrow">
            <a:avLst>
              <a:gd name="adj1" fmla="val 50000"/>
              <a:gd name="adj2" fmla="val 2808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are really tired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 daily stres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ich you have to go through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ENTETRABAJ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10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Never stop loving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37920" y="1980720"/>
            <a:ext cx="4419720" cy="3124440"/>
          </a:xfrm>
          <a:prstGeom prst="rect">
            <a:avLst/>
          </a:prstGeom>
          <a:ln w="0">
            <a:noFill/>
          </a:ln>
        </p:spPr>
      </p:pic>
      <p:pic>
        <p:nvPicPr>
          <p:cNvPr id="76" name="AMASIEMPRE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553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OTEMASALOSGRANDES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876920" cy="4496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be afraid of others, because they are bigger than you.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eal size could be measured in the wisd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nd finally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look in the mirror and think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“I’m beautifu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.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OYLINDO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5029200" cy="4495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20272200">
            <a:off x="3417480" y="5263920"/>
            <a:ext cx="52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w, enjoy your day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Relax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CONEJOTRABAJ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629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lay solitair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240" y="228564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GATOCOMPUT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5257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Enjoy the field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5640" y="1981080"/>
            <a:ext cx="480060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ZORROLINGO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5333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t some su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95120" y="1980720"/>
            <a:ext cx="3962520" cy="3124440"/>
          </a:xfrm>
          <a:prstGeom prst="rect">
            <a:avLst/>
          </a:prstGeom>
          <a:ln w="0">
            <a:noFill/>
          </a:ln>
        </p:spPr>
      </p:pic>
      <p:pic>
        <p:nvPicPr>
          <p:cNvPr id="62" name="TOMARSOL" descr=""/>
          <p:cNvPicPr/>
          <p:nvPr/>
        </p:nvPicPr>
        <p:blipFill>
          <a:blip r:embed="rId2"/>
          <a:stretch/>
        </p:blipFill>
        <p:spPr>
          <a:xfrm>
            <a:off x="2057400" y="1905120"/>
            <a:ext cx="548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refresh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76360" y="1980720"/>
            <a:ext cx="2438280" cy="2667240"/>
          </a:xfrm>
          <a:prstGeom prst="rect">
            <a:avLst/>
          </a:prstGeom>
          <a:ln w="0">
            <a:noFill/>
          </a:ln>
        </p:spPr>
      </p:pic>
      <p:pic>
        <p:nvPicPr>
          <p:cNvPr id="65" name="REFRESQUESE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343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ve a be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42840" y="198072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68" name="UNACERVEZA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63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t rid of the horrible diets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(after all you are not so fat)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FINDEDIETA" descr=""/>
          <p:cNvPicPr/>
          <p:nvPr/>
        </p:nvPicPr>
        <p:blipFill>
          <a:blip r:embed="rId2"/>
          <a:stretch/>
        </p:blipFill>
        <p:spPr>
          <a:xfrm>
            <a:off x="2362320" y="2057400"/>
            <a:ext cx="4800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NOMUERDASPROJIMO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Don’t unload your anger on other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5:35:15Z</dcterms:created>
  <dc:creator>PROMOVISAO</dc:creator>
  <dc:description/>
  <dc:language>en-US</dc:language>
  <cp:lastModifiedBy>user</cp:lastModifiedBy>
  <dcterms:modified xsi:type="dcterms:W3CDTF">2001-09-27T06:13:39Z</dcterms:modified>
  <cp:revision>7</cp:revision>
  <dc:subject/>
  <dc:title>Se está cansado do stress a que todos os dias é submetido...</dc:title>
</cp:coreProperties>
</file>