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2EB6-1E7F-4CE6-A8F0-841E9B7DB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1A9F-0596-4E56-9E5A-52EC4649D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4885-8A68-435C-9F90-CDBB63473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B533-E70F-43C7-BAAA-F657BAB8F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18E74-203D-44AD-ADB7-AB0539C4D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CB2C6-D3EC-428D-958C-08F2F3139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DC826-C185-4A29-8C04-8A792D039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6198C-9A0E-4F7A-907C-2930675FA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6A9BF-1311-45F9-9935-08801293D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FCB48-167A-401E-A51E-436ACFA8D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3303E-44E2-4ADD-A0DA-C3A31B8FB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57FA-3869-4AE8-9CC2-0F9367D16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F729F-3D75-4436-925C-80C556655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F68B6-6BBB-4F50-B4F7-2FDD62AF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CCABD-F64D-4446-B88A-C71172C65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0D94E-6170-4FC9-88A9-66914A432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0C31B-2752-406D-B5EA-429865912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8CEA-D91A-4901-9145-4B67C1FB0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4FFC-CC24-493B-8007-A235AAD7A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7D1A-508A-4527-84B7-554720CB5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7120-1CEF-4FED-AEE2-32BB47B04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1136-9AE8-4A27-86FD-1BF15F71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BEE0-0463-4A2B-8D1E-6A241CF55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9CF0-82C5-40DA-B2C3-EBFD6B77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5238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400800"/>
            <a:ext cx="9144000" cy="152280"/>
          </a:xfrm>
          <a:prstGeom prst="rect">
            <a:avLst/>
          </a:prstGeom>
          <a:gradFill rotWithShape="0">
            <a:gsLst>
              <a:gs pos="0">
                <a:srgbClr val="f1f7e9"/>
              </a:gs>
              <a:gs pos="100000">
                <a:srgbClr val="8dba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530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533520"/>
            <a:ext cx="8534520" cy="685800"/>
          </a:xfrm>
          <a:prstGeom prst="rect">
            <a:avLst/>
          </a:prstGeom>
          <a:solidFill>
            <a:srgbClr val="8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ABC04-FB62-4B5D-BA70-126FBC1D2EB9}" type="slidenum"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8" name=""/>
            <p:cNvSpPr/>
            <p:nvPr/>
          </p:nvSpPr>
          <p:spPr>
            <a:xfrm>
              <a:off x="0" y="6400800"/>
              <a:ext cx="9144000" cy="152280"/>
            </a:xfrm>
            <a:prstGeom prst="rect">
              <a:avLst/>
            </a:prstGeom>
            <a:gradFill rotWithShape="0">
              <a:gsLst>
                <a:gs pos="0">
                  <a:srgbClr val="f1f7e9"/>
                </a:gs>
                <a:gs pos="100000">
                  <a:srgbClr val="8dba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0"/>
              <a:ext cx="9144000" cy="3657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3657600"/>
              <a:ext cx="9144000" cy="144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6553080"/>
              <a:ext cx="9144000" cy="180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480" y="2514600"/>
              <a:ext cx="8534520" cy="6858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13252-1606-4935-AA33-BDE62D12D6F6}" type="slidenum"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905480" y="762120"/>
            <a:ext cx="5234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3300"/>
                </a:solidFill>
                <a:latin typeface="Times New Roman"/>
              </a:rPr>
              <a:t>    </a:t>
            </a:r>
            <a:r>
              <a:rPr b="0" lang="en-US" sz="6600" spc="-1" strike="noStrike">
                <a:solidFill>
                  <a:srgbClr val="003300"/>
                </a:solidFill>
                <a:latin typeface="Times New Roman"/>
              </a:rPr>
              <a:t>Lesson 41  </a:t>
            </a:r>
            <a:endParaRPr b="0" lang="en-US" sz="6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3300"/>
                </a:solidFill>
                <a:latin typeface="Times New Roman"/>
              </a:rPr>
              <a:t>Country Music</a:t>
            </a:r>
            <a:endParaRPr b="0" lang="en-US" sz="6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54920" y="3733920"/>
            <a:ext cx="77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00"/>
                </a:solidFill>
                <a:latin typeface="Times New Roman"/>
              </a:rPr>
              <a:t>Zhaoqing Shiyuan Middle School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53440" y="5257800"/>
            <a:ext cx="523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00"/>
                </a:solidFill>
                <a:latin typeface="Times New Roman"/>
              </a:rPr>
              <a:t>Speaker:  Li Changxiu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86560" y="100080"/>
            <a:ext cx="425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4. Where to s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63960" y="1319040"/>
            <a:ext cx="40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5. When to s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2286000"/>
            <a:ext cx="584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6. Writer of his song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3048120"/>
            <a:ext cx="432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7. Make record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733920"/>
            <a:ext cx="538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8. Broadcast record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-3600" y="4419720"/>
            <a:ext cx="525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9. How to broadcast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-4320" y="5257800"/>
            <a:ext cx="747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10. What do you think of him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64160" y="685800"/>
            <a:ext cx="488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At the New Theatre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86560" y="100080"/>
            <a:ext cx="425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4. Where to s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63960" y="1319040"/>
            <a:ext cx="40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5. When to s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2286000"/>
            <a:ext cx="584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6. Writer of his song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048120"/>
            <a:ext cx="432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7. Make record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3733920"/>
            <a:ext cx="538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8. Broadcast record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-3600" y="4419720"/>
            <a:ext cx="525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9. How to broadcast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-4320" y="5257800"/>
            <a:ext cx="747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10. What do you think of him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64160" y="685800"/>
            <a:ext cx="488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At the New Theatre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800600" y="1371600"/>
            <a:ext cx="327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On Saturday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86560" y="100080"/>
            <a:ext cx="425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4. Where to s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63960" y="1319040"/>
            <a:ext cx="40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5. When to s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2286000"/>
            <a:ext cx="584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6. Writer of his song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3048120"/>
            <a:ext cx="432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7. Make record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3733920"/>
            <a:ext cx="538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8. Broadcast record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-3600" y="4419720"/>
            <a:ext cx="525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9. How to broadcast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-4320" y="5257800"/>
            <a:ext cx="747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10. What do you think of him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64160" y="685800"/>
            <a:ext cx="502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At the New Theatre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800600" y="1371600"/>
            <a:ext cx="34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On Saturday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156720" y="2233440"/>
            <a:ext cx="119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Yes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157800" y="2919240"/>
            <a:ext cx="32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86560" y="100080"/>
            <a:ext cx="425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4. Where to s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63960" y="1319040"/>
            <a:ext cx="40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5. When to s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286000"/>
            <a:ext cx="584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6. Writer of his song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3048120"/>
            <a:ext cx="432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7. Make record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3733920"/>
            <a:ext cx="538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8. Broadcast record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-3600" y="4419720"/>
            <a:ext cx="525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9. How to broadcast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-4320" y="5257800"/>
            <a:ext cx="747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10. What do you think of him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064160" y="685800"/>
            <a:ext cx="502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At the New Theatre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800600" y="1371600"/>
            <a:ext cx="34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On Saturday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156720" y="2233440"/>
            <a:ext cx="119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Yes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57800" y="2919240"/>
            <a:ext cx="32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156720" y="2919240"/>
            <a:ext cx="119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Yes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86560" y="100080"/>
            <a:ext cx="425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4. Where to s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63960" y="1319040"/>
            <a:ext cx="40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5. When to s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2286000"/>
            <a:ext cx="584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6. Writer of his song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048120"/>
            <a:ext cx="432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7. Make record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3733920"/>
            <a:ext cx="538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8. Broadcast record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-3600" y="4419720"/>
            <a:ext cx="525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9. How to broadcast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-4320" y="5257800"/>
            <a:ext cx="747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10. What do you think of him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064160" y="685800"/>
            <a:ext cx="502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At the New Theatre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800600" y="1371600"/>
            <a:ext cx="34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On Saturday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56720" y="2233440"/>
            <a:ext cx="119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Yes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157800" y="2919240"/>
            <a:ext cx="32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156720" y="2919240"/>
            <a:ext cx="119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Yes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86560" y="100080"/>
            <a:ext cx="425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4. Where to s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63960" y="1319040"/>
            <a:ext cx="40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5. When to s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2286000"/>
            <a:ext cx="584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6. Writer of his song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3048120"/>
            <a:ext cx="432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7. Make record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3733920"/>
            <a:ext cx="538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8. Broadcast record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-3600" y="4419720"/>
            <a:ext cx="525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9. How to broadcast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-4320" y="5257800"/>
            <a:ext cx="747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10. What do you think of him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064160" y="685800"/>
            <a:ext cx="502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At the New Theatre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800600" y="1371600"/>
            <a:ext cx="34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On Saturday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156720" y="2233440"/>
            <a:ext cx="119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Yes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157800" y="2919240"/>
            <a:ext cx="32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156720" y="2919240"/>
            <a:ext cx="119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Yes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5880" y="3733920"/>
            <a:ext cx="131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Yes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86560" y="100080"/>
            <a:ext cx="425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4. Where to s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63960" y="1319040"/>
            <a:ext cx="40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5. When to s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2286000"/>
            <a:ext cx="584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6. Writer of his song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3048120"/>
            <a:ext cx="432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7. Make record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3733920"/>
            <a:ext cx="538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8. Broadcast record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-3600" y="4419720"/>
            <a:ext cx="525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9. How to broadcast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-4320" y="5257800"/>
            <a:ext cx="747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10. What do you think of him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064160" y="685800"/>
            <a:ext cx="502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At the New Theatre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1371600"/>
            <a:ext cx="34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On Saturday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156720" y="2233440"/>
            <a:ext cx="119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Yes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157800" y="2919240"/>
            <a:ext cx="32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156720" y="2919240"/>
            <a:ext cx="119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Yes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95880" y="3733920"/>
            <a:ext cx="131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Yes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470560" y="4367160"/>
            <a:ext cx="336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On the radio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86560" y="100080"/>
            <a:ext cx="425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4. Where to s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63960" y="1319040"/>
            <a:ext cx="40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5. When to s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2286000"/>
            <a:ext cx="584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6. Writer of his song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3048120"/>
            <a:ext cx="432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7. Make record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3733920"/>
            <a:ext cx="538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8. Broadcast record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-3600" y="4419720"/>
            <a:ext cx="525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9. How to broadcast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-4320" y="5257800"/>
            <a:ext cx="747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10. What do you think of him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64160" y="685800"/>
            <a:ext cx="502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At the New Theatre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800600" y="1371600"/>
            <a:ext cx="34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On Saturday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156720" y="2233440"/>
            <a:ext cx="119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Yes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157800" y="2919240"/>
            <a:ext cx="32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156720" y="2919240"/>
            <a:ext cx="119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Yes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95880" y="3733920"/>
            <a:ext cx="131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Yes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70560" y="4367160"/>
            <a:ext cx="336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On the radio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9160" y="5791320"/>
            <a:ext cx="876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He’s very successful./He’s a success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455400" y="0"/>
            <a:ext cx="427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VI.  Expressions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960" y="609480"/>
            <a:ext cx="7067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1. the coming weekend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the weekend that is coming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-4680" y="1752480"/>
            <a:ext cx="7939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2. Haven’t you heard of him?=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I’m surprised that you haven’t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   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heard of him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-6840" y="3581280"/>
            <a:ext cx="6663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3. hear of... =know of…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hear from sb.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     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receive a letter from sb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5425920"/>
            <a:ext cx="5979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4. He’s very successful.=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   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He’s a success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63960" y="252360"/>
            <a:ext cx="2978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VII. Repeat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-6120" y="1219320"/>
            <a:ext cx="87818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VIII. Dialogue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1.Why don’t you come on Saturday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2. Why not buy a ticket to hear 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       </a:t>
            </a: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John Denver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3.You’d better see more English 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       </a:t>
            </a: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films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4. What about going for a walk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68580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        </a:t>
            </a: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I               Aim: 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Master the following 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6980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Theatre, successful, success, 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make a record, broadcast, 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on the radio, pop music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Jackie, John Denver,Mozart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913400" y="176040"/>
            <a:ext cx="45043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VIII. Translation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1.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我刚听说他生病了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2.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他收到姐姐的来信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他明年秋天举行一次运动会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. 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913400" y="176040"/>
            <a:ext cx="45043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VIII. Translation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1.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我刚听说他生病了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2.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他收到姐姐的来信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他明年秋天举行一次运动会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. 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14400" y="1319040"/>
            <a:ext cx="654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I’ve just heard his illness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913400" y="176040"/>
            <a:ext cx="45043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VIII. Translation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1.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我刚听说他生病了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2.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他收到姐姐的来信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他明年秋天举行一次运动会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. 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14400" y="1319040"/>
            <a:ext cx="654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I’ve just heard his illness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971280" y="2766960"/>
            <a:ext cx="610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He heard from his sister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2329200" y="304920"/>
            <a:ext cx="45043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VIII. Translation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1.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我刚听说他生病了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2.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他收到姐姐的来信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他们计划明年秋天举行一次运动会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. 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914400" y="1319040"/>
            <a:ext cx="654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I’ve just heard his illness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971280" y="2766960"/>
            <a:ext cx="610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He heard from his sister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94960" y="4214880"/>
            <a:ext cx="7428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They planned to hold a sports 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meet the coming autumn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085400" y="100080"/>
            <a:ext cx="363276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IX. Summary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1.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即将到来的周末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2.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听说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他很成功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4.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美国乡村音乐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5.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哪种音乐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6.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播放他的音乐节目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7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灌唱片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8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通过录音机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9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最好快点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085400" y="100080"/>
            <a:ext cx="363276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IX. Summary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1.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即将到来的周末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2.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听说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他很成功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4.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美国乡村音乐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5.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哪种音乐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6.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播放他的音乐节目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7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灌唱片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8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通过录音机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9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最好快点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1085400" y="100080"/>
            <a:ext cx="363276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IX. Summary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1.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即将到来的周末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2.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听说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他很成功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4.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美国乡村音乐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5.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哪种音乐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6.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播放他的音乐节目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7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灌唱片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8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通过录音机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9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最好快点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936440" y="252360"/>
            <a:ext cx="579492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X  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写作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介绍香港歌星周华健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1 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他是香港著名歌星，中学时代就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对音乐感兴趣。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2 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他曾参加过当地无线电台举办的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歌唱比赛并获一等奖。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3  19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岁去台湾上大学，由于不会普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通话而被嘲笑并视为“乡下仔”。次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年，他去饭店当歌手。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380880" y="2057400"/>
            <a:ext cx="8379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4 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四年后的一天，当周在饭店演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出时，一唱片公司经理被其歌声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打动并邀请周加入他们的公司。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经过仔细考虑后，周决定放弃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学业去当歌星。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820080" y="785880"/>
            <a:ext cx="462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II         Key points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96760" y="1700280"/>
            <a:ext cx="461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Everyday English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46520" y="2386080"/>
            <a:ext cx="666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1.Haven’t you heard of …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47960" y="3147840"/>
            <a:ext cx="5298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2. Why don’t you …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   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Why not …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   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You’d better …  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45800" y="4976640"/>
            <a:ext cx="7661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3.That’s a good idea./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Thanks. I must try to do that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742120" y="914400"/>
            <a:ext cx="373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Western music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2057400"/>
            <a:ext cx="4641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Classical music 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86400" y="2057400"/>
            <a:ext cx="26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Pop music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123720" y="1752480"/>
            <a:ext cx="228600" cy="38124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5880" y="1828800"/>
            <a:ext cx="228600" cy="38088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057040" y="3048120"/>
            <a:ext cx="228600" cy="76176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72200" y="2971800"/>
            <a:ext cx="228600" cy="68580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4038480"/>
            <a:ext cx="4140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Symphony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Music for opera 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and ballet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04440" y="4038480"/>
            <a:ext cx="37407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Country music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Jazz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Rock and roll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685800"/>
            <a:ext cx="89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III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13360" y="633240"/>
            <a:ext cx="689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IV      Answer the follow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5200" y="1319040"/>
            <a:ext cx="342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John Denver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2819520"/>
            <a:ext cx="385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Type of music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7720" y="4419720"/>
            <a:ext cx="304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What to do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513360" y="633240"/>
            <a:ext cx="689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IV      Answer the follow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45200" y="1319040"/>
            <a:ext cx="342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John Denver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2819520"/>
            <a:ext cx="385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Type of music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37720" y="4419720"/>
            <a:ext cx="304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What to do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17920" y="2157480"/>
            <a:ext cx="526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A very famous singer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13360" y="633240"/>
            <a:ext cx="689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IV      Answer the follow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45200" y="1319040"/>
            <a:ext cx="342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John Denver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2819520"/>
            <a:ext cx="385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Type of music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7720" y="4419720"/>
            <a:ext cx="304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What to do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17920" y="2157480"/>
            <a:ext cx="526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A very famous singer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71280" y="3605040"/>
            <a:ext cx="608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American country music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13360" y="633240"/>
            <a:ext cx="689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IV      Answer the follow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5200" y="1319040"/>
            <a:ext cx="342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John Denver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2819520"/>
            <a:ext cx="385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Type of music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37720" y="4419720"/>
            <a:ext cx="304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What to do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17920" y="2157480"/>
            <a:ext cx="526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A very famous singer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71280" y="3605040"/>
            <a:ext cx="608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American country music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27160" y="5129280"/>
            <a:ext cx="325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He’s singing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9800" y="1243080"/>
            <a:ext cx="60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1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9680" y="2895480"/>
            <a:ext cx="60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2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9800" y="4443480"/>
            <a:ext cx="60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3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86560" y="100080"/>
            <a:ext cx="425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4. Where to s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3960" y="1319040"/>
            <a:ext cx="40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5. When to s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2286000"/>
            <a:ext cx="584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6. Writer of his song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3048120"/>
            <a:ext cx="432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7. Make record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3733920"/>
            <a:ext cx="538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8. Broadcast record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-3600" y="4419720"/>
            <a:ext cx="525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9. How to broadcast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-4320" y="5257800"/>
            <a:ext cx="747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10. What do you think of him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4T09:00:50Z</dcterms:created>
  <dc:creator>Tan</dc:creator>
  <dc:description/>
  <dc:language>en-US</dc:language>
  <cp:lastModifiedBy>Tan</cp:lastModifiedBy>
  <dcterms:modified xsi:type="dcterms:W3CDTF">2001-11-04T13:56:18Z</dcterms:modified>
  <cp:revision>11</cp:revision>
  <dc:subject/>
  <dc:title>没有幻灯片标题</dc:title>
</cp:coreProperties>
</file>