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74E-3BDB-46A6-B9E2-0F218479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5BB-DFB9-4585-8103-3896E4DE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1EE-6292-4809-AD3C-645F0E4B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CC18-F3FE-44B1-AC63-1779CDC4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CC3-734E-4B36-BF3A-F0F90FE0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C821-3969-409C-A19A-723CB283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5853-9D52-49D7-84A3-02B41EDF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98F-81D4-4208-8FBB-8DF4EFB6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E44-6281-44FA-89E4-61493E1A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3A21-0027-4052-AB90-3CD88D5E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2B5-38BE-4726-8160-41734BE6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146-FA50-4A3D-B651-F8233FA3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CC9A-6AF4-4B98-8564-2E6119B1179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657600" y="2361960"/>
            <a:ext cx="5486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6600"/>
                </a:solidFill>
                <a:latin typeface="Comic Sans MS"/>
              </a:rPr>
              <a:t>PHILOSOPH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6600"/>
                </a:solidFill>
                <a:latin typeface="Comic Sans MS"/>
              </a:rPr>
              <a:t>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6600"/>
                </a:solidFill>
                <a:latin typeface="Comic Sans MS"/>
              </a:rPr>
              <a:t>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6600"/>
                </a:solidFill>
                <a:latin typeface="Comic Sans MS"/>
                <a:ea typeface="標楷體"/>
              </a:rPr>
              <a:t>人生哲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2bebesdormindo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3467160" cy="52578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3429000"/>
            <a:ext cx="7391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understanding, when it’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有人需要同情諒解時，善體其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Have confidence in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對人生有把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Have 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要有信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bebes1" descr=""/>
          <p:cNvPicPr/>
          <p:nvPr/>
        </p:nvPicPr>
        <p:blipFill>
          <a:blip r:embed="rId2"/>
          <a:stretch/>
        </p:blipFill>
        <p:spPr>
          <a:xfrm>
            <a:off x="1600200" y="152280"/>
            <a:ext cx="6108840" cy="32958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 rot="1563600">
            <a:off x="1981080" y="22824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Comfort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安慰朋友、為他打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Have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 confidence in yourself!!</a:t>
            </a:r>
            <a:r>
              <a:rPr b="1" lang="pt-BR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對自己要有信心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bebe1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5970600" cy="3797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400800" y="64008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57600" y="2361960"/>
            <a:ext cx="5486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cc6600"/>
                </a:solidFill>
                <a:latin typeface="Comic Sans MS"/>
              </a:rPr>
              <a:t>Enjo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pt-BR" sz="6000" spc="-1" strike="noStrike">
                <a:solidFill>
                  <a:srgbClr val="cc6600"/>
                </a:solidFill>
                <a:latin typeface="Comic Sans MS"/>
              </a:rPr>
              <a:t>Life!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6600"/>
                </a:solidFill>
                <a:latin typeface="Comic Sans MS"/>
                <a:ea typeface="標楷體"/>
              </a:rPr>
              <a:t>享受人生</a:t>
            </a:r>
            <a:r>
              <a:rPr b="1" lang="zh-TW" sz="4800" spc="-1" strike="noStrike">
                <a:solidFill>
                  <a:srgbClr val="cc6600"/>
                </a:solidFill>
                <a:latin typeface="Comic Sans MS"/>
                <a:ea typeface="標楷體"/>
              </a:rPr>
              <a:t>!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baby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4227480" cy="54864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1" descr=""/>
          <p:cNvPicPr/>
          <p:nvPr/>
        </p:nvPicPr>
        <p:blipFill>
          <a:blip r:embed="rId2"/>
          <a:stretch/>
        </p:blipFill>
        <p:spPr>
          <a:xfrm>
            <a:off x="5334120" y="990720"/>
            <a:ext cx="3546360" cy="5029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2280" y="15238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Be patient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有耐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Be openminded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胸懷若谷，無偏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Smile often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經常微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Savor special mo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咀嚼令人回味的時刻</a:t>
            </a:r>
            <a:r>
              <a:rPr b="1" lang="zh-TW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10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269040" cy="3605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94920" y="396216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Make new friends...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結交新朋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Rediscover old ones...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發掘老朋友的新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Tell them that you love them…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讓他們知道你愛他們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And when you love them...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以及想到他們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Feel it deeply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是何等的真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11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4629240" cy="4159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 rot="19374000">
            <a:off x="272520" y="669240"/>
            <a:ext cx="565632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       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Ignore worries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揮別憂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       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Forget problems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忘卻難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       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Pardon enemies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寬恕敵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       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Keep promises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信守承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18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3341520" cy="5016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352320" y="1218960"/>
            <a:ext cx="5791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If you get more than one chance, 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如果還有機會，再試一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Prize your good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別忘了嘉獎自己的好點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Try not to make mis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儘量不犯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And if you do, learn from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若是犯了，則從中汲取教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19" descr=""/>
          <p:cNvPicPr/>
          <p:nvPr/>
        </p:nvPicPr>
        <p:blipFill>
          <a:blip r:embed="rId2"/>
          <a:stretch/>
        </p:blipFill>
        <p:spPr>
          <a:xfrm>
            <a:off x="5270400" y="609480"/>
            <a:ext cx="3587760" cy="5486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Be crazy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  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偶爾瘋狂一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Appreciate miracles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when they 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6600"/>
                </a:solidFill>
                <a:latin typeface="Comic Sans MS"/>
                <a:ea typeface="標楷體"/>
              </a:rPr>
              <a:t>	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珍惜每個驚喜  心存感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	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Notice where th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is in the 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抬頭張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	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	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看看太陽掛在天空的哪個角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Listen to the rain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 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聆聽雨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94920" y="456840"/>
            <a:ext cx="6782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Watch for rainbows and falling st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凝神觀望 彩虹隕石的蹤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Look for the beauty around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尋找周遭的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23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6248520" cy="41986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Smile with your he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發出會心的微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Confide in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和朋友談談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Give to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不吝付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gentle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others, al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柔和待人，始終如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ebes5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498920" cy="4511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8080" y="457200"/>
            <a:ext cx="3353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Hope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心存期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Desire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有所企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Grow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長大成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Work hard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全力以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yourself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做你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ebe6" descr=""/>
          <p:cNvPicPr/>
          <p:nvPr/>
        </p:nvPicPr>
        <p:blipFill>
          <a:blip r:embed="rId2"/>
          <a:stretch/>
        </p:blipFill>
        <p:spPr>
          <a:xfrm>
            <a:off x="4419720" y="457200"/>
            <a:ext cx="4079880" cy="5943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20:44:23Z</dcterms:created>
  <dc:creator>MPAS/assessoria especial</dc:creator>
  <dc:description/>
  <dc:language>en-US</dc:language>
  <cp:lastModifiedBy>Lyq</cp:lastModifiedBy>
  <dcterms:modified xsi:type="dcterms:W3CDTF">2002-01-25T07:01:48Z</dcterms:modified>
  <cp:revision>36</cp:revision>
  <dc:subject/>
  <dc:title>Slide sem título </dc:title>
</cp:coreProperties>
</file>