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F93-0FDF-4A77-B3F5-03E9CD02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E5B-0F6C-48BB-84CD-A7BA9773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7D7-9E10-4D55-8C4F-2CC9B087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7F8-F884-439E-B1E1-64ED338E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0AE8-950A-4C87-8CCB-508D0DE9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4EDD-E827-43EA-987C-076C7CBF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72AA-1D25-4E3C-9655-0C4BCFB7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B641-03E3-4839-9092-C3DB2994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5036-ECBF-4BF9-8EFB-FD607D62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5B22-3BB4-49FB-A644-73F34420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05D1-4E44-4C3E-B1F4-7D23FB28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BFF-3416-44B8-9A98-1FE98758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73F4-5198-42BE-A023-A7C8E5A5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433F-CFA9-44C2-92AD-7CFCAF30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392E-160E-4C98-939B-DE1E738B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6600-40FA-4D7F-81DE-54F90291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6AAE-2C7A-4291-9BC4-B1CCCED6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674-634A-4032-BCBC-C6806325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93D-69FB-4511-A08F-ED199E8E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B2E-715C-40C9-A5B5-F01E9F51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A55-816C-4474-B436-5E5CC137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995-76D2-4C47-8CEC-DF9B7820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D63-8302-4B57-BA6A-B5DBDF03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F59-7C10-4328-9191-F998EED6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2720-761A-4339-AF2C-97DAA86D12DF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EB07-7E76-49C3-8ABB-A6C4B42E147B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480" y="762120"/>
            <a:ext cx="523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Lesson 41  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Country Music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920" y="3733920"/>
            <a:ext cx="77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Zhaoqing Shiyuan Middle Schoo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3440" y="5257800"/>
            <a:ext cx="52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Speaker:  Li Changxiu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4160" y="68580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4160" y="68580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1371600"/>
            <a:ext cx="32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70560" y="436716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0560" y="436716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9160" y="5791320"/>
            <a:ext cx="876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’s very successful./He’s a succ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5400" y="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.  Expressions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960" y="609480"/>
            <a:ext cx="706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the coming weekend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the weekend that is com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4680" y="1752480"/>
            <a:ext cx="793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 Haven’t you heard of him?=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’m surprised that you haven’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ard of him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6840" y="3581280"/>
            <a:ext cx="666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 hear of... =know of…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ar from sb.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receive a letter from sb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25920"/>
            <a:ext cx="5979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He’s very successful.=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’s a succ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63960" y="252360"/>
            <a:ext cx="29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I. Repe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6120" y="1219320"/>
            <a:ext cx="8781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II. Dialogu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1.Why don’t you come on Saturd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2. Why not buy a ticket to hear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3.You’d better see more English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film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4. What about going for a walk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858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               Aim: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aster the following 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698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atre, successful, success,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ake a record, broadcast,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, pop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ackie, John Denver,Mozar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1280" y="276696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 heard from his sister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329200" y="30492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们计划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71280" y="276696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 heard from his sister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4960" y="4214880"/>
            <a:ext cx="742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y planned to hold a sports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eet the coming autumn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36440" y="252360"/>
            <a:ext cx="579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X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写作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介绍香港歌星周华健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是香港著名歌星，中学时代就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对音乐感兴趣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曾参加过当地无线电台举办的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歌唱比赛并获一等奖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  19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岁去台湾上大学，由于不会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话而被嘲笑并视为“乡下仔”。次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年，他去饭店当歌手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2057400"/>
            <a:ext cx="837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四年后的一天，当周在饭店演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出时，一唱片公司经理被其歌声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打动并邀请周加入他们的公司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经过仔细考虑后，周决定放弃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学业去当歌星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0080" y="785880"/>
            <a:ext cx="46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I         Key points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6760" y="1700280"/>
            <a:ext cx="46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Everyday English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6520" y="2386080"/>
            <a:ext cx="666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Haven’t you heard of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7960" y="3147840"/>
            <a:ext cx="529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 Why don’t you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Why not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You’d better …  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5800" y="4976640"/>
            <a:ext cx="766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That’s a good idea./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Thanks. I must try to do that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42120" y="914400"/>
            <a:ext cx="373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estern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057400"/>
            <a:ext cx="464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lassical music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740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Pop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123720" y="1752480"/>
            <a:ext cx="228600" cy="3812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828800"/>
            <a:ext cx="228600" cy="3808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7040" y="3048120"/>
            <a:ext cx="228600" cy="7617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971800"/>
            <a:ext cx="228600" cy="6858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038480"/>
            <a:ext cx="414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Symphon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usic for opera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nd balle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4440" y="4038480"/>
            <a:ext cx="374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azz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Rock and rol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85800"/>
            <a:ext cx="8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1280" y="36050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merican 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280" y="36050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merican 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27160" y="5129280"/>
            <a:ext cx="32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’s singing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800" y="12430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8954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800" y="44434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4T09:00:50Z</dcterms:created>
  <dc:creator>Tan</dc:creator>
  <dc:description/>
  <dc:language>en-US</dc:language>
  <cp:lastModifiedBy>Tan</cp:lastModifiedBy>
  <dcterms:modified xsi:type="dcterms:W3CDTF">2001-11-04T13:56:18Z</dcterms:modified>
  <cp:revision>11</cp:revision>
  <dc:subject/>
  <dc:title>没有幻灯片标题</dc:title>
</cp:coreProperties>
</file>