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7C9-62ED-4CC7-B355-2DF10608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B9F-8743-4CF9-BFDA-F9826EBA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F3A-37E0-4129-8C9A-68A79162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04F-DE95-4891-B69A-69DAF669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45E1-D575-4D8A-9F99-7BC262F1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6892-ABC9-4EA1-9045-D7D682BF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3D55-2C99-4962-83CD-D07E67BD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B9DC-009F-45B1-BAC7-32C27708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B25B-9A6D-4D17-97EB-82038836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0AE8-C541-4A73-8577-2EFFBABD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5041-5FA0-4063-8BF7-46E64361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447-AA7E-4CEB-96DF-F68C92C9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8681-3812-4D4E-879E-D27B4BAE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FACE-3D6A-4BD7-8777-B44B4675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E551-3858-4959-B26D-34889319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32C3-F136-4F3B-AB0F-0BB3656F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5B96-AA38-41D7-AF7B-42CEA368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B57-4CBD-4560-8A20-DC6E201E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BC2-D2C3-4CF6-869F-C9C2FA80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698-8DBE-4AFB-9C57-9500761D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BF5-17EB-4D47-ACE9-67B79BCD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71F-CEAB-4F83-B8A0-5A02470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D6B-B5F0-4052-9C4F-18169E5E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9B1-7A1E-4767-912C-53A5219A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42A9-E8FD-4A5A-ABB4-51E4758B8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F75C-E24F-40B3-B23B-E88049F09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5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8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9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7240" y="1447920"/>
            <a:ext cx="553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Times New Roman"/>
              </a:rPr>
              <a:t>English Poetry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2" descr=""/>
          <p:cNvPicPr/>
          <p:nvPr/>
        </p:nvPicPr>
        <p:blipFill>
          <a:blip r:embed="rId3"/>
          <a:stretch/>
        </p:blipFill>
        <p:spPr>
          <a:xfrm>
            <a:off x="3657600" y="3200400"/>
            <a:ext cx="198108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6" descr=""/>
          <p:cNvPicPr/>
          <p:nvPr/>
        </p:nvPicPr>
        <p:blipFill>
          <a:blip r:embed="rId4"/>
          <a:stretch/>
        </p:blipFill>
        <p:spPr>
          <a:xfrm>
            <a:off x="5638680" y="3200400"/>
            <a:ext cx="1828800" cy="3048120"/>
          </a:xfrm>
          <a:prstGeom prst="rect">
            <a:avLst/>
          </a:prstGeom>
          <a:ln w="0">
            <a:noFill/>
          </a:ln>
        </p:spPr>
      </p:pic>
      <p:pic>
        <p:nvPicPr>
          <p:cNvPr id="94" name="3" descr=""/>
          <p:cNvPicPr/>
          <p:nvPr/>
        </p:nvPicPr>
        <p:blipFill>
          <a:blip r:embed="rId5"/>
          <a:stretch/>
        </p:blipFill>
        <p:spPr>
          <a:xfrm>
            <a:off x="0" y="3200400"/>
            <a:ext cx="1752480" cy="3048120"/>
          </a:xfrm>
          <a:prstGeom prst="rect">
            <a:avLst/>
          </a:prstGeom>
          <a:ln w="0">
            <a:noFill/>
          </a:ln>
        </p:spPr>
      </p:pic>
      <p:pic>
        <p:nvPicPr>
          <p:cNvPr id="95" name="15" descr=""/>
          <p:cNvPicPr/>
          <p:nvPr/>
        </p:nvPicPr>
        <p:blipFill>
          <a:blip r:embed="rId6"/>
          <a:stretch/>
        </p:blipFill>
        <p:spPr>
          <a:xfrm>
            <a:off x="7467480" y="3200400"/>
            <a:ext cx="1676520" cy="3048120"/>
          </a:xfrm>
          <a:prstGeom prst="rect">
            <a:avLst/>
          </a:prstGeom>
          <a:ln w="0">
            <a:noFill/>
          </a:ln>
        </p:spPr>
      </p:pic>
      <p:pic>
        <p:nvPicPr>
          <p:cNvPr id="96" name="7" descr=""/>
          <p:cNvPicPr/>
          <p:nvPr/>
        </p:nvPicPr>
        <p:blipFill>
          <a:blip r:embed="rId7"/>
          <a:stretch/>
        </p:blipFill>
        <p:spPr>
          <a:xfrm>
            <a:off x="1752480" y="3200400"/>
            <a:ext cx="1905120" cy="3048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nshui No.2 Middle School     Huang  Lan  Oct. 16,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609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o say that “ poems and literature can be bridges” is an image . What other images could you use to express the same idea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460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 say that poems and literature can be bridges means that they can bring people closer to each other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wo other images to express that idea , found in the text ar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. Poetry opens door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. We can embrace each other in poetry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2520" y="609480"/>
            <a:ext cx="63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plain the short poem by Mu Da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29440" y="1530360"/>
            <a:ext cx="59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Quietly , we embra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In a world lit up by words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297180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ur life is like the night . The words used in poetry are like lamps that light up , and in this light , we can meet and embrace other people , whom we would not have seen in the dark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96560" y="533520"/>
            <a:ext cx="347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Homework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6400" y="2819520"/>
            <a:ext cx="577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Do Ex.3 and Ex.4 on P29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 flipH="1">
            <a:off x="4267080" y="32767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firstslide"/>
            <a:hlinkClick r:id="rId2"/>
          </p:cNvPr>
          <p:cNvSpPr/>
          <p:nvPr/>
        </p:nvSpPr>
        <p:spPr>
          <a:xfrm>
            <a:off x="6172200" y="4800600"/>
            <a:ext cx="2971800" cy="1219320"/>
          </a:xfrm>
          <a:custGeom>
            <a:avLst/>
            <a:gdLst>
              <a:gd name="textAreaLeft" fmla="*/ 78840 w 2971800"/>
              <a:gd name="textAreaRight" fmla="*/ 2892960 w 29718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2636" h="21600">
                <a:moveTo>
                  <a:pt x="0" y="0"/>
                </a:moveTo>
                <a:lnTo>
                  <a:pt x="52636" y="0"/>
                </a:lnTo>
                <a:lnTo>
                  <a:pt x="52636" y="21600"/>
                </a:lnTo>
                <a:lnTo>
                  <a:pt x="0" y="21600"/>
                </a:lnTo>
                <a:close/>
              </a:path>
              <a:path fill="lightenLess" w="52636" h="21600">
                <a:moveTo>
                  <a:pt x="0" y="0"/>
                </a:moveTo>
                <a:lnTo>
                  <a:pt x="52636" y="0"/>
                </a:lnTo>
                <a:lnTo>
                  <a:pt x="51236" y="1400"/>
                </a:lnTo>
                <a:lnTo>
                  <a:pt x="1400" y="1400"/>
                </a:lnTo>
                <a:close/>
              </a:path>
              <a:path fill="darken" w="52636" h="21600">
                <a:moveTo>
                  <a:pt x="52636" y="0"/>
                </a:moveTo>
                <a:lnTo>
                  <a:pt x="52636" y="21600"/>
                </a:lnTo>
                <a:lnTo>
                  <a:pt x="51236" y="20200"/>
                </a:lnTo>
                <a:lnTo>
                  <a:pt x="51236" y="1400"/>
                </a:lnTo>
                <a:close/>
              </a:path>
              <a:path fill="darkenLess" w="52636" h="21600">
                <a:moveTo>
                  <a:pt x="52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236" y="20200"/>
                </a:lnTo>
                <a:close/>
              </a:path>
              <a:path fill="lighten" w="52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717a3"/>
                </a:solidFill>
                <a:latin typeface="华文行楷"/>
                <a:ea typeface="华文行楷"/>
              </a:rPr>
              <a:t>End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1066680"/>
            <a:ext cx="350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a0e35"/>
                </a:solidFill>
                <a:latin typeface="华文行楷"/>
                <a:ea typeface="华文行楷"/>
              </a:rPr>
              <a:t>Thank you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3" descr=""/>
          <p:cNvPicPr/>
          <p:nvPr/>
        </p:nvPicPr>
        <p:blipFill>
          <a:blip r:embed="rId3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79040" y="5029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 Yu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屈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4520" y="5029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u F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李白1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2133720" cy="3048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239240" y="50292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 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2" descr=""/>
          <p:cNvPicPr/>
          <p:nvPr/>
        </p:nvPicPr>
        <p:blipFill>
          <a:blip r:embed="rId3"/>
          <a:stretch/>
        </p:blipFill>
        <p:spPr>
          <a:xfrm>
            <a:off x="3886200" y="17524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苏东坡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14720" cy="3124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784200" y="5105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Dong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白居易" descr=""/>
          <p:cNvPicPr/>
          <p:nvPr/>
        </p:nvPicPr>
        <p:blipFill>
          <a:blip r:embed="rId2"/>
          <a:stretch/>
        </p:blipFill>
        <p:spPr>
          <a:xfrm>
            <a:off x="3962520" y="1828800"/>
            <a:ext cx="2209680" cy="3124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48680" y="5105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i Juy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王2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514600" cy="3124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28440" y="51055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ng 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郭2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438640" cy="297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26040" y="50292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uo Moru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251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凤凰涅槃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2200" y="5029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n Yid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397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死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9800" y="5029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i Q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30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大堰河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8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5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2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徐1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2487600" cy="2971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344480" y="5029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u Zhi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7680" y="5029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9240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再别康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29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致橡树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8760" y="49942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ai Wang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7288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雨巷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5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1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286000" cy="2971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391520" y="838080"/>
            <a:ext cx="357120" cy="43344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6211">
                <a:moveTo>
                  <a:pt x="0" y="0"/>
                </a:moveTo>
                <a:lnTo>
                  <a:pt x="21600" y="0"/>
                </a:lnTo>
                <a:lnTo>
                  <a:pt x="21600" y="26211"/>
                </a:lnTo>
                <a:lnTo>
                  <a:pt x="0" y="26211"/>
                </a:lnTo>
                <a:close/>
              </a:path>
              <a:path fill="lightenLess" w="21600" h="262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11">
                <a:moveTo>
                  <a:pt x="21600" y="0"/>
                </a:moveTo>
                <a:lnTo>
                  <a:pt x="21600" y="26211"/>
                </a:lnTo>
                <a:lnTo>
                  <a:pt x="20200" y="24811"/>
                </a:lnTo>
                <a:lnTo>
                  <a:pt x="20200" y="1400"/>
                </a:lnTo>
                <a:close/>
              </a:path>
              <a:path fill="darkenLess" w="21600" h="26211">
                <a:moveTo>
                  <a:pt x="21600" y="26211"/>
                </a:moveTo>
                <a:lnTo>
                  <a:pt x="0" y="26211"/>
                </a:lnTo>
                <a:lnTo>
                  <a:pt x="1400" y="24811"/>
                </a:lnTo>
                <a:lnTo>
                  <a:pt x="20200" y="24811"/>
                </a:lnTo>
                <a:close/>
              </a:path>
              <a:path fill="lighten" w="21600" h="26211">
                <a:moveTo>
                  <a:pt x="0" y="262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11"/>
                </a:lnTo>
                <a:close/>
              </a:path>
              <a:path fill="darken" w="21600" h="26211">
                <a:moveTo>
                  <a:pt x="7301" y="13106"/>
                </a:moveTo>
                <a:lnTo>
                  <a:pt x="17806" y="6099"/>
                </a:lnTo>
                <a:lnTo>
                  <a:pt x="17806" y="20112"/>
                </a:lnTo>
                <a:close/>
              </a:path>
              <a:path fill="darken" w="21600" h="26211">
                <a:moveTo>
                  <a:pt x="3794" y="6099"/>
                </a:moveTo>
                <a:lnTo>
                  <a:pt x="5456" y="6099"/>
                </a:lnTo>
                <a:lnTo>
                  <a:pt x="5456" y="20112"/>
                </a:lnTo>
                <a:lnTo>
                  <a:pt x="3794" y="20112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228600"/>
            <a:ext cx="2117880" cy="2590920"/>
          </a:xfrm>
          <a:prstGeom prst="rect">
            <a:avLst/>
          </a:prstGeom>
          <a:ln w="0">
            <a:noFill/>
          </a:ln>
        </p:spPr>
      </p:pic>
      <p:pic>
        <p:nvPicPr>
          <p:cNvPr id="209" name="5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752480" cy="2590920"/>
          </a:xfrm>
          <a:prstGeom prst="rect">
            <a:avLst/>
          </a:prstGeom>
          <a:ln w="0">
            <a:noFill/>
          </a:ln>
        </p:spPr>
      </p:pic>
      <p:pic>
        <p:nvPicPr>
          <p:cNvPr id="210" name="4" descr=""/>
          <p:cNvPicPr/>
          <p:nvPr/>
        </p:nvPicPr>
        <p:blipFill>
          <a:blip r:embed="rId4"/>
          <a:stretch/>
        </p:blipFill>
        <p:spPr>
          <a:xfrm>
            <a:off x="6934320" y="228600"/>
            <a:ext cx="1888920" cy="2590920"/>
          </a:xfrm>
          <a:prstGeom prst="rect">
            <a:avLst/>
          </a:prstGeom>
          <a:ln w="0">
            <a:noFill/>
          </a:ln>
        </p:spPr>
      </p:pic>
      <p:pic>
        <p:nvPicPr>
          <p:cNvPr id="211" name="wordsworth1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1981440" cy="2361960"/>
          </a:xfrm>
          <a:prstGeom prst="rect">
            <a:avLst/>
          </a:prstGeom>
          <a:ln w="0">
            <a:noFill/>
          </a:ln>
        </p:spPr>
      </p:pic>
      <p:pic>
        <p:nvPicPr>
          <p:cNvPr id="212" name="12" descr=""/>
          <p:cNvPicPr/>
          <p:nvPr/>
        </p:nvPicPr>
        <p:blipFill>
          <a:blip r:embed="rId6"/>
          <a:stretch/>
        </p:blipFill>
        <p:spPr>
          <a:xfrm>
            <a:off x="3124080" y="3505320"/>
            <a:ext cx="1905120" cy="2361960"/>
          </a:xfrm>
          <a:prstGeom prst="rect">
            <a:avLst/>
          </a:prstGeom>
          <a:ln w="0">
            <a:noFill/>
          </a:ln>
        </p:spPr>
      </p:pic>
      <p:pic>
        <p:nvPicPr>
          <p:cNvPr id="213" name="3" descr=""/>
          <p:cNvPicPr/>
          <p:nvPr/>
        </p:nvPicPr>
        <p:blipFill>
          <a:blip r:embed="rId7"/>
          <a:stretch/>
        </p:blipFill>
        <p:spPr>
          <a:xfrm>
            <a:off x="5105520" y="3505320"/>
            <a:ext cx="1752480" cy="2361960"/>
          </a:xfrm>
          <a:prstGeom prst="rect">
            <a:avLst/>
          </a:prstGeom>
          <a:ln w="0">
            <a:noFill/>
          </a:ln>
        </p:spPr>
      </p:pic>
      <p:pic>
        <p:nvPicPr>
          <p:cNvPr id="214" name="15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900080" cy="2361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143000" y="28954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kesp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8520" y="28954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on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8954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Mi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2560" y="59436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K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0040" y="594360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swor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3080" y="59436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r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2600" y="59436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69280" y="28954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1880" y="6019920"/>
            <a:ext cx="357480" cy="43344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6185">
                <a:moveTo>
                  <a:pt x="0" y="0"/>
                </a:moveTo>
                <a:lnTo>
                  <a:pt x="21600" y="0"/>
                </a:lnTo>
                <a:lnTo>
                  <a:pt x="21600" y="26185"/>
                </a:lnTo>
                <a:lnTo>
                  <a:pt x="0" y="26185"/>
                </a:lnTo>
                <a:close/>
              </a:path>
              <a:path fill="lightenLess" w="21600" h="261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85">
                <a:moveTo>
                  <a:pt x="21600" y="0"/>
                </a:moveTo>
                <a:lnTo>
                  <a:pt x="21600" y="26185"/>
                </a:lnTo>
                <a:lnTo>
                  <a:pt x="20200" y="24785"/>
                </a:lnTo>
                <a:lnTo>
                  <a:pt x="20200" y="1400"/>
                </a:lnTo>
                <a:close/>
              </a:path>
              <a:path fill="darkenLess" w="21600" h="26185">
                <a:moveTo>
                  <a:pt x="21600" y="26185"/>
                </a:moveTo>
                <a:lnTo>
                  <a:pt x="0" y="26185"/>
                </a:lnTo>
                <a:lnTo>
                  <a:pt x="1400" y="24785"/>
                </a:lnTo>
                <a:lnTo>
                  <a:pt x="20200" y="24785"/>
                </a:lnTo>
                <a:close/>
              </a:path>
              <a:path fill="lighten" w="21600" h="26185">
                <a:moveTo>
                  <a:pt x="0" y="261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85"/>
                </a:lnTo>
                <a:close/>
              </a:path>
              <a:path fill="darken" w="21600" h="26185">
                <a:moveTo>
                  <a:pt x="7301" y="13093"/>
                </a:moveTo>
                <a:lnTo>
                  <a:pt x="17806" y="6086"/>
                </a:lnTo>
                <a:lnTo>
                  <a:pt x="17806" y="20099"/>
                </a:lnTo>
                <a:close/>
              </a:path>
              <a:path fill="darken" w="21600" h="26185">
                <a:moveTo>
                  <a:pt x="3794" y="6086"/>
                </a:moveTo>
                <a:lnTo>
                  <a:pt x="5456" y="6086"/>
                </a:lnTo>
                <a:lnTo>
                  <a:pt x="5456" y="20099"/>
                </a:lnTo>
                <a:lnTo>
                  <a:pt x="3794" y="20099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1" descr=""/>
          <p:cNvPicPr/>
          <p:nvPr/>
        </p:nvPicPr>
        <p:blipFill>
          <a:blip r:embed="rId9"/>
          <a:stretch/>
        </p:blipFill>
        <p:spPr>
          <a:xfrm>
            <a:off x="3200400" y="22860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hakespeare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2057400"/>
            <a:ext cx="3264120" cy="3809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56120" y="685800"/>
            <a:ext cx="69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illiam Shakespear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6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1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8880" y="205740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154 sonn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92600" y="4419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纳斯与阿多尼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7640" y="35812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Venus and Adon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6477120" y="525780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8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1371600" y="1523880"/>
            <a:ext cx="670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1. Can you name some famo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hinese poets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1288800" y="2438280"/>
            <a:ext cx="64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2.  Do you know any English poets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800" y="457200"/>
            <a:ext cx="553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Times New Roman"/>
              </a:rPr>
              <a:t>English Poetry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9718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. Whose poetry reminds Chinese read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of Du Fu or Li Bai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2840" y="3962520"/>
            <a:ext cx="54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4. Why do people read poetry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495680"/>
            <a:ext cx="69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5. What makes poetry difficult to write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ut very interesting to rea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5410080"/>
            <a:ext cx="70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6. What are some of the features that a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ood poetry has in comm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77640" y="730080"/>
            <a:ext cx="52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Donn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7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3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7680" y="243828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Fl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59280" y="2590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跳蚤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1628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海上风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1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343320" cy="3962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183280" y="3733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torm At S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6477120" y="525780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8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117880" y="609480"/>
            <a:ext cx="52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Milt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0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7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8276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失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6440" y="19810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Lo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5908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复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87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力士参孙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3120" y="33526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Regain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1680" y="472428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amson Agoni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8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776680" cy="359424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7543800" y="5562720"/>
            <a:ext cx="509760" cy="50940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37720" y="838080"/>
            <a:ext cx="59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lexander Pop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8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74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59280" y="3352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批评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1628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阿勃斯诺特医生书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3540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0080" y="1981080"/>
            <a:ext cx="36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ssay on M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4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2492640" cy="3720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5560" y="320040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n Critic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5920" y="426708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Doctor Abothnot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6477120" y="571500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8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449360" y="533520"/>
            <a:ext cx="70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William Wordsworth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70—185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wordsworth1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139920" cy="35211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03540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黄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7480" y="274320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vening W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04920" y="3314880"/>
            <a:ext cx="6732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0700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序曲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8200" y="457200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Prelu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5943600" y="5562720"/>
            <a:ext cx="509760" cy="50940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345760" y="609480"/>
            <a:ext cx="50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Keat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5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02080" y="2286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伊萨贝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7480" y="213372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sab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1136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夜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21880" y="33526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de to a Nighting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30680" y="4876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秋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21160" y="47242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utum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keat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2803680" cy="35812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6095880" y="563868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360" y="533520"/>
            <a:ext cx="72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George Gordon Byr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88—182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286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恰尔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哈罗尔德游记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2120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唐璜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4880" y="2743200"/>
            <a:ext cx="45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Vision of Jud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33526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审判的幻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5520" y="38098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Don Ju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4160" y="175248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hilde Harold’s Pilgr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1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895480" cy="381024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7086600" y="525780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6600" y="4572000"/>
            <a:ext cx="30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sles of Gree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5181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哀希腊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267080" y="4343400"/>
            <a:ext cx="44197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西风哟，如果冬天已经来到，春天还会遥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33160" y="685800"/>
            <a:ext cx="69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ercy Bysshe Shelley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304812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解放了的普罗米修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4120" y="2209680"/>
            <a:ext cx="4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rometheus Unb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6364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风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68880" y="3733920"/>
            <a:ext cx="42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de to the West W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15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云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5200" y="533412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 Sky-L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2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2867040" cy="365760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rId2" action="ppaction://hlinksldjump"/>
          </p:cNvPr>
          <p:cNvSpPr/>
          <p:nvPr/>
        </p:nvSpPr>
        <p:spPr>
          <a:xfrm>
            <a:off x="6172200" y="594360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346120" y="609480"/>
            <a:ext cx="54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obert Fros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87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6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06800" y="3505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波士顿以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24280" y="23623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少年的意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30480" y="4572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山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11360" y="5791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去的溪流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9240" y="16765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 Boy’s Wi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4480" y="2819520"/>
            <a:ext cx="3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orth of Bost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800" y="51055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est-Running Broo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8520" y="3886200"/>
            <a:ext cx="37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untain Inter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frost1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984400" cy="3657600"/>
          </a:xfrm>
          <a:prstGeom prst="rect">
            <a:avLst/>
          </a:prstGeom>
          <a:ln w="0">
            <a:noFill/>
          </a:ln>
        </p:spPr>
      </p:pic>
      <p:sp>
        <p:nvSpPr>
          <p:cNvPr id="306" name="">
            <a:hlinkClick r:id="rId2" action="ppaction://hlinksldjump"/>
          </p:cNvPr>
          <p:cNvSpPr/>
          <p:nvPr/>
        </p:nvSpPr>
        <p:spPr>
          <a:xfrm>
            <a:off x="7620120" y="579132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07640" y="685800"/>
            <a:ext cx="564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nswers to Question 3– 6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76520"/>
            <a:ext cx="687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3. William Wordsworth’s , Geor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Gordon Byron’s , John Keats’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7432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4. Reading poetry brings people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different places and different ti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together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267080"/>
            <a:ext cx="687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5. Poetry plays with sounds , word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grammar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341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6. The form is very important :the nu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 …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line . Poetry … rhythm and rhyme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72400" y="838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066680" y="228600"/>
          <a:ext cx="7772400" cy="6278400"/>
        </p:xfrm>
        <a:graphic>
          <a:graphicData uri="http://schemas.openxmlformats.org/drawingml/2006/table">
            <a:tbl>
              <a:tblPr/>
              <a:tblGrid>
                <a:gridCol w="1905120"/>
                <a:gridCol w="2514600"/>
                <a:gridCol w="3352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erio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Famous Poe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Style of Poe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he 17</a:t>
                      </a:r>
                      <a:r>
                        <a:rPr b="1" i="1" lang="en-US" sz="2800" spc="-1" strike="noStrike" baseline="30000">
                          <a:solidFill>
                            <a:srgbClr val="990000"/>
                          </a:solidFill>
                          <a:latin typeface="Times New Roman"/>
                        </a:rPr>
                        <a:t>th</a:t>
                      </a: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Centu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he 18</a:t>
                      </a:r>
                      <a:r>
                        <a:rPr b="1" i="1" lang="en-US" sz="2800" spc="-1" strike="noStrike" baseline="30000">
                          <a:solidFill>
                            <a:srgbClr val="990000"/>
                          </a:solidFill>
                          <a:latin typeface="Times New Roman"/>
                        </a:rPr>
                        <a:t>th</a:t>
                      </a: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Centu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he 19</a:t>
                      </a:r>
                      <a:r>
                        <a:rPr b="1" i="1" lang="en-US" sz="2800" spc="-1" strike="noStrike" baseline="30000">
                          <a:solidFill>
                            <a:srgbClr val="990000"/>
                          </a:solidFill>
                          <a:latin typeface="Times New Roman"/>
                        </a:rPr>
                        <a:t>th</a:t>
                      </a: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Centu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he 20</a:t>
                      </a:r>
                      <a:r>
                        <a:rPr b="1" i="1" lang="en-US" sz="2800" spc="-1" strike="noStrike" baseline="30000">
                          <a:solidFill>
                            <a:srgbClr val="990000"/>
                          </a:solidFill>
                          <a:latin typeface="Times New Roman"/>
                        </a:rPr>
                        <a:t>th</a:t>
                      </a: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Centu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3048120" y="914400"/>
            <a:ext cx="222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hakespeare , John Donne , John Milton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3240" y="2743200"/>
            <a:ext cx="26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lexander P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36576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ordsworth , George Byron , John Kea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480" y="548640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Robert Fr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8031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nnets , surprising images, absence of rhyme at the end of each 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36576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omantic poetry , nature poems , sonnets , long po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51055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dern poetry , close to us both in the language and im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25909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inest poetry in 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55360" y="380880"/>
            <a:ext cx="55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hoose the best answer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143000"/>
            <a:ext cx="8077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1. Modern English came into being from about the end of the ________ century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16th        B. 17th        C. 18th        D. 19th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2. The poetry of John Donne reminds Chinese readers of the poems by ___________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Du Fu      B. Li Bai    C. Su Dongpo  D. Guo Mor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3. Byron’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les of Greece (1824)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is an example of ______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a sonnet                    B. romantic poetr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nature poetry            D. modern po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4. Which group of poets did not come from the same countr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Li Bai , Wang Wei , and Su Dongp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William Wordsworth , Robert Frost and Shakespear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John Keats , John Donne , and John Milton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George Gordon Byron , Shakespeare and John Keat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2860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5562720"/>
            <a:ext cx="716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41148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3526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467480" y="533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228600"/>
            <a:ext cx="8153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5. Whose poems d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have rhyme at the end of each lin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Wang Wei’s               B. Shakespeare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Su Dongpo’s              D. John Milton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6. Which is the correct order of time about the follow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nglish poet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Shakespeare         Alexander Pope           John Don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John Donne          Alexander Pope            John Keat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William Wordsworth               George Gordon Byr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John Milt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John Milton                        Robert Frost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George Gordon By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7. The introduction of English poetry to China began _____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at the start of the 20th centu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in the late 193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at the end of the 19th centu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between 1910 and the 193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36232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36232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6668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26668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3048120"/>
            <a:ext cx="10666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352680"/>
            <a:ext cx="10670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3809880"/>
            <a:ext cx="1600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3809880"/>
            <a:ext cx="17528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2819520"/>
            <a:ext cx="7086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5715000"/>
            <a:ext cx="396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3716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7010280" y="54100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6324480" y="54100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10800"/>
                </a:moveTo>
                <a:lnTo>
                  <a:pt x="18730" y="3794"/>
                </a:lnTo>
                <a:lnTo>
                  <a:pt x="18730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38088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8. The wider public in China discovered English poetry at th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eginning of the ________ century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17th          B. 18th         C. 19th          D. 20th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9. The advantage of reading English poetry in Chines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ranslation is ______________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that you have more choic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that something of the spirit is l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that you understand it be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that you learn how to express yourself in new w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10. How is an English poem different from its Chin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ransl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It will become more difficult to underst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Some of the information in the original poem is mi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The Chinese translation will offer readers much l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hoice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Something of the spirit of the original poem will be los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152388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352680"/>
            <a:ext cx="396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6248520"/>
            <a:ext cx="7238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7162920" y="24382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10800"/>
                </a:moveTo>
                <a:lnTo>
                  <a:pt x="18730" y="3794"/>
                </a:lnTo>
                <a:lnTo>
                  <a:pt x="18730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79040" y="609480"/>
            <a:ext cx="66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Main Idea of Each Paragrap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4440" y="1676520"/>
            <a:ext cx="181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1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2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3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4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5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6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7 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880" y="18288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y we read poetr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236232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inese poets and poetry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28954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arly English poet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160" y="342900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19th century English poet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240" y="39625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dern English poet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7720" y="457200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introduction of English poetry to Chin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51055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y more people are interest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nglish poetr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70760" y="762120"/>
            <a:ext cx="63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do the words in bold refer to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0480" y="1676520"/>
            <a:ext cx="2716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a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i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y (Para 5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y (Para 7 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5640" y="1752480"/>
            <a:ext cx="60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etry plays with sounds, words and gramm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274320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history of English po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3760" y="3733920"/>
            <a:ext cx="46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dsworth’s , Byron’s and Keats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10960" y="46483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dern po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2480" y="57150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ems and lit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9:15:15Z</dcterms:created>
  <dc:creator>huanglan</dc:creator>
  <dc:description/>
  <dc:language>en-US</dc:language>
  <cp:lastModifiedBy>huanglan</cp:lastModifiedBy>
  <dcterms:modified xsi:type="dcterms:W3CDTF">2004-10-19T04:28:14Z</dcterms:modified>
  <cp:revision>18</cp:revision>
  <dc:subject/>
  <dc:title>PowerPoint 演示文稿</dc:title>
</cp:coreProperties>
</file>